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8EF-4E66-4619-A96B-64A51BF3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818-FFA3-4047-8276-4F9CC558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FED-6F43-4F73-BC38-498E11E7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5D8-4C98-4407-9682-1B585ED1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206A-CB4C-4179-977D-A564F15E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7408-5C5F-4FB7-95FD-FBCE67CF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A010-7D02-4883-8F9E-9AE8759D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6905-7C54-41FC-A530-65C5D41C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8373-45F9-46A4-A01C-206F880F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374F-78DC-4C2E-9B28-306AFC3B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3F77-A89E-47A6-BF94-20FE7C1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F50-9EC1-47DC-93C3-81B7070F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6677-94E9-40C2-858D-ECBDA41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81F2-4E59-4400-B4E2-1697CC2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7C7B-2CF7-4C9C-8D30-ED088393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A74D-05F2-4905-A14C-7A7A07AA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AC2D-2B9D-49AC-92DC-579B32F5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24E-F228-422D-86D9-4078A154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582-1B47-44E3-9235-61EA87FE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AFA-BE9F-44C7-ABD2-A166F29B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780-E8C2-43D2-A63E-ACBDF0AA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BC5-18B0-4758-B1DE-4303DC6C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6C6-D730-4E9A-AD35-419A3EF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121-7178-4BB7-91B9-843FF6A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A82-58B4-4114-905F-5CDADD2657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93B4-3D0F-46B8-B4B2-03BEA4BA8A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.nz/imgres?imgurl=http://www.driveandstayalive.com/images/police/policecar-nz_highwaypatrol_car2_doug-williamson.jpg&amp;imgrefurl=http://www.driveandstayalive.com/articles%2520and%2520topics/police%2520issues/police-patrol-vehicles.htm&amp;usg=__Gel806HReS14MuDG5SCMINaa7cc=&amp;h=415&amp;w=577&amp;sz=217&amp;hl=en&amp;start=8&amp;zoom=1&amp;tbnid=J-LTheLhpdOyVM:&amp;tbnh=96&amp;tbnw=134&amp;ei=wKFeTuvGHeOimQWqkYwE&amp;prev=/search%3Fq%3Dnz%2Bpolice%2Bcar%26hl%3Den%26safe%3Dstrict%26sa%3DN%26gbv%3D2%26tbm%3Disch&amp;itbs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.nz/imgres?imgurl=http://farm4.static.flickr.com/3551/3524397541_46dc74c3f2.jpg&amp;imgrefurl=http://www.flickr.com/photos/111emergency/3524397541/&amp;usg=__8QILmSp3EfZ6VKpQRc4KEmC1VPI=&amp;h=375&amp;w=500&amp;sz=108&amp;hl=en&amp;start=2&amp;zoom=1&amp;tbnid=GvJ5K9BTE7mhMM:&amp;tbnh=98&amp;tbnw=130&amp;ei=wKFeTuvGHeOimQWqkYwE&amp;prev=/search%3Fq%3Dnz%2Bpolice%2Bcar%26hl%3Den%26safe%3Dstrict%26sa%3DN%26gbv%3D2%26tbm%3Disch&amp;itbs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.nz/imgres?imgurl=http://www.driveandstayalive.com/images/police/policecar-nz_highwaypatrol_car2_doug-williamson.jpg&amp;imgrefurl=http://www.driveandstayalive.com/articles%2520and%2520topics/police%2520issues/police-patrol-vehicles.htm&amp;usg=__Gel806HReS14MuDG5SCMINaa7cc=&amp;h=415&amp;w=577&amp;sz=217&amp;hl=en&amp;start=8&amp;zoom=1&amp;tbnid=J-LTheLhpdOyVM:&amp;tbnh=96&amp;tbnw=134&amp;ei=wKFeTuvGHeOimQWqkYwE&amp;prev=/search%3Fq%3Dnz%2Bpolice%2Bcar%26hl%3Den%26safe%3Dstrict%26sa%3DN%26gbv%3D2%26tbm%3Disch&amp;itbs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.nz/imgres?imgurl=http://farm4.static.flickr.com/3551/3524397541_46dc74c3f2.jpg&amp;imgrefurl=http://www.flickr.com/photos/111emergency/3524397541/&amp;usg=__8QILmSp3EfZ6VKpQRc4KEmC1VPI=&amp;h=375&amp;w=500&amp;sz=108&amp;hl=en&amp;start=2&amp;zoom=1&amp;tbnid=GvJ5K9BTE7mhMM:&amp;tbnh=98&amp;tbnw=130&amp;ei=wKFeTuvGHeOimQWqkYwE&amp;prev=/search%3Fq%3Dnz%2Bpolice%2Bcar%26hl%3Den%26safe%3Dstrict%26sa%3DN%26gbv%3D2%26tbm%3Disch&amp;itbs=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co.nz/imgres?imgurl=http://www.germanshepherdrescue.co.uk/images/police-dog-Jake.jpg&amp;imgrefurl=http://www.germanshepherdrescue.co.uk/police-dog-jake.html&amp;usg=__QBCorCGP3mlAHvLlCM7jzqioS5M=&amp;h=658&amp;w=500&amp;sz=42&amp;hl=en&amp;start=6&amp;zoom=1&amp;tbnid=x10nur7DljPJFM:&amp;tbnh=138&amp;tbnw=105&amp;ei=dqJeTrfDHKzvmAXO1ZH_Dw&amp;prev=/search%3Fq%3Dpolice%2Bdog%26hl%3Den%26safe%3Dstrict%26sa%3DN%26gbv%3D2%26tbm%3Disch&amp;itbs=1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google.co.nz/imgres?imgurl=http://www.crankyeditor.com/wp-content/uploads/2011/04/police-dog.jpg&amp;imgrefurl=http://www.crankyeditor.com/2011/04/19/man-barks-at-police-dog-gets-a-misdemeanor/&amp;usg=__Ujpo0A-OF-lk1ng2fFR9cdSIkkE=&amp;h=337&amp;w=308&amp;sz=28&amp;hl=en&amp;start=2&amp;zoom=1&amp;tbnid=i2XFrRPspeP5xM:&amp;tbnh=119&amp;tbnw=109&amp;ei=dqJeTrfDHKzvmAXO1ZH_Dw&amp;prev=/search%3Fq%3Dpolice%2Bdog%26hl%3Den%26safe%3Dstrict%26sa%3DN%26gbv%3D2%26tbm%3Disch&amp;itbs=1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www.google.co.nz/imgres?imgurl=http://static2.stuff.co.nz/1233108507/436/787436.jpg&amp;imgrefurl=http://www.stuff.co.nz/national/787503/Shortage-of-canine-cops-worries-police&amp;usg=__fHcJ27dNv7NYBJsxWYremarMGJ0=&amp;h=360&amp;w=300&amp;sz=40&amp;hl=en&amp;start=17&amp;zoom=1&amp;tbnid=kfQ1OXRMjcVcRM:&amp;tbnh=121&amp;tbnw=101&amp;ei=dqJeTrfDHKzvmAXO1ZH_Dw&amp;prev=/search%3Fq%3Dpolice%2Bdog%26hl%3Den%26safe%3Dstrict%26sa%3DN%26gbv%3D2%26tbm%3Disch&amp;itbs=1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www.google.co.nz/imgres?imgurl=http://www.france24.com/en/files/imagecache/aef_ct_wire_image/images/afp/photo_1313564729741-1-0.jpg&amp;imgrefurl=http://www.france24.com/en/20110817-betrayed-nz-wife-smashes-car-wrong-property&amp;usg=__3To5eQbOL74c2nPF1chjAl5rqzY=&amp;h=164&amp;w=245&amp;sz=12&amp;hl=en&amp;start=21&amp;zoom=1&amp;tbnid=OAtKSCXcxguQlM:&amp;tbnh=74&amp;tbnw=110&amp;ei=_KJeTsaRGK3ymAXrmP0l&amp;prev=/search%3Fq%3Dnz%2Bpolice%2Bwomen%26hl%3Den%26safe%3Dstrict%26sa%3DN%26gbv%3D2%26tbm%3Disch&amp;itbs=1" TargetMode="External"/><Relationship Id="rId12" Type="http://schemas.openxmlformats.org/officeDocument/2006/relationships/image" Target="../media/image19.jpeg"/><Relationship Id="rId13" Type="http://schemas.openxmlformats.org/officeDocument/2006/relationships/hyperlink" Target="http://www.google.co.nz/imgres?imgurl=http://greeleygov.com/Police/WebImages/dispatcher.jpg&amp;imgrefurl=http://greeleygov.com/HR/emergencydispatcher.aspx&amp;usg=__hwZokbdKfE7e2Gtaw-oPamhE-_M=&amp;h=269&amp;w=358&amp;sz=57&amp;hl=en&amp;start=2&amp;zoom=1&amp;tbnid=-me0p14DFm8HrM:&amp;tbnh=91&amp;tbnw=121&amp;ei=eaNeTr2PIeehmQW97fkG&amp;prev=/search%3Fq%3Ddispatcher%26hl%3Den%26safe%3Dstrict%26sa%3DN%26gbv%3D2%26tbm%3Disch&amp;itbs=1" TargetMode="External"/><Relationship Id="rId14" Type="http://schemas.openxmlformats.org/officeDocument/2006/relationships/image" Target="../media/image20.jpeg"/><Relationship Id="rId15" Type="http://schemas.openxmlformats.org/officeDocument/2006/relationships/hyperlink" Target="http://www.google.co.nz/imgres?imgurl=http://www.nashville.gov/ecc/images/ops02-PD-dispatcher.jpg&amp;imgrefurl=http://www.nashville.gov/ecc/operations.asp&amp;usg=__gTcVN8gkts0I1dNwtNKaqWdOR1E=&amp;h=336&amp;w=500&amp;sz=45&amp;hl=en&amp;start=3&amp;zoom=1&amp;tbnid=JNP9elsW0kVR-M:&amp;tbnh=87&amp;tbnw=130&amp;ei=eaNeTr2PIeehmQW97fkG&amp;prev=/search%3Fq%3Ddispatcher%26hl%3Den%26safe%3Dstrict%26sa%3DN%26gbv%3D2%26tbm%3Disch&amp;itbs=1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www.google.co.nz/imgres?imgurl=http://www.monroecountyms.org/e911_tonya_howell_dispatcher.jpg&amp;imgrefurl=http://www.monroecountyms.org/e911_%26_ema.htm&amp;usg=__68B6qj4cb5DF0G27PlRhgFxRs2Q=&amp;h=322&amp;w=447&amp;sz=22&amp;hl=en&amp;start=16&amp;zoom=1&amp;tbnid=iOGD6_bPqGpUrM:&amp;tbnh=91&amp;tbnw=127&amp;ei=eaNeTr2PIeehmQW97fkG&amp;prev=/search%3Fq%3Ddispatcher%26hl%3Den%26safe%3Dstrict%26sa%3DN%26gbv%3D2%26tbm%3Disch&amp;itbs=1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www.google.co.nz/imgres?imgurl=http://www.armchairempire.com/images/action-figures/air-force-k9-handler.jpg&amp;imgrefurl=http://www.armchairempire.com/action-figures/air-force-k9-dog-handler.htm&amp;usg=__AmfWvVn8nuWrgnVgG7aeb1C5Qt0=&amp;h=267&amp;w=375&amp;sz=21&amp;hl=en&amp;start=3&amp;zoom=1&amp;tbnid=vdN441vGpOA7FM:&amp;tbnh=87&amp;tbnw=122&amp;ei=56NeTvnPJs3MmAXh0e0V&amp;prev=/search%3Fq%3Ddog%2Bhandler%26hl%3Den%26safe%3Dstrict%26sa%3DN%26gbv%3D2%26tbm%3Disch&amp;itbs=1" TargetMode="External"/><Relationship Id="rId20" Type="http://schemas.openxmlformats.org/officeDocument/2006/relationships/image" Target="../media/image23.jpeg"/><Relationship Id="rId21" Type="http://schemas.openxmlformats.org/officeDocument/2006/relationships/hyperlink" Target="http://www.google.co.nz/imgres?imgurl=http://www.odt.co.nz/files/story/2011/04/retiring_police_dog_handler_sergeant_trevor_bolt_w_4d944eef92.JPG&amp;imgrefurl=http://www.odt.co.nz/news/dunedin/154236/retiring-dog-handler-farewelled-minister&amp;usg=__GNPxD2bvSzZB-M54-G42ni9gevA=&amp;h=600&amp;w=590&amp;sz=45&amp;hl=en&amp;start=10&amp;zoom=1&amp;tbnid=JDzrdii56jsMyM:&amp;tbnh=135&amp;tbnw=133&amp;ei=56NeTvnPJs3MmAXh0e0V&amp;prev=/search%3Fq%3Ddog%2Bhandler%26hl%3Den%26safe%3Dstrict%26sa%3DN%26gbv%3D2%26tbm%3Disch&amp;itbs=1" TargetMode="External"/><Relationship Id="rId22" Type="http://schemas.openxmlformats.org/officeDocument/2006/relationships/image" Target="../media/image24.jpeg"/><Relationship Id="rId23" Type="http://schemas.openxmlformats.org/officeDocument/2006/relationships/hyperlink" Target="http://www.google.co.nz/imgres?imgurl=http://www.nzddsk9.co.nz/media/sitephoto/IMG_0083%2520-%2520Copy%25202.JPG&amp;imgrefurl=http://www.nzddsk9.co.nz/mainmenu157/page119/NZDDS%2BPeople%2BDrug%2BDog%2BHandlers%2B.html&amp;usg=__BiIV1PkIu1kIRKW3U4JKEMgfOgM=&amp;h=284&amp;w=456&amp;sz=68&amp;hl=en&amp;start=20&amp;zoom=1&amp;tbnid=gSXPKQur2fedUM:&amp;tbnh=80&amp;tbnw=128&amp;ei=56NeTvnPJs3MmAXh0e0V&amp;prev=/search%3Fq%3Ddog%2Bhandler%26hl%3Den%26safe%3Dstrict%26sa%3DN%26gbv%3D2%26tbm%3Disch&amp;itbs=1" TargetMode="External"/><Relationship Id="rId24" Type="http://schemas.openxmlformats.org/officeDocument/2006/relationships/image" Target="../media/image25.jpeg"/><Relationship Id="rId25" Type="http://schemas.openxmlformats.org/officeDocument/2006/relationships/hyperlink" Target="http://www.google.co.nz/imgres?imgurl=http://www.taimionline.com/wp-content/uploads/2011/03/Police-guarding-jury-chambers-as-jury-deliberate-at-Supreme-Court-complex-Nukualofa.jpg&amp;imgrefurl=http://www.taimionline.com/articles/3114/police-guarding-jury-chambers-as-jury-deliberate-at-supreme-court-complex-nukualofa&amp;usg=__-C2qV1gjg1zH3mZPqIK8_T4fyyY=&amp;h=193&amp;w=200&amp;sz=52&amp;hl=en&amp;start=12&amp;zoom=1&amp;tbnid=gs8pgKOxgJOJbM:&amp;tbnh=100&amp;tbnw=104&amp;ei=iqReTrmnDc_JmAXI0uUs&amp;prev=/search%3Fq%3Dpolice%2Bguarding%26hl%3Den%26safe%3Dstrict%26sa%3DN%26gbv%3D2%26tbm%3Disch&amp;itbs=1" TargetMode="External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jpeg"/><Relationship Id="rId29" Type="http://schemas.openxmlformats.org/officeDocument/2006/relationships/image" Target="../media/image28.jpeg"/><Relationship Id="rId3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Police are people keeping the community safe, and helping famili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067280" y="256536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0" y="619128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734240" y="619128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734240" y="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04360" y="1652400"/>
            <a:ext cx="4030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ffff"/>
                </a:solidFill>
                <a:latin typeface="Verdana"/>
              </a:rPr>
              <a:t>Police need to know how to do signals to traffic, and  need to know what to ask people who saw the accid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-11008" t="0" r="-11008" b="0"/>
          <a:stretch/>
        </p:blipFill>
        <p:spPr>
          <a:xfrm>
            <a:off x="4716360" y="1413000"/>
            <a:ext cx="4211640" cy="2300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38680" y="1071720"/>
            <a:ext cx="4103640" cy="3000240"/>
          </a:xfrm>
          <a:custGeom>
            <a:avLst/>
            <a:gdLst/>
            <a:ahLst/>
            <a:rect l="l" t="t" r="r" b="b"/>
            <a:pathLst>
              <a:path w="11400" h="8335">
                <a:moveTo>
                  <a:pt x="13384" y="4498"/>
                </a:moveTo>
                <a:cubicBezTo>
                  <a:pt x="13392" y="4610"/>
                  <a:pt x="13398" y="4718"/>
                  <a:pt x="13406" y="4829"/>
                </a:cubicBezTo>
                <a:cubicBezTo>
                  <a:pt x="13417" y="4987"/>
                  <a:pt x="13455" y="5137"/>
                  <a:pt x="13472" y="5292"/>
                </a:cubicBezTo>
                <a:cubicBezTo>
                  <a:pt x="13483" y="5396"/>
                  <a:pt x="13486" y="5495"/>
                  <a:pt x="13494" y="5600"/>
                </a:cubicBezTo>
                <a:cubicBezTo>
                  <a:pt x="13507" y="5767"/>
                  <a:pt x="13513" y="5943"/>
                  <a:pt x="13538" y="6107"/>
                </a:cubicBezTo>
                <a:cubicBezTo>
                  <a:pt x="13556" y="6224"/>
                  <a:pt x="13595" y="6345"/>
                  <a:pt x="13604" y="6460"/>
                </a:cubicBezTo>
                <a:cubicBezTo>
                  <a:pt x="13636" y="6890"/>
                  <a:pt x="13627" y="7312"/>
                  <a:pt x="13692" y="7739"/>
                </a:cubicBezTo>
                <a:cubicBezTo>
                  <a:pt x="13727" y="7966"/>
                  <a:pt x="13753" y="8172"/>
                  <a:pt x="13758" y="8401"/>
                </a:cubicBezTo>
                <a:cubicBezTo>
                  <a:pt x="13779" y="9289"/>
                  <a:pt x="13758" y="10180"/>
                  <a:pt x="13758" y="11068"/>
                </a:cubicBezTo>
                <a:cubicBezTo>
                  <a:pt x="13975" y="11061"/>
                  <a:pt x="14187" y="11032"/>
                  <a:pt x="14398" y="11024"/>
                </a:cubicBezTo>
                <a:cubicBezTo>
                  <a:pt x="15720" y="10972"/>
                  <a:pt x="17058" y="11032"/>
                  <a:pt x="18366" y="11090"/>
                </a:cubicBezTo>
                <a:cubicBezTo>
                  <a:pt x="18851" y="11111"/>
                  <a:pt x="19340" y="11122"/>
                  <a:pt x="19822" y="11135"/>
                </a:cubicBezTo>
                <a:cubicBezTo>
                  <a:pt x="20376" y="11150"/>
                  <a:pt x="20927" y="11117"/>
                  <a:pt x="21475" y="11157"/>
                </a:cubicBezTo>
                <a:cubicBezTo>
                  <a:pt x="21650" y="11170"/>
                  <a:pt x="21830" y="11183"/>
                  <a:pt x="22005" y="11201"/>
                </a:cubicBezTo>
                <a:cubicBezTo>
                  <a:pt x="22134" y="11214"/>
                  <a:pt x="22251" y="11234"/>
                  <a:pt x="22379" y="11245"/>
                </a:cubicBezTo>
                <a:cubicBezTo>
                  <a:pt x="22549" y="11260"/>
                  <a:pt x="22716" y="11263"/>
                  <a:pt x="22886" y="11267"/>
                </a:cubicBezTo>
                <a:cubicBezTo>
                  <a:pt x="23321" y="11277"/>
                  <a:pt x="23752" y="11306"/>
                  <a:pt x="24187" y="11311"/>
                </a:cubicBezTo>
                <a:cubicBezTo>
                  <a:pt x="24217" y="11311"/>
                  <a:pt x="24246" y="11311"/>
                  <a:pt x="24276" y="11311"/>
                </a:cubicBezTo>
                <a:cubicBezTo>
                  <a:pt x="24276" y="10368"/>
                  <a:pt x="24358" y="9443"/>
                  <a:pt x="24364" y="8511"/>
                </a:cubicBezTo>
                <a:cubicBezTo>
                  <a:pt x="24371" y="7418"/>
                  <a:pt x="24325" y="6310"/>
                  <a:pt x="24408" y="5226"/>
                </a:cubicBezTo>
                <a:cubicBezTo>
                  <a:pt x="24417" y="5107"/>
                  <a:pt x="24418" y="4991"/>
                  <a:pt x="24430" y="4873"/>
                </a:cubicBezTo>
                <a:cubicBezTo>
                  <a:pt x="24449" y="4689"/>
                  <a:pt x="24478" y="4507"/>
                  <a:pt x="24496" y="4322"/>
                </a:cubicBezTo>
                <a:cubicBezTo>
                  <a:pt x="24504" y="4240"/>
                  <a:pt x="24513" y="4158"/>
                  <a:pt x="24518" y="4079"/>
                </a:cubicBezTo>
                <a:cubicBezTo>
                  <a:pt x="24537" y="3747"/>
                  <a:pt x="24539" y="3417"/>
                  <a:pt x="24562" y="3087"/>
                </a:cubicBezTo>
                <a:cubicBezTo>
                  <a:pt x="24565" y="3051"/>
                  <a:pt x="24560" y="3013"/>
                  <a:pt x="24562" y="2977"/>
                </a:cubicBezTo>
                <a:cubicBezTo>
                  <a:pt x="24525" y="2984"/>
                  <a:pt x="24494" y="2990"/>
                  <a:pt x="24452" y="2999"/>
                </a:cubicBezTo>
                <a:cubicBezTo>
                  <a:pt x="24333" y="3024"/>
                  <a:pt x="24211" y="3049"/>
                  <a:pt x="24099" y="3065"/>
                </a:cubicBezTo>
                <a:cubicBezTo>
                  <a:pt x="23869" y="3098"/>
                  <a:pt x="23630" y="3139"/>
                  <a:pt x="23394" y="3175"/>
                </a:cubicBezTo>
                <a:cubicBezTo>
                  <a:pt x="23288" y="3191"/>
                  <a:pt x="23190" y="3212"/>
                  <a:pt x="23085" y="3219"/>
                </a:cubicBezTo>
                <a:cubicBezTo>
                  <a:pt x="22298" y="3274"/>
                  <a:pt x="21492" y="3216"/>
                  <a:pt x="20704" y="3241"/>
                </a:cubicBezTo>
                <a:cubicBezTo>
                  <a:pt x="20504" y="3247"/>
                  <a:pt x="20307" y="3245"/>
                  <a:pt x="20108" y="3263"/>
                </a:cubicBezTo>
                <a:cubicBezTo>
                  <a:pt x="19903" y="3282"/>
                  <a:pt x="19694" y="3322"/>
                  <a:pt x="19491" y="3329"/>
                </a:cubicBezTo>
                <a:cubicBezTo>
                  <a:pt x="18526" y="3363"/>
                  <a:pt x="17566" y="3319"/>
                  <a:pt x="16603" y="3351"/>
                </a:cubicBezTo>
                <a:cubicBezTo>
                  <a:pt x="15988" y="3371"/>
                  <a:pt x="15388" y="3510"/>
                  <a:pt x="14773" y="3528"/>
                </a:cubicBezTo>
                <a:cubicBezTo>
                  <a:pt x="14237" y="3544"/>
                  <a:pt x="13699" y="3528"/>
                  <a:pt x="13163" y="3528"/>
                </a:cubicBezTo>
                <a:cubicBezTo>
                  <a:pt x="13182" y="3562"/>
                  <a:pt x="13258" y="3558"/>
                  <a:pt x="13273" y="3594"/>
                </a:cubicBezTo>
                <a:cubicBezTo>
                  <a:pt x="13338" y="3746"/>
                  <a:pt x="13317" y="3888"/>
                  <a:pt x="13361" y="4035"/>
                </a:cubicBezTo>
                <a:cubicBezTo>
                  <a:pt x="13384" y="4035"/>
                  <a:pt x="13391" y="4035"/>
                  <a:pt x="13384" y="4057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91360" y="952560"/>
            <a:ext cx="15840" cy="15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20020" y="2690"/>
                </a:moveTo>
                <a:cubicBezTo>
                  <a:pt x="19998" y="2668"/>
                  <a:pt x="19991" y="2661"/>
                  <a:pt x="19976" y="2646"/>
                </a:cubicBezTo>
              </a:path>
            </a:pathLst>
          </a:custGeom>
          <a:noFill/>
          <a:ln cap="sq" w="228600">
            <a:solidFill>
              <a:srgbClr val="00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62560" y="1031760"/>
            <a:ext cx="174600" cy="32040"/>
          </a:xfrm>
          <a:custGeom>
            <a:avLst/>
            <a:gdLst/>
            <a:ahLst/>
            <a:rect l="l" t="t" r="r" b="b"/>
            <a:pathLst>
              <a:path w="486" h="90">
                <a:moveTo>
                  <a:pt x="17881" y="2866"/>
                </a:moveTo>
                <a:cubicBezTo>
                  <a:pt x="17755" y="2866"/>
                  <a:pt x="17631" y="2859"/>
                  <a:pt x="17507" y="2888"/>
                </a:cubicBezTo>
                <a:cubicBezTo>
                  <a:pt x="17461" y="2899"/>
                  <a:pt x="17434" y="2939"/>
                  <a:pt x="17396" y="2955"/>
                </a:cubicBezTo>
              </a:path>
            </a:pathLst>
          </a:custGeom>
          <a:noFill/>
          <a:ln cap="sq" w="228600">
            <a:solidFill>
              <a:srgbClr val="00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2120" y="1500120"/>
            <a:ext cx="4469040" cy="3381480"/>
          </a:xfrm>
          <a:custGeom>
            <a:avLst/>
            <a:gdLst/>
            <a:ahLst/>
            <a:rect l="l" t="t" r="r" b="b"/>
            <a:pathLst>
              <a:path w="12415" h="9394">
                <a:moveTo>
                  <a:pt x="706" y="4211"/>
                </a:moveTo>
                <a:cubicBezTo>
                  <a:pt x="690" y="4298"/>
                  <a:pt x="652" y="4366"/>
                  <a:pt x="639" y="4476"/>
                </a:cubicBezTo>
                <a:cubicBezTo>
                  <a:pt x="599" y="4809"/>
                  <a:pt x="617" y="5153"/>
                  <a:pt x="617" y="5490"/>
                </a:cubicBezTo>
                <a:cubicBezTo>
                  <a:pt x="617" y="5768"/>
                  <a:pt x="549" y="6146"/>
                  <a:pt x="684" y="6394"/>
                </a:cubicBezTo>
                <a:cubicBezTo>
                  <a:pt x="819" y="6641"/>
                  <a:pt x="1018" y="6612"/>
                  <a:pt x="1279" y="6703"/>
                </a:cubicBezTo>
                <a:cubicBezTo>
                  <a:pt x="1406" y="6748"/>
                  <a:pt x="1612" y="6779"/>
                  <a:pt x="1698" y="6879"/>
                </a:cubicBezTo>
                <a:cubicBezTo>
                  <a:pt x="1749" y="6938"/>
                  <a:pt x="1784" y="7027"/>
                  <a:pt x="1808" y="7100"/>
                </a:cubicBezTo>
                <a:cubicBezTo>
                  <a:pt x="1866" y="7277"/>
                  <a:pt x="1779" y="7430"/>
                  <a:pt x="1720" y="7563"/>
                </a:cubicBezTo>
                <a:cubicBezTo>
                  <a:pt x="1652" y="7715"/>
                  <a:pt x="1499" y="7820"/>
                  <a:pt x="1433" y="7982"/>
                </a:cubicBezTo>
                <a:cubicBezTo>
                  <a:pt x="1397" y="8070"/>
                  <a:pt x="1402" y="8160"/>
                  <a:pt x="1367" y="8246"/>
                </a:cubicBezTo>
                <a:cubicBezTo>
                  <a:pt x="1331" y="8334"/>
                  <a:pt x="1286" y="8409"/>
                  <a:pt x="1257" y="8489"/>
                </a:cubicBezTo>
                <a:cubicBezTo>
                  <a:pt x="1143" y="8802"/>
                  <a:pt x="1073" y="9107"/>
                  <a:pt x="1036" y="9437"/>
                </a:cubicBezTo>
                <a:cubicBezTo>
                  <a:pt x="984" y="9900"/>
                  <a:pt x="932" y="10526"/>
                  <a:pt x="1058" y="10980"/>
                </a:cubicBezTo>
                <a:cubicBezTo>
                  <a:pt x="1122" y="11209"/>
                  <a:pt x="1249" y="11437"/>
                  <a:pt x="1367" y="11642"/>
                </a:cubicBezTo>
                <a:cubicBezTo>
                  <a:pt x="1435" y="11760"/>
                  <a:pt x="1529" y="11904"/>
                  <a:pt x="1632" y="11994"/>
                </a:cubicBezTo>
                <a:cubicBezTo>
                  <a:pt x="1752" y="12099"/>
                  <a:pt x="1949" y="12150"/>
                  <a:pt x="2095" y="12215"/>
                </a:cubicBezTo>
                <a:cubicBezTo>
                  <a:pt x="2291" y="12302"/>
                  <a:pt x="2458" y="12390"/>
                  <a:pt x="2646" y="12480"/>
                </a:cubicBezTo>
                <a:cubicBezTo>
                  <a:pt x="2900" y="12602"/>
                  <a:pt x="3179" y="12686"/>
                  <a:pt x="3418" y="12832"/>
                </a:cubicBezTo>
                <a:cubicBezTo>
                  <a:pt x="3608" y="12948"/>
                  <a:pt x="3749" y="13137"/>
                  <a:pt x="3925" y="13251"/>
                </a:cubicBezTo>
                <a:cubicBezTo>
                  <a:pt x="4089" y="13358"/>
                  <a:pt x="4327" y="13514"/>
                  <a:pt x="4520" y="13560"/>
                </a:cubicBezTo>
                <a:cubicBezTo>
                  <a:pt x="4849" y="13639"/>
                  <a:pt x="5263" y="13522"/>
                  <a:pt x="5534" y="13384"/>
                </a:cubicBezTo>
                <a:cubicBezTo>
                  <a:pt x="5667" y="13317"/>
                  <a:pt x="5784" y="13221"/>
                  <a:pt x="5909" y="13141"/>
                </a:cubicBezTo>
                <a:cubicBezTo>
                  <a:pt x="6108" y="13014"/>
                  <a:pt x="6318" y="12889"/>
                  <a:pt x="6504" y="12744"/>
                </a:cubicBezTo>
                <a:cubicBezTo>
                  <a:pt x="6653" y="12627"/>
                  <a:pt x="6801" y="12502"/>
                  <a:pt x="6945" y="12391"/>
                </a:cubicBezTo>
                <a:cubicBezTo>
                  <a:pt x="7042" y="12316"/>
                  <a:pt x="7130" y="12243"/>
                  <a:pt x="7232" y="12171"/>
                </a:cubicBezTo>
                <a:cubicBezTo>
                  <a:pt x="7658" y="11870"/>
                  <a:pt x="8094" y="11535"/>
                  <a:pt x="8555" y="11289"/>
                </a:cubicBezTo>
                <a:cubicBezTo>
                  <a:pt x="8723" y="11200"/>
                  <a:pt x="8903" y="11108"/>
                  <a:pt x="9084" y="11046"/>
                </a:cubicBezTo>
                <a:cubicBezTo>
                  <a:pt x="9145" y="11025"/>
                  <a:pt x="9245" y="10990"/>
                  <a:pt x="9305" y="10980"/>
                </a:cubicBezTo>
                <a:cubicBezTo>
                  <a:pt x="9697" y="10916"/>
                  <a:pt x="10101" y="10946"/>
                  <a:pt x="10495" y="10892"/>
                </a:cubicBezTo>
                <a:cubicBezTo>
                  <a:pt x="10574" y="10881"/>
                  <a:pt x="10662" y="10856"/>
                  <a:pt x="10738" y="10848"/>
                </a:cubicBezTo>
                <a:cubicBezTo>
                  <a:pt x="10874" y="10834"/>
                  <a:pt x="11021" y="10846"/>
                  <a:pt x="11157" y="10826"/>
                </a:cubicBezTo>
                <a:cubicBezTo>
                  <a:pt x="11428" y="10787"/>
                  <a:pt x="11671" y="10726"/>
                  <a:pt x="11928" y="10649"/>
                </a:cubicBezTo>
                <a:cubicBezTo>
                  <a:pt x="12032" y="10618"/>
                  <a:pt x="12177" y="10577"/>
                  <a:pt x="12281" y="10539"/>
                </a:cubicBezTo>
                <a:cubicBezTo>
                  <a:pt x="12347" y="10515"/>
                  <a:pt x="12420" y="10499"/>
                  <a:pt x="12480" y="10473"/>
                </a:cubicBezTo>
                <a:cubicBezTo>
                  <a:pt x="12532" y="10451"/>
                  <a:pt x="12581" y="10411"/>
                  <a:pt x="12634" y="10385"/>
                </a:cubicBezTo>
                <a:cubicBezTo>
                  <a:pt x="12712" y="10347"/>
                  <a:pt x="12798" y="10299"/>
                  <a:pt x="12876" y="10253"/>
                </a:cubicBezTo>
                <a:cubicBezTo>
                  <a:pt x="12929" y="10222"/>
                  <a:pt x="12980" y="10171"/>
                  <a:pt x="13031" y="10142"/>
                </a:cubicBezTo>
                <a:cubicBezTo>
                  <a:pt x="12944" y="9965"/>
                  <a:pt x="12867" y="9973"/>
                  <a:pt x="12832" y="9768"/>
                </a:cubicBezTo>
                <a:cubicBezTo>
                  <a:pt x="12801" y="9584"/>
                  <a:pt x="12900" y="9312"/>
                  <a:pt x="12854" y="9150"/>
                </a:cubicBezTo>
                <a:cubicBezTo>
                  <a:pt x="12830" y="9065"/>
                  <a:pt x="12818" y="9034"/>
                  <a:pt x="12766" y="8952"/>
                </a:cubicBezTo>
                <a:cubicBezTo>
                  <a:pt x="12667" y="8795"/>
                  <a:pt x="12457" y="8675"/>
                  <a:pt x="12325" y="8555"/>
                </a:cubicBezTo>
                <a:cubicBezTo>
                  <a:pt x="12275" y="8510"/>
                  <a:pt x="12191" y="8437"/>
                  <a:pt x="12149" y="8401"/>
                </a:cubicBezTo>
                <a:cubicBezTo>
                  <a:pt x="12129" y="8383"/>
                  <a:pt x="12096" y="8342"/>
                  <a:pt x="12061" y="8312"/>
                </a:cubicBezTo>
                <a:cubicBezTo>
                  <a:pt x="12006" y="8265"/>
                  <a:pt x="11916" y="8211"/>
                  <a:pt x="11884" y="8158"/>
                </a:cubicBezTo>
                <a:cubicBezTo>
                  <a:pt x="11861" y="8119"/>
                  <a:pt x="11817" y="8120"/>
                  <a:pt x="11796" y="8070"/>
                </a:cubicBezTo>
                <a:cubicBezTo>
                  <a:pt x="11684" y="7808"/>
                  <a:pt x="11755" y="7275"/>
                  <a:pt x="11818" y="7011"/>
                </a:cubicBezTo>
                <a:cubicBezTo>
                  <a:pt x="11838" y="6925"/>
                  <a:pt x="11867" y="6847"/>
                  <a:pt x="11906" y="6769"/>
                </a:cubicBezTo>
                <a:cubicBezTo>
                  <a:pt x="11944" y="6693"/>
                  <a:pt x="11986" y="6606"/>
                  <a:pt x="12039" y="6526"/>
                </a:cubicBezTo>
                <a:cubicBezTo>
                  <a:pt x="12089" y="6451"/>
                  <a:pt x="12176" y="6387"/>
                  <a:pt x="12215" y="6306"/>
                </a:cubicBezTo>
                <a:cubicBezTo>
                  <a:pt x="12289" y="6152"/>
                  <a:pt x="12309" y="6023"/>
                  <a:pt x="12369" y="5865"/>
                </a:cubicBezTo>
                <a:cubicBezTo>
                  <a:pt x="12412" y="5754"/>
                  <a:pt x="12483" y="5653"/>
                  <a:pt x="12502" y="5534"/>
                </a:cubicBezTo>
                <a:cubicBezTo>
                  <a:pt x="12538" y="5313"/>
                  <a:pt x="12522" y="5012"/>
                  <a:pt x="12457" y="4807"/>
                </a:cubicBezTo>
                <a:cubicBezTo>
                  <a:pt x="12433" y="4733"/>
                  <a:pt x="12366" y="4604"/>
                  <a:pt x="12325" y="4542"/>
                </a:cubicBezTo>
                <a:cubicBezTo>
                  <a:pt x="12285" y="4481"/>
                  <a:pt x="12268" y="4400"/>
                  <a:pt x="12215" y="4344"/>
                </a:cubicBezTo>
                <a:cubicBezTo>
                  <a:pt x="12148" y="4274"/>
                  <a:pt x="12088" y="4253"/>
                  <a:pt x="11994" y="4211"/>
                </a:cubicBezTo>
                <a:cubicBezTo>
                  <a:pt x="11922" y="4179"/>
                  <a:pt x="11850" y="4183"/>
                  <a:pt x="11774" y="4167"/>
                </a:cubicBezTo>
                <a:cubicBezTo>
                  <a:pt x="11399" y="4088"/>
                  <a:pt x="10951" y="4244"/>
                  <a:pt x="10583" y="4277"/>
                </a:cubicBezTo>
                <a:cubicBezTo>
                  <a:pt x="10197" y="4312"/>
                  <a:pt x="9804" y="4299"/>
                  <a:pt x="9415" y="4299"/>
                </a:cubicBezTo>
                <a:cubicBezTo>
                  <a:pt x="8903" y="4299"/>
                  <a:pt x="8430" y="4373"/>
                  <a:pt x="7937" y="4410"/>
                </a:cubicBezTo>
                <a:cubicBezTo>
                  <a:pt x="6942" y="4484"/>
                  <a:pt x="5926" y="4312"/>
                  <a:pt x="4939" y="4454"/>
                </a:cubicBezTo>
                <a:cubicBezTo>
                  <a:pt x="4544" y="4511"/>
                  <a:pt x="4160" y="4666"/>
                  <a:pt x="3770" y="4718"/>
                </a:cubicBezTo>
                <a:cubicBezTo>
                  <a:pt x="3636" y="4736"/>
                  <a:pt x="3494" y="4754"/>
                  <a:pt x="3351" y="4740"/>
                </a:cubicBezTo>
                <a:cubicBezTo>
                  <a:pt x="3177" y="4723"/>
                  <a:pt x="3019" y="4626"/>
                  <a:pt x="2844" y="4608"/>
                </a:cubicBezTo>
                <a:cubicBezTo>
                  <a:pt x="2218" y="4543"/>
                  <a:pt x="1527" y="4601"/>
                  <a:pt x="904" y="4630"/>
                </a:cubicBezTo>
              </a:path>
            </a:pathLst>
          </a:custGeom>
          <a:noFill/>
          <a:ln cap="sq" w="228600">
            <a:solidFill>
              <a:srgbClr val="00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3789360"/>
            <a:ext cx="888840" cy="2833560"/>
          </a:xfrm>
          <a:custGeom>
            <a:avLst/>
            <a:gdLst/>
            <a:ahLst/>
            <a:rect l="l" t="t" r="r" b="b"/>
            <a:pathLst>
              <a:path w="2471" h="7873">
                <a:moveTo>
                  <a:pt x="12965" y="18455"/>
                </a:moveTo>
                <a:cubicBezTo>
                  <a:pt x="12677" y="18357"/>
                  <a:pt x="12380" y="18256"/>
                  <a:pt x="12083" y="18168"/>
                </a:cubicBezTo>
                <a:cubicBezTo>
                  <a:pt x="11990" y="18140"/>
                  <a:pt x="11878" y="18115"/>
                  <a:pt x="11796" y="18080"/>
                </a:cubicBezTo>
                <a:cubicBezTo>
                  <a:pt x="11759" y="18064"/>
                  <a:pt x="11720" y="18032"/>
                  <a:pt x="11686" y="18014"/>
                </a:cubicBezTo>
                <a:cubicBezTo>
                  <a:pt x="11466" y="17894"/>
                  <a:pt x="11215" y="17733"/>
                  <a:pt x="11090" y="17507"/>
                </a:cubicBezTo>
                <a:cubicBezTo>
                  <a:pt x="11064" y="17459"/>
                  <a:pt x="11046" y="17365"/>
                  <a:pt x="11024" y="17308"/>
                </a:cubicBezTo>
                <a:cubicBezTo>
                  <a:pt x="11001" y="17248"/>
                  <a:pt x="10988" y="17177"/>
                  <a:pt x="10980" y="17110"/>
                </a:cubicBezTo>
                <a:cubicBezTo>
                  <a:pt x="10962" y="16963"/>
                  <a:pt x="10989" y="16775"/>
                  <a:pt x="11046" y="16647"/>
                </a:cubicBezTo>
                <a:cubicBezTo>
                  <a:pt x="11078" y="16576"/>
                  <a:pt x="11131" y="16513"/>
                  <a:pt x="11179" y="16448"/>
                </a:cubicBezTo>
                <a:cubicBezTo>
                  <a:pt x="11224" y="16388"/>
                  <a:pt x="11271" y="16363"/>
                  <a:pt x="11311" y="16316"/>
                </a:cubicBezTo>
                <a:cubicBezTo>
                  <a:pt x="11354" y="16266"/>
                  <a:pt x="11371" y="16232"/>
                  <a:pt x="11421" y="16184"/>
                </a:cubicBezTo>
                <a:cubicBezTo>
                  <a:pt x="11513" y="16096"/>
                  <a:pt x="11617" y="16017"/>
                  <a:pt x="11708" y="15941"/>
                </a:cubicBezTo>
                <a:cubicBezTo>
                  <a:pt x="11774" y="15885"/>
                  <a:pt x="11825" y="15823"/>
                  <a:pt x="11884" y="15765"/>
                </a:cubicBezTo>
                <a:cubicBezTo>
                  <a:pt x="11947" y="15703"/>
                  <a:pt x="11998" y="15651"/>
                  <a:pt x="12061" y="15588"/>
                </a:cubicBezTo>
                <a:cubicBezTo>
                  <a:pt x="12136" y="15513"/>
                  <a:pt x="12186" y="15444"/>
                  <a:pt x="12237" y="15368"/>
                </a:cubicBezTo>
                <a:cubicBezTo>
                  <a:pt x="12291" y="15288"/>
                  <a:pt x="12342" y="15215"/>
                  <a:pt x="12391" y="15125"/>
                </a:cubicBezTo>
                <a:cubicBezTo>
                  <a:pt x="12424" y="15064"/>
                  <a:pt x="12440" y="14983"/>
                  <a:pt x="12480" y="14927"/>
                </a:cubicBezTo>
                <a:cubicBezTo>
                  <a:pt x="12531" y="14856"/>
                  <a:pt x="12577" y="14828"/>
                  <a:pt x="12612" y="14751"/>
                </a:cubicBezTo>
                <a:cubicBezTo>
                  <a:pt x="12646" y="14675"/>
                  <a:pt x="12657" y="14636"/>
                  <a:pt x="12678" y="14552"/>
                </a:cubicBezTo>
                <a:cubicBezTo>
                  <a:pt x="12692" y="14495"/>
                  <a:pt x="12696" y="14433"/>
                  <a:pt x="12700" y="14376"/>
                </a:cubicBezTo>
                <a:cubicBezTo>
                  <a:pt x="12714" y="14195"/>
                  <a:pt x="12729" y="13954"/>
                  <a:pt x="12656" y="13802"/>
                </a:cubicBezTo>
                <a:cubicBezTo>
                  <a:pt x="12638" y="13764"/>
                  <a:pt x="12619" y="13707"/>
                  <a:pt x="12590" y="13670"/>
                </a:cubicBezTo>
                <a:cubicBezTo>
                  <a:pt x="12559" y="13630"/>
                  <a:pt x="12474" y="13547"/>
                  <a:pt x="12435" y="13516"/>
                </a:cubicBezTo>
                <a:cubicBezTo>
                  <a:pt x="12419" y="13503"/>
                  <a:pt x="12369" y="13482"/>
                  <a:pt x="12347" y="13472"/>
                </a:cubicBezTo>
                <a:cubicBezTo>
                  <a:pt x="12291" y="13445"/>
                  <a:pt x="12230" y="13446"/>
                  <a:pt x="12171" y="13428"/>
                </a:cubicBezTo>
                <a:cubicBezTo>
                  <a:pt x="12120" y="13412"/>
                  <a:pt x="12052" y="13401"/>
                  <a:pt x="11994" y="13384"/>
                </a:cubicBezTo>
                <a:cubicBezTo>
                  <a:pt x="11935" y="13367"/>
                  <a:pt x="11883" y="13340"/>
                  <a:pt x="11818" y="13317"/>
                </a:cubicBezTo>
                <a:cubicBezTo>
                  <a:pt x="11763" y="13297"/>
                  <a:pt x="11697" y="13277"/>
                  <a:pt x="11642" y="13251"/>
                </a:cubicBezTo>
                <a:cubicBezTo>
                  <a:pt x="11605" y="13234"/>
                  <a:pt x="11547" y="13224"/>
                  <a:pt x="11509" y="13207"/>
                </a:cubicBezTo>
                <a:cubicBezTo>
                  <a:pt x="11445" y="13178"/>
                  <a:pt x="11368" y="13114"/>
                  <a:pt x="11311" y="13075"/>
                </a:cubicBezTo>
                <a:cubicBezTo>
                  <a:pt x="11116" y="12941"/>
                  <a:pt x="10972" y="12772"/>
                  <a:pt x="10804" y="12612"/>
                </a:cubicBezTo>
                <a:cubicBezTo>
                  <a:pt x="10719" y="12531"/>
                  <a:pt x="10652" y="12487"/>
                  <a:pt x="10583" y="12391"/>
                </a:cubicBezTo>
                <a:cubicBezTo>
                  <a:pt x="10555" y="12352"/>
                  <a:pt x="10484" y="12268"/>
                  <a:pt x="10495" y="12215"/>
                </a:cubicBezTo>
                <a:cubicBezTo>
                  <a:pt x="10518" y="12106"/>
                  <a:pt x="10606" y="12133"/>
                  <a:pt x="10649" y="12061"/>
                </a:cubicBezTo>
                <a:cubicBezTo>
                  <a:pt x="10674" y="12019"/>
                  <a:pt x="10689" y="11968"/>
                  <a:pt x="10716" y="11928"/>
                </a:cubicBezTo>
                <a:cubicBezTo>
                  <a:pt x="10745" y="11885"/>
                  <a:pt x="10749" y="11859"/>
                  <a:pt x="10782" y="11818"/>
                </a:cubicBezTo>
                <a:cubicBezTo>
                  <a:pt x="10862" y="11717"/>
                  <a:pt x="10975" y="11678"/>
                  <a:pt x="11068" y="11598"/>
                </a:cubicBezTo>
                <a:cubicBezTo>
                  <a:pt x="11095" y="11575"/>
                  <a:pt x="11140" y="11518"/>
                  <a:pt x="11179" y="11487"/>
                </a:cubicBezTo>
                <a:cubicBezTo>
                  <a:pt x="11240" y="11439"/>
                  <a:pt x="11314" y="11400"/>
                  <a:pt x="11377" y="11355"/>
                </a:cubicBezTo>
                <a:cubicBezTo>
                  <a:pt x="11422" y="11323"/>
                  <a:pt x="11549" y="11270"/>
                  <a:pt x="11576" y="11223"/>
                </a:cubicBezTo>
                <a:cubicBezTo>
                  <a:pt x="11596" y="11189"/>
                  <a:pt x="11582" y="11147"/>
                  <a:pt x="11598" y="11112"/>
                </a:cubicBezTo>
                <a:cubicBezTo>
                  <a:pt x="11644" y="11012"/>
                  <a:pt x="11658" y="10890"/>
                  <a:pt x="11686" y="10782"/>
                </a:cubicBezTo>
                <a:cubicBezTo>
                  <a:pt x="11704" y="10712"/>
                  <a:pt x="11732" y="10650"/>
                  <a:pt x="11752" y="1058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87280" y="0"/>
            <a:ext cx="61088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lice need to do lots of training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S.R.B.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58920" y="0"/>
            <a:ext cx="6834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Verdana"/>
              </a:rPr>
              <a:t>S.R.B.A is a vest that goes around police. Police must wear it all the time. S.R.B.A is short for stab resistant body amour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809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248600" y="0"/>
            <a:ext cx="1895400" cy="80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6048360"/>
            <a:ext cx="1895400" cy="809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248600" y="6048360"/>
            <a:ext cx="1895400" cy="80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0" y="981000"/>
            <a:ext cx="1522440" cy="259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2960" y="1031760"/>
            <a:ext cx="7818480" cy="4762440"/>
          </a:xfrm>
          <a:custGeom>
            <a:avLst/>
            <a:gdLst/>
            <a:ahLst/>
            <a:rect l="l" t="t" r="r" b="b"/>
            <a:pathLst>
              <a:path w="21719" h="13230">
                <a:moveTo>
                  <a:pt x="1786" y="10341"/>
                </a:moveTo>
                <a:cubicBezTo>
                  <a:pt x="1957" y="10411"/>
                  <a:pt x="2143" y="10462"/>
                  <a:pt x="2315" y="10539"/>
                </a:cubicBezTo>
                <a:cubicBezTo>
                  <a:pt x="2508" y="10626"/>
                  <a:pt x="2703" y="10706"/>
                  <a:pt x="2888" y="10826"/>
                </a:cubicBezTo>
                <a:cubicBezTo>
                  <a:pt x="3152" y="10997"/>
                  <a:pt x="3392" y="11190"/>
                  <a:pt x="3594" y="11421"/>
                </a:cubicBezTo>
                <a:cubicBezTo>
                  <a:pt x="3934" y="11809"/>
                  <a:pt x="4125" y="12281"/>
                  <a:pt x="4344" y="12744"/>
                </a:cubicBezTo>
                <a:cubicBezTo>
                  <a:pt x="4558" y="13196"/>
                  <a:pt x="4743" y="13651"/>
                  <a:pt x="4983" y="14089"/>
                </a:cubicBezTo>
                <a:cubicBezTo>
                  <a:pt x="5099" y="14301"/>
                  <a:pt x="5231" y="14522"/>
                  <a:pt x="5358" y="14728"/>
                </a:cubicBezTo>
                <a:cubicBezTo>
                  <a:pt x="5474" y="14915"/>
                  <a:pt x="5553" y="15079"/>
                  <a:pt x="5689" y="15258"/>
                </a:cubicBezTo>
                <a:cubicBezTo>
                  <a:pt x="5948" y="15599"/>
                  <a:pt x="6271" y="15815"/>
                  <a:pt x="6681" y="15963"/>
                </a:cubicBezTo>
                <a:cubicBezTo>
                  <a:pt x="6809" y="16009"/>
                  <a:pt x="6999" y="16068"/>
                  <a:pt x="7144" y="16095"/>
                </a:cubicBezTo>
                <a:cubicBezTo>
                  <a:pt x="7815" y="16219"/>
                  <a:pt x="8605" y="15988"/>
                  <a:pt x="9260" y="15897"/>
                </a:cubicBezTo>
                <a:cubicBezTo>
                  <a:pt x="9955" y="15801"/>
                  <a:pt x="10637" y="15723"/>
                  <a:pt x="11333" y="15655"/>
                </a:cubicBezTo>
                <a:cubicBezTo>
                  <a:pt x="12375" y="15553"/>
                  <a:pt x="13419" y="15552"/>
                  <a:pt x="14464" y="15588"/>
                </a:cubicBezTo>
                <a:cubicBezTo>
                  <a:pt x="14776" y="15599"/>
                  <a:pt x="15080" y="15609"/>
                  <a:pt x="15390" y="15632"/>
                </a:cubicBezTo>
                <a:cubicBezTo>
                  <a:pt x="15801" y="15662"/>
                  <a:pt x="16119" y="15665"/>
                  <a:pt x="16514" y="15588"/>
                </a:cubicBezTo>
                <a:cubicBezTo>
                  <a:pt x="17153" y="15464"/>
                  <a:pt x="17873" y="15202"/>
                  <a:pt x="18366" y="14773"/>
                </a:cubicBezTo>
                <a:cubicBezTo>
                  <a:pt x="18741" y="14446"/>
                  <a:pt x="18834" y="13974"/>
                  <a:pt x="18940" y="13516"/>
                </a:cubicBezTo>
                <a:cubicBezTo>
                  <a:pt x="18989" y="13304"/>
                  <a:pt x="18967" y="13113"/>
                  <a:pt x="19050" y="12898"/>
                </a:cubicBezTo>
                <a:cubicBezTo>
                  <a:pt x="19156" y="12623"/>
                  <a:pt x="19221" y="12418"/>
                  <a:pt x="19491" y="12347"/>
                </a:cubicBezTo>
                <a:cubicBezTo>
                  <a:pt x="19781" y="12270"/>
                  <a:pt x="20337" y="12557"/>
                  <a:pt x="20593" y="12656"/>
                </a:cubicBezTo>
                <a:cubicBezTo>
                  <a:pt x="20873" y="12764"/>
                  <a:pt x="21124" y="12926"/>
                  <a:pt x="21409" y="12987"/>
                </a:cubicBezTo>
                <a:cubicBezTo>
                  <a:pt x="21657" y="13040"/>
                  <a:pt x="21985" y="13080"/>
                  <a:pt x="22225" y="12965"/>
                </a:cubicBezTo>
                <a:cubicBezTo>
                  <a:pt x="22406" y="12879"/>
                  <a:pt x="22464" y="12793"/>
                  <a:pt x="22600" y="12656"/>
                </a:cubicBezTo>
                <a:cubicBezTo>
                  <a:pt x="23078" y="12175"/>
                  <a:pt x="23564" y="11306"/>
                  <a:pt x="23504" y="10605"/>
                </a:cubicBezTo>
                <a:cubicBezTo>
                  <a:pt x="23480" y="10322"/>
                  <a:pt x="23391" y="10167"/>
                  <a:pt x="23305" y="9900"/>
                </a:cubicBezTo>
                <a:cubicBezTo>
                  <a:pt x="23239" y="9694"/>
                  <a:pt x="23164" y="9481"/>
                  <a:pt x="23085" y="9282"/>
                </a:cubicBezTo>
                <a:cubicBezTo>
                  <a:pt x="23028" y="9138"/>
                  <a:pt x="22996" y="8985"/>
                  <a:pt x="22931" y="8841"/>
                </a:cubicBezTo>
                <a:cubicBezTo>
                  <a:pt x="22864" y="8692"/>
                  <a:pt x="22780" y="8567"/>
                  <a:pt x="22710" y="8423"/>
                </a:cubicBezTo>
                <a:cubicBezTo>
                  <a:pt x="22619" y="8236"/>
                  <a:pt x="22512" y="8057"/>
                  <a:pt x="22423" y="7871"/>
                </a:cubicBezTo>
                <a:cubicBezTo>
                  <a:pt x="22340" y="7698"/>
                  <a:pt x="22258" y="7518"/>
                  <a:pt x="22181" y="7342"/>
                </a:cubicBezTo>
                <a:cubicBezTo>
                  <a:pt x="21834" y="6545"/>
                  <a:pt x="21547" y="5716"/>
                  <a:pt x="21277" y="4895"/>
                </a:cubicBezTo>
                <a:cubicBezTo>
                  <a:pt x="21168" y="4564"/>
                  <a:pt x="21065" y="4228"/>
                  <a:pt x="20968" y="3903"/>
                </a:cubicBezTo>
                <a:cubicBezTo>
                  <a:pt x="20946" y="3831"/>
                  <a:pt x="20950" y="3749"/>
                  <a:pt x="20924" y="3682"/>
                </a:cubicBezTo>
                <a:cubicBezTo>
                  <a:pt x="20862" y="3519"/>
                  <a:pt x="20794" y="3307"/>
                  <a:pt x="20682" y="3175"/>
                </a:cubicBezTo>
                <a:cubicBezTo>
                  <a:pt x="20555" y="3025"/>
                  <a:pt x="20377" y="2991"/>
                  <a:pt x="20241" y="2866"/>
                </a:cubicBezTo>
              </a:path>
            </a:pathLst>
          </a:custGeom>
          <a:noFill/>
          <a:ln cap="sq" w="228600">
            <a:solidFill>
              <a:srgbClr val="8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11680" y="0"/>
            <a:ext cx="1428840" cy="952560"/>
          </a:xfrm>
          <a:custGeom>
            <a:avLst/>
            <a:gdLst/>
            <a:ahLst/>
            <a:rect l="l" t="t" r="r" b="b"/>
            <a:pathLst>
              <a:path w="3970" h="2647">
                <a:moveTo>
                  <a:pt x="19557" y="2646"/>
                </a:moveTo>
                <a:cubicBezTo>
                  <a:pt x="19515" y="2631"/>
                  <a:pt x="19473" y="2621"/>
                  <a:pt x="19425" y="2602"/>
                </a:cubicBezTo>
                <a:cubicBezTo>
                  <a:pt x="19365" y="2578"/>
                  <a:pt x="19295" y="2559"/>
                  <a:pt x="19226" y="2536"/>
                </a:cubicBezTo>
                <a:cubicBezTo>
                  <a:pt x="19158" y="2513"/>
                  <a:pt x="19094" y="2470"/>
                  <a:pt x="19028" y="2447"/>
                </a:cubicBezTo>
                <a:cubicBezTo>
                  <a:pt x="18909" y="2406"/>
                  <a:pt x="18795" y="2346"/>
                  <a:pt x="18675" y="2293"/>
                </a:cubicBezTo>
                <a:cubicBezTo>
                  <a:pt x="18415" y="2178"/>
                  <a:pt x="18163" y="2057"/>
                  <a:pt x="17903" y="1940"/>
                </a:cubicBezTo>
                <a:cubicBezTo>
                  <a:pt x="17541" y="1777"/>
                  <a:pt x="17191" y="1576"/>
                  <a:pt x="16867" y="1345"/>
                </a:cubicBezTo>
                <a:cubicBezTo>
                  <a:pt x="16603" y="1157"/>
                  <a:pt x="16389" y="981"/>
                  <a:pt x="16162" y="750"/>
                </a:cubicBezTo>
                <a:cubicBezTo>
                  <a:pt x="16030" y="616"/>
                  <a:pt x="15893" y="487"/>
                  <a:pt x="15765" y="353"/>
                </a:cubicBezTo>
                <a:cubicBezTo>
                  <a:pt x="15715" y="301"/>
                  <a:pt x="15692" y="284"/>
                  <a:pt x="15677" y="220"/>
                </a:cubicBezTo>
                <a:cubicBezTo>
                  <a:pt x="15636" y="47"/>
                  <a:pt x="15707" y="88"/>
                  <a:pt x="15588" y="0"/>
                </a:cubicBezTo>
              </a:path>
            </a:pathLst>
          </a:custGeom>
          <a:noFill/>
          <a:ln cap="sq" w="228600">
            <a:solidFill>
              <a:srgbClr val="8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581" y="347"/>
                </a:moveTo>
                <a:lnTo>
                  <a:pt x="5581" y="347"/>
                </a:ln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ice drive around in police cars, they also catch speeding peopl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92280"/>
            <a:ext cx="2870280" cy="2055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2492280"/>
            <a:ext cx="2881080" cy="2171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480960" y="241200"/>
            <a:ext cx="9312120" cy="5000760"/>
          </a:xfrm>
          <a:custGeom>
            <a:avLst/>
            <a:gdLst/>
            <a:ahLst/>
            <a:rect l="l" t="t" r="r" b="b"/>
            <a:pathLst>
              <a:path w="25872" h="13891">
                <a:moveTo>
                  <a:pt x="124" y="13072"/>
                </a:moveTo>
                <a:cubicBezTo>
                  <a:pt x="470" y="13093"/>
                  <a:pt x="815" y="13124"/>
                  <a:pt x="1166" y="13122"/>
                </a:cubicBezTo>
                <a:cubicBezTo>
                  <a:pt x="1939" y="13118"/>
                  <a:pt x="2781" y="13014"/>
                  <a:pt x="3547" y="12923"/>
                </a:cubicBezTo>
                <a:cubicBezTo>
                  <a:pt x="3843" y="12888"/>
                  <a:pt x="4116" y="12812"/>
                  <a:pt x="4415" y="12799"/>
                </a:cubicBezTo>
                <a:cubicBezTo>
                  <a:pt x="4716" y="12786"/>
                  <a:pt x="5593" y="12668"/>
                  <a:pt x="5804" y="12824"/>
                </a:cubicBezTo>
                <a:cubicBezTo>
                  <a:pt x="5859" y="12864"/>
                  <a:pt x="5851" y="12998"/>
                  <a:pt x="5904" y="13047"/>
                </a:cubicBezTo>
                <a:cubicBezTo>
                  <a:pt x="6071" y="13201"/>
                  <a:pt x="6129" y="13604"/>
                  <a:pt x="6350" y="13692"/>
                </a:cubicBezTo>
                <a:cubicBezTo>
                  <a:pt x="6912" y="13916"/>
                  <a:pt x="7756" y="13801"/>
                  <a:pt x="8384" y="13990"/>
                </a:cubicBezTo>
                <a:cubicBezTo>
                  <a:pt x="8555" y="14042"/>
                  <a:pt x="8892" y="14088"/>
                  <a:pt x="9029" y="14188"/>
                </a:cubicBezTo>
                <a:cubicBezTo>
                  <a:pt x="9100" y="14239"/>
                  <a:pt x="9099" y="14252"/>
                  <a:pt x="9178" y="14288"/>
                </a:cubicBezTo>
                <a:cubicBezTo>
                  <a:pt x="9275" y="14332"/>
                  <a:pt x="9125" y="14505"/>
                  <a:pt x="9227" y="14536"/>
                </a:cubicBezTo>
                <a:cubicBezTo>
                  <a:pt x="9371" y="14580"/>
                  <a:pt x="9542" y="14534"/>
                  <a:pt x="9699" y="14560"/>
                </a:cubicBezTo>
                <a:cubicBezTo>
                  <a:pt x="11160" y="14800"/>
                  <a:pt x="13286" y="14668"/>
                  <a:pt x="14684" y="14362"/>
                </a:cubicBezTo>
                <a:cubicBezTo>
                  <a:pt x="15041" y="14284"/>
                  <a:pt x="15230" y="14148"/>
                  <a:pt x="15553" y="13965"/>
                </a:cubicBezTo>
                <a:cubicBezTo>
                  <a:pt x="15650" y="13910"/>
                  <a:pt x="15693" y="13766"/>
                  <a:pt x="15776" y="13717"/>
                </a:cubicBezTo>
                <a:cubicBezTo>
                  <a:pt x="16051" y="13555"/>
                  <a:pt x="16301" y="13460"/>
                  <a:pt x="16570" y="13271"/>
                </a:cubicBezTo>
                <a:cubicBezTo>
                  <a:pt x="16996" y="12973"/>
                  <a:pt x="17802" y="12589"/>
                  <a:pt x="18058" y="12154"/>
                </a:cubicBezTo>
                <a:cubicBezTo>
                  <a:pt x="18097" y="12087"/>
                  <a:pt x="18023" y="12074"/>
                  <a:pt x="18058" y="12005"/>
                </a:cubicBezTo>
                <a:cubicBezTo>
                  <a:pt x="18094" y="11933"/>
                  <a:pt x="18072" y="11721"/>
                  <a:pt x="18083" y="11633"/>
                </a:cubicBezTo>
                <a:cubicBezTo>
                  <a:pt x="18181" y="10844"/>
                  <a:pt x="18436" y="8534"/>
                  <a:pt x="17983" y="7888"/>
                </a:cubicBezTo>
                <a:cubicBezTo>
                  <a:pt x="17953" y="7845"/>
                  <a:pt x="17838" y="7845"/>
                  <a:pt x="17785" y="7789"/>
                </a:cubicBezTo>
                <a:cubicBezTo>
                  <a:pt x="17672" y="7667"/>
                  <a:pt x="17396" y="7614"/>
                  <a:pt x="17264" y="7491"/>
                </a:cubicBezTo>
                <a:cubicBezTo>
                  <a:pt x="17200" y="7431"/>
                  <a:pt x="17166" y="7364"/>
                  <a:pt x="17115" y="7317"/>
                </a:cubicBezTo>
                <a:cubicBezTo>
                  <a:pt x="17115" y="7309"/>
                  <a:pt x="17115" y="7301"/>
                  <a:pt x="17115" y="7293"/>
                </a:cubicBezTo>
                <a:cubicBezTo>
                  <a:pt x="17207" y="7248"/>
                  <a:pt x="17394" y="7108"/>
                  <a:pt x="17537" y="7045"/>
                </a:cubicBezTo>
                <a:cubicBezTo>
                  <a:pt x="17760" y="6947"/>
                  <a:pt x="18000" y="6804"/>
                  <a:pt x="18231" y="6747"/>
                </a:cubicBezTo>
                <a:cubicBezTo>
                  <a:pt x="19007" y="6554"/>
                  <a:pt x="19833" y="6733"/>
                  <a:pt x="20613" y="6747"/>
                </a:cubicBezTo>
                <a:cubicBezTo>
                  <a:pt x="21324" y="6760"/>
                  <a:pt x="22529" y="6975"/>
                  <a:pt x="23168" y="6672"/>
                </a:cubicBezTo>
                <a:cubicBezTo>
                  <a:pt x="23401" y="6561"/>
                  <a:pt x="23505" y="6332"/>
                  <a:pt x="23614" y="6176"/>
                </a:cubicBezTo>
                <a:cubicBezTo>
                  <a:pt x="23716" y="6029"/>
                  <a:pt x="23549" y="5977"/>
                  <a:pt x="23614" y="5854"/>
                </a:cubicBezTo>
                <a:cubicBezTo>
                  <a:pt x="23705" y="5796"/>
                  <a:pt x="23677" y="5935"/>
                  <a:pt x="23763" y="5879"/>
                </a:cubicBezTo>
                <a:cubicBezTo>
                  <a:pt x="23853" y="5821"/>
                  <a:pt x="23974" y="5840"/>
                  <a:pt x="24061" y="5755"/>
                </a:cubicBezTo>
                <a:cubicBezTo>
                  <a:pt x="24189" y="5631"/>
                  <a:pt x="24345" y="5445"/>
                  <a:pt x="24408" y="5308"/>
                </a:cubicBezTo>
                <a:cubicBezTo>
                  <a:pt x="24447" y="5223"/>
                  <a:pt x="24432" y="5147"/>
                  <a:pt x="24457" y="5060"/>
                </a:cubicBezTo>
                <a:cubicBezTo>
                  <a:pt x="24638" y="4430"/>
                  <a:pt x="24600" y="3338"/>
                  <a:pt x="24532" y="2704"/>
                </a:cubicBezTo>
                <a:cubicBezTo>
                  <a:pt x="24518" y="2573"/>
                  <a:pt x="24589" y="2298"/>
                  <a:pt x="24507" y="2183"/>
                </a:cubicBezTo>
                <a:cubicBezTo>
                  <a:pt x="24460" y="2118"/>
                  <a:pt x="23975" y="1932"/>
                  <a:pt x="23862" y="1860"/>
                </a:cubicBezTo>
                <a:cubicBezTo>
                  <a:pt x="23782" y="1809"/>
                  <a:pt x="23719" y="1755"/>
                  <a:pt x="23639" y="1712"/>
                </a:cubicBezTo>
                <a:cubicBezTo>
                  <a:pt x="22690" y="1199"/>
                  <a:pt x="21700" y="1009"/>
                  <a:pt x="20638" y="967"/>
                </a:cubicBezTo>
                <a:cubicBezTo>
                  <a:pt x="20082" y="945"/>
                  <a:pt x="19524" y="991"/>
                  <a:pt x="18976" y="918"/>
                </a:cubicBezTo>
                <a:cubicBezTo>
                  <a:pt x="18619" y="870"/>
                  <a:pt x="18268" y="794"/>
                  <a:pt x="17909" y="744"/>
                </a:cubicBezTo>
                <a:cubicBezTo>
                  <a:pt x="17139" y="637"/>
                  <a:pt x="16351" y="637"/>
                  <a:pt x="15577" y="744"/>
                </a:cubicBezTo>
                <a:cubicBezTo>
                  <a:pt x="15025" y="821"/>
                  <a:pt x="14390" y="1191"/>
                  <a:pt x="13866" y="1191"/>
                </a:cubicBezTo>
                <a:cubicBezTo>
                  <a:pt x="13556" y="1191"/>
                  <a:pt x="13380" y="1087"/>
                  <a:pt x="13072" y="1042"/>
                </a:cubicBezTo>
                <a:cubicBezTo>
                  <a:pt x="12600" y="973"/>
                  <a:pt x="12090" y="984"/>
                  <a:pt x="11633" y="893"/>
                </a:cubicBezTo>
                <a:cubicBezTo>
                  <a:pt x="11517" y="870"/>
                  <a:pt x="11425" y="790"/>
                  <a:pt x="11311" y="769"/>
                </a:cubicBezTo>
                <a:cubicBezTo>
                  <a:pt x="11373" y="970"/>
                  <a:pt x="11374" y="1196"/>
                  <a:pt x="11460" y="1389"/>
                </a:cubicBezTo>
                <a:cubicBezTo>
                  <a:pt x="11518" y="1520"/>
                  <a:pt x="11643" y="1649"/>
                  <a:pt x="11708" y="1786"/>
                </a:cubicBezTo>
                <a:cubicBezTo>
                  <a:pt x="11708" y="1786"/>
                  <a:pt x="11726" y="1463"/>
                  <a:pt x="11559" y="1364"/>
                </a:cubicBezTo>
                <a:cubicBezTo>
                  <a:pt x="11377" y="1256"/>
                  <a:pt x="11371" y="1245"/>
                  <a:pt x="11112" y="1166"/>
                </a:cubicBezTo>
                <a:cubicBezTo>
                  <a:pt x="10221" y="895"/>
                  <a:pt x="9801" y="1375"/>
                  <a:pt x="9004" y="1513"/>
                </a:cubicBezTo>
                <a:cubicBezTo>
                  <a:pt x="8686" y="1568"/>
                  <a:pt x="8520" y="1496"/>
                  <a:pt x="8210" y="1439"/>
                </a:cubicBezTo>
                <a:cubicBezTo>
                  <a:pt x="8196" y="1436"/>
                  <a:pt x="8081" y="1398"/>
                  <a:pt x="8037" y="1389"/>
                </a:cubicBezTo>
                <a:cubicBezTo>
                  <a:pt x="7778" y="1336"/>
                  <a:pt x="7487" y="1256"/>
                  <a:pt x="7218" y="1191"/>
                </a:cubicBezTo>
                <a:cubicBezTo>
                  <a:pt x="6803" y="1090"/>
                  <a:pt x="6381" y="848"/>
                  <a:pt x="5978" y="769"/>
                </a:cubicBezTo>
                <a:cubicBezTo>
                  <a:pt x="5748" y="724"/>
                  <a:pt x="5495" y="735"/>
                  <a:pt x="5259" y="719"/>
                </a:cubicBezTo>
                <a:cubicBezTo>
                  <a:pt x="4924" y="696"/>
                  <a:pt x="4604" y="710"/>
                  <a:pt x="4291" y="794"/>
                </a:cubicBezTo>
                <a:cubicBezTo>
                  <a:pt x="3926" y="892"/>
                  <a:pt x="3666" y="1162"/>
                  <a:pt x="3324" y="1290"/>
                </a:cubicBezTo>
                <a:cubicBezTo>
                  <a:pt x="3031" y="1400"/>
                  <a:pt x="2738" y="1421"/>
                  <a:pt x="2431" y="1488"/>
                </a:cubicBezTo>
                <a:cubicBezTo>
                  <a:pt x="2157" y="1548"/>
                  <a:pt x="1722" y="1754"/>
                  <a:pt x="1513" y="1786"/>
                </a:cubicBezTo>
                <a:cubicBezTo>
                  <a:pt x="1434" y="1798"/>
                  <a:pt x="1491" y="1694"/>
                  <a:pt x="1414" y="1712"/>
                </a:cubicBezTo>
                <a:cubicBezTo>
                  <a:pt x="1316" y="1807"/>
                  <a:pt x="1180" y="1882"/>
                  <a:pt x="1091" y="1984"/>
                </a:cubicBezTo>
                <a:cubicBezTo>
                  <a:pt x="1004" y="2083"/>
                  <a:pt x="919" y="2150"/>
                  <a:pt x="843" y="2257"/>
                </a:cubicBezTo>
                <a:cubicBezTo>
                  <a:pt x="692" y="2470"/>
                  <a:pt x="611" y="2672"/>
                  <a:pt x="496" y="2902"/>
                </a:cubicBezTo>
                <a:cubicBezTo>
                  <a:pt x="448" y="2997"/>
                  <a:pt x="405" y="3112"/>
                  <a:pt x="372" y="3200"/>
                </a:cubicBezTo>
                <a:cubicBezTo>
                  <a:pt x="344" y="3274"/>
                  <a:pt x="325" y="3327"/>
                  <a:pt x="298" y="3398"/>
                </a:cubicBezTo>
                <a:cubicBezTo>
                  <a:pt x="231" y="3574"/>
                  <a:pt x="216" y="3715"/>
                  <a:pt x="149" y="3894"/>
                </a:cubicBezTo>
                <a:cubicBezTo>
                  <a:pt x="57" y="4140"/>
                  <a:pt x="-38" y="4389"/>
                  <a:pt x="-124" y="4638"/>
                </a:cubicBezTo>
                <a:cubicBezTo>
                  <a:pt x="-157" y="4734"/>
                  <a:pt x="-198" y="4824"/>
                  <a:pt x="-223" y="4911"/>
                </a:cubicBezTo>
                <a:cubicBezTo>
                  <a:pt x="-248" y="4999"/>
                  <a:pt x="-318" y="5165"/>
                  <a:pt x="-347" y="5283"/>
                </a:cubicBezTo>
                <a:cubicBezTo>
                  <a:pt x="-407" y="5527"/>
                  <a:pt x="-457" y="5892"/>
                  <a:pt x="-496" y="6102"/>
                </a:cubicBezTo>
                <a:cubicBezTo>
                  <a:pt x="-523" y="6248"/>
                  <a:pt x="-523" y="6395"/>
                  <a:pt x="-546" y="6548"/>
                </a:cubicBezTo>
                <a:cubicBezTo>
                  <a:pt x="-587" y="6814"/>
                  <a:pt x="-652" y="7078"/>
                  <a:pt x="-695" y="7342"/>
                </a:cubicBezTo>
                <a:cubicBezTo>
                  <a:pt x="-718" y="7485"/>
                  <a:pt x="-741" y="7625"/>
                  <a:pt x="-769" y="7764"/>
                </a:cubicBezTo>
                <a:cubicBezTo>
                  <a:pt x="-850" y="8166"/>
                  <a:pt x="-916" y="8573"/>
                  <a:pt x="-992" y="8979"/>
                </a:cubicBezTo>
                <a:cubicBezTo>
                  <a:pt x="-1086" y="9478"/>
                  <a:pt x="-1163" y="9969"/>
                  <a:pt x="-1240" y="10468"/>
                </a:cubicBezTo>
                <a:cubicBezTo>
                  <a:pt x="-1307" y="10906"/>
                  <a:pt x="-1495" y="11659"/>
                  <a:pt x="-1315" y="12105"/>
                </a:cubicBezTo>
                <a:cubicBezTo>
                  <a:pt x="-1218" y="12346"/>
                  <a:pt x="-1027" y="12535"/>
                  <a:pt x="-868" y="12750"/>
                </a:cubicBezTo>
                <a:cubicBezTo>
                  <a:pt x="-728" y="12940"/>
                  <a:pt x="-431" y="13397"/>
                  <a:pt x="-198" y="13469"/>
                </a:cubicBezTo>
                <a:cubicBezTo>
                  <a:pt x="223" y="13600"/>
                  <a:pt x="279" y="13243"/>
                  <a:pt x="521" y="13146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65640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and cuffs are things that hold offenders. So they don’t escape. They are hard as roc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 rot="915600">
            <a:off x="2626920" y="1413000"/>
            <a:ext cx="34178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Eras Light ITC"/>
              </a:rPr>
              <a:t>!Handcuff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Eras Light ITC"/>
              <a:ea typeface="Eras Ligh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Eras Light ITC"/>
              <a:ea typeface="Eras Light ITC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6124680" y="0"/>
            <a:ext cx="3019320" cy="1514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295280" y="3357720"/>
            <a:ext cx="588960" cy="1036440"/>
          </a:xfrm>
          <a:custGeom>
            <a:avLst/>
            <a:gdLst/>
            <a:ahLst/>
            <a:rect l="l" t="t" r="r" b="b"/>
            <a:pathLst>
              <a:path w="1638" h="2878">
                <a:moveTo>
                  <a:pt x="5234" y="9327"/>
                </a:moveTo>
                <a:cubicBezTo>
                  <a:pt x="5158" y="9358"/>
                  <a:pt x="4973" y="9377"/>
                  <a:pt x="4911" y="9426"/>
                </a:cubicBezTo>
                <a:cubicBezTo>
                  <a:pt x="4842" y="9480"/>
                  <a:pt x="4783" y="9529"/>
                  <a:pt x="4713" y="9599"/>
                </a:cubicBezTo>
                <a:cubicBezTo>
                  <a:pt x="4658" y="9654"/>
                  <a:pt x="4605" y="9682"/>
                  <a:pt x="4564" y="9748"/>
                </a:cubicBezTo>
                <a:cubicBezTo>
                  <a:pt x="4517" y="9823"/>
                  <a:pt x="4460" y="9872"/>
                  <a:pt x="4415" y="9947"/>
                </a:cubicBezTo>
                <a:cubicBezTo>
                  <a:pt x="4360" y="10039"/>
                  <a:pt x="4259" y="10137"/>
                  <a:pt x="4217" y="10244"/>
                </a:cubicBezTo>
                <a:cubicBezTo>
                  <a:pt x="4160" y="10391"/>
                  <a:pt x="4085" y="10520"/>
                  <a:pt x="4018" y="10666"/>
                </a:cubicBezTo>
                <a:cubicBezTo>
                  <a:pt x="3970" y="10770"/>
                  <a:pt x="3953" y="10879"/>
                  <a:pt x="3919" y="10988"/>
                </a:cubicBezTo>
                <a:cubicBezTo>
                  <a:pt x="3909" y="11021"/>
                  <a:pt x="3908" y="11076"/>
                  <a:pt x="3894" y="11112"/>
                </a:cubicBezTo>
                <a:cubicBezTo>
                  <a:pt x="3876" y="11159"/>
                  <a:pt x="3851" y="11183"/>
                  <a:pt x="3845" y="11237"/>
                </a:cubicBezTo>
                <a:cubicBezTo>
                  <a:pt x="3832" y="11348"/>
                  <a:pt x="3798" y="11402"/>
                  <a:pt x="3770" y="11509"/>
                </a:cubicBezTo>
                <a:cubicBezTo>
                  <a:pt x="3740" y="11625"/>
                  <a:pt x="3734" y="11771"/>
                  <a:pt x="3696" y="11881"/>
                </a:cubicBezTo>
                <a:cubicBezTo>
                  <a:pt x="3678" y="11934"/>
                  <a:pt x="3660" y="11979"/>
                  <a:pt x="3646" y="12030"/>
                </a:cubicBezTo>
                <a:cubicBezTo>
                  <a:pt x="3637" y="12062"/>
                  <a:pt x="3629" y="12091"/>
                  <a:pt x="3621" y="12129"/>
                </a:cubicBezTo>
                <a:cubicBezTo>
                  <a:pt x="3614" y="12159"/>
                  <a:pt x="3604" y="12174"/>
                  <a:pt x="3597" y="12204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3340080"/>
            <a:ext cx="6662880" cy="3143160"/>
          </a:xfrm>
          <a:custGeom>
            <a:avLst/>
            <a:gdLst/>
            <a:ahLst/>
            <a:rect l="l" t="t" r="r" b="b"/>
            <a:pathLst>
              <a:path w="18506" h="8732">
                <a:moveTo>
                  <a:pt x="6152" y="9550"/>
                </a:moveTo>
                <a:cubicBezTo>
                  <a:pt x="5955" y="9596"/>
                  <a:pt x="5782" y="9597"/>
                  <a:pt x="5581" y="9674"/>
                </a:cubicBezTo>
                <a:cubicBezTo>
                  <a:pt x="5360" y="9759"/>
                  <a:pt x="5196" y="9878"/>
                  <a:pt x="5011" y="9996"/>
                </a:cubicBezTo>
                <a:cubicBezTo>
                  <a:pt x="4895" y="10070"/>
                  <a:pt x="4821" y="10088"/>
                  <a:pt x="4713" y="10195"/>
                </a:cubicBezTo>
                <a:cubicBezTo>
                  <a:pt x="4356" y="10549"/>
                  <a:pt x="4110" y="11055"/>
                  <a:pt x="3894" y="11485"/>
                </a:cubicBezTo>
                <a:cubicBezTo>
                  <a:pt x="3833" y="11607"/>
                  <a:pt x="3770" y="11730"/>
                  <a:pt x="3721" y="11857"/>
                </a:cubicBezTo>
                <a:cubicBezTo>
                  <a:pt x="3681" y="11960"/>
                  <a:pt x="3622" y="12140"/>
                  <a:pt x="3597" y="12254"/>
                </a:cubicBezTo>
                <a:cubicBezTo>
                  <a:pt x="3547" y="12483"/>
                  <a:pt x="3514" y="12762"/>
                  <a:pt x="3497" y="12998"/>
                </a:cubicBezTo>
                <a:cubicBezTo>
                  <a:pt x="3452" y="13614"/>
                  <a:pt x="3444" y="14314"/>
                  <a:pt x="3572" y="14908"/>
                </a:cubicBezTo>
                <a:cubicBezTo>
                  <a:pt x="3626" y="15159"/>
                  <a:pt x="3705" y="15437"/>
                  <a:pt x="3795" y="15677"/>
                </a:cubicBezTo>
                <a:cubicBezTo>
                  <a:pt x="3872" y="15883"/>
                  <a:pt x="3998" y="16097"/>
                  <a:pt x="4118" y="16272"/>
                </a:cubicBezTo>
                <a:cubicBezTo>
                  <a:pt x="4197" y="16386"/>
                  <a:pt x="4271" y="16533"/>
                  <a:pt x="4415" y="16594"/>
                </a:cubicBezTo>
                <a:cubicBezTo>
                  <a:pt x="4653" y="16694"/>
                  <a:pt x="5189" y="16650"/>
                  <a:pt x="5432" y="16619"/>
                </a:cubicBezTo>
                <a:cubicBezTo>
                  <a:pt x="5717" y="16582"/>
                  <a:pt x="5979" y="16483"/>
                  <a:pt x="6251" y="16396"/>
                </a:cubicBezTo>
                <a:cubicBezTo>
                  <a:pt x="6515" y="16312"/>
                  <a:pt x="6759" y="16217"/>
                  <a:pt x="7020" y="16123"/>
                </a:cubicBezTo>
                <a:cubicBezTo>
                  <a:pt x="7449" y="15968"/>
                  <a:pt x="7896" y="15826"/>
                  <a:pt x="8334" y="15726"/>
                </a:cubicBezTo>
                <a:cubicBezTo>
                  <a:pt x="8419" y="15707"/>
                  <a:pt x="8485" y="15664"/>
                  <a:pt x="8582" y="15652"/>
                </a:cubicBezTo>
                <a:cubicBezTo>
                  <a:pt x="8886" y="15616"/>
                  <a:pt x="9468" y="15564"/>
                  <a:pt x="9723" y="15701"/>
                </a:cubicBezTo>
                <a:cubicBezTo>
                  <a:pt x="9846" y="15767"/>
                  <a:pt x="9837" y="15862"/>
                  <a:pt x="9922" y="15949"/>
                </a:cubicBezTo>
                <a:cubicBezTo>
                  <a:pt x="10001" y="16031"/>
                  <a:pt x="9988" y="16108"/>
                  <a:pt x="10071" y="16197"/>
                </a:cubicBezTo>
                <a:cubicBezTo>
                  <a:pt x="10188" y="16322"/>
                  <a:pt x="10280" y="16408"/>
                  <a:pt x="10418" y="16520"/>
                </a:cubicBezTo>
                <a:cubicBezTo>
                  <a:pt x="10752" y="16793"/>
                  <a:pt x="11185" y="16997"/>
                  <a:pt x="11559" y="17214"/>
                </a:cubicBezTo>
                <a:cubicBezTo>
                  <a:pt x="11671" y="17279"/>
                  <a:pt x="11946" y="17495"/>
                  <a:pt x="12080" y="17537"/>
                </a:cubicBezTo>
                <a:cubicBezTo>
                  <a:pt x="12343" y="17620"/>
                  <a:pt x="12690" y="17540"/>
                  <a:pt x="12973" y="17562"/>
                </a:cubicBezTo>
                <a:cubicBezTo>
                  <a:pt x="13360" y="17591"/>
                  <a:pt x="13660" y="17691"/>
                  <a:pt x="14039" y="17785"/>
                </a:cubicBezTo>
                <a:cubicBezTo>
                  <a:pt x="14228" y="17832"/>
                  <a:pt x="14373" y="17859"/>
                  <a:pt x="14560" y="17884"/>
                </a:cubicBezTo>
                <a:cubicBezTo>
                  <a:pt x="14817" y="17919"/>
                  <a:pt x="15124" y="17945"/>
                  <a:pt x="15379" y="17959"/>
                </a:cubicBezTo>
                <a:cubicBezTo>
                  <a:pt x="15660" y="17974"/>
                  <a:pt x="15949" y="17949"/>
                  <a:pt x="16222" y="17983"/>
                </a:cubicBezTo>
                <a:cubicBezTo>
                  <a:pt x="16206" y="17991"/>
                  <a:pt x="16189" y="18000"/>
                  <a:pt x="16173" y="18008"/>
                </a:cubicBezTo>
                <a:cubicBezTo>
                  <a:pt x="16246" y="17925"/>
                  <a:pt x="16500" y="17619"/>
                  <a:pt x="16619" y="17512"/>
                </a:cubicBezTo>
                <a:cubicBezTo>
                  <a:pt x="16752" y="17392"/>
                  <a:pt x="17033" y="17239"/>
                  <a:pt x="17140" y="17090"/>
                </a:cubicBezTo>
                <a:cubicBezTo>
                  <a:pt x="17311" y="16850"/>
                  <a:pt x="17549" y="16370"/>
                  <a:pt x="17686" y="16098"/>
                </a:cubicBezTo>
                <a:cubicBezTo>
                  <a:pt x="17911" y="15649"/>
                  <a:pt x="17967" y="15073"/>
                  <a:pt x="18256" y="14660"/>
                </a:cubicBezTo>
                <a:cubicBezTo>
                  <a:pt x="18357" y="14516"/>
                  <a:pt x="18392" y="14451"/>
                  <a:pt x="18529" y="14387"/>
                </a:cubicBezTo>
                <a:cubicBezTo>
                  <a:pt x="18741" y="14288"/>
                  <a:pt x="18959" y="14351"/>
                  <a:pt x="19174" y="14387"/>
                </a:cubicBezTo>
                <a:cubicBezTo>
                  <a:pt x="19558" y="14451"/>
                  <a:pt x="19926" y="14601"/>
                  <a:pt x="20315" y="14635"/>
                </a:cubicBezTo>
                <a:cubicBezTo>
                  <a:pt x="20729" y="14671"/>
                  <a:pt x="21191" y="14661"/>
                  <a:pt x="21580" y="14536"/>
                </a:cubicBezTo>
                <a:cubicBezTo>
                  <a:pt x="21699" y="14498"/>
                  <a:pt x="21889" y="14458"/>
                  <a:pt x="21952" y="14362"/>
                </a:cubicBezTo>
                <a:cubicBezTo>
                  <a:pt x="22005" y="14281"/>
                  <a:pt x="21969" y="14245"/>
                  <a:pt x="22002" y="14163"/>
                </a:cubicBezTo>
                <a:cubicBezTo>
                  <a:pt x="22241" y="13566"/>
                  <a:pt x="21955" y="12231"/>
                  <a:pt x="21679" y="11733"/>
                </a:cubicBezTo>
                <a:cubicBezTo>
                  <a:pt x="21628" y="11640"/>
                  <a:pt x="21543" y="11519"/>
                  <a:pt x="21481" y="11460"/>
                </a:cubicBezTo>
                <a:cubicBezTo>
                  <a:pt x="21439" y="11420"/>
                  <a:pt x="21361" y="11410"/>
                  <a:pt x="21332" y="11385"/>
                </a:cubicBezTo>
                <a:cubicBezTo>
                  <a:pt x="21251" y="11317"/>
                  <a:pt x="21184" y="11273"/>
                  <a:pt x="21084" y="11212"/>
                </a:cubicBezTo>
                <a:cubicBezTo>
                  <a:pt x="20852" y="11069"/>
                  <a:pt x="20593" y="11002"/>
                  <a:pt x="20365" y="10864"/>
                </a:cubicBezTo>
                <a:cubicBezTo>
                  <a:pt x="20274" y="10809"/>
                  <a:pt x="20162" y="10825"/>
                  <a:pt x="20092" y="10740"/>
                </a:cubicBezTo>
                <a:cubicBezTo>
                  <a:pt x="20039" y="10676"/>
                  <a:pt x="20041" y="10545"/>
                  <a:pt x="19993" y="10468"/>
                </a:cubicBezTo>
                <a:cubicBezTo>
                  <a:pt x="19976" y="10440"/>
                  <a:pt x="19987" y="10370"/>
                  <a:pt x="19968" y="10344"/>
                </a:cubicBezTo>
                <a:cubicBezTo>
                  <a:pt x="19952" y="10322"/>
                  <a:pt x="19930" y="10233"/>
                  <a:pt x="19893" y="10195"/>
                </a:cubicBezTo>
                <a:cubicBezTo>
                  <a:pt x="19862" y="10163"/>
                  <a:pt x="19820" y="10066"/>
                  <a:pt x="19794" y="10046"/>
                </a:cubicBezTo>
                <a:cubicBezTo>
                  <a:pt x="19688" y="9964"/>
                  <a:pt x="19499" y="9949"/>
                  <a:pt x="19372" y="9897"/>
                </a:cubicBezTo>
                <a:cubicBezTo>
                  <a:pt x="19022" y="9753"/>
                  <a:pt x="18651" y="9675"/>
                  <a:pt x="18306" y="9575"/>
                </a:cubicBezTo>
                <a:cubicBezTo>
                  <a:pt x="18057" y="9503"/>
                  <a:pt x="17839" y="9463"/>
                  <a:pt x="17587" y="9426"/>
                </a:cubicBezTo>
                <a:cubicBezTo>
                  <a:pt x="17326" y="9388"/>
                  <a:pt x="17031" y="9384"/>
                  <a:pt x="16768" y="9376"/>
                </a:cubicBezTo>
                <a:cubicBezTo>
                  <a:pt x="15852" y="9347"/>
                  <a:pt x="14930" y="9337"/>
                  <a:pt x="14015" y="9327"/>
                </a:cubicBezTo>
                <a:cubicBezTo>
                  <a:pt x="12100" y="9305"/>
                  <a:pt x="10169" y="9399"/>
                  <a:pt x="8260" y="9302"/>
                </a:cubicBezTo>
                <a:cubicBezTo>
                  <a:pt x="8134" y="9296"/>
                  <a:pt x="8035" y="9280"/>
                  <a:pt x="7913" y="9277"/>
                </a:cubicBezTo>
                <a:cubicBezTo>
                  <a:pt x="7579" y="9269"/>
                  <a:pt x="7224" y="9269"/>
                  <a:pt x="6921" y="9327"/>
                </a:cubicBezTo>
                <a:cubicBezTo>
                  <a:pt x="6865" y="9338"/>
                  <a:pt x="6800" y="9323"/>
                  <a:pt x="6747" y="9351"/>
                </a:cubicBezTo>
                <a:cubicBezTo>
                  <a:pt x="6700" y="9376"/>
                  <a:pt x="6619" y="9415"/>
                  <a:pt x="6598" y="9426"/>
                </a:cubicBezTo>
                <a:cubicBezTo>
                  <a:pt x="6507" y="9473"/>
                  <a:pt x="6532" y="9602"/>
                  <a:pt x="6449" y="9624"/>
                </a:cubicBezTo>
                <a:cubicBezTo>
                  <a:pt x="6348" y="9651"/>
                  <a:pt x="6184" y="9589"/>
                  <a:pt x="6127" y="959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7920" y="2081160"/>
            <a:ext cx="2535120" cy="812880"/>
          </a:xfrm>
          <a:custGeom>
            <a:avLst/>
            <a:gdLst/>
            <a:ahLst/>
            <a:rect l="l" t="t" r="r" b="b"/>
            <a:pathLst>
              <a:path w="7046" h="2259">
                <a:moveTo>
                  <a:pt x="-25" y="6747"/>
                </a:moveTo>
                <a:cubicBezTo>
                  <a:pt x="57" y="6848"/>
                  <a:pt x="101" y="6899"/>
                  <a:pt x="223" y="6995"/>
                </a:cubicBezTo>
                <a:cubicBezTo>
                  <a:pt x="367" y="7108"/>
                  <a:pt x="527" y="7217"/>
                  <a:pt x="695" y="7293"/>
                </a:cubicBezTo>
                <a:cubicBezTo>
                  <a:pt x="824" y="7351"/>
                  <a:pt x="948" y="7349"/>
                  <a:pt x="1091" y="7367"/>
                </a:cubicBezTo>
                <a:cubicBezTo>
                  <a:pt x="1420" y="7408"/>
                  <a:pt x="1722" y="7507"/>
                  <a:pt x="2034" y="7615"/>
                </a:cubicBezTo>
                <a:cubicBezTo>
                  <a:pt x="2283" y="7701"/>
                  <a:pt x="2500" y="7764"/>
                  <a:pt x="2753" y="7813"/>
                </a:cubicBezTo>
                <a:cubicBezTo>
                  <a:pt x="2964" y="7854"/>
                  <a:pt x="3145" y="7930"/>
                  <a:pt x="3349" y="7987"/>
                </a:cubicBezTo>
                <a:cubicBezTo>
                  <a:pt x="3593" y="8056"/>
                  <a:pt x="3889" y="8012"/>
                  <a:pt x="4142" y="8012"/>
                </a:cubicBezTo>
                <a:cubicBezTo>
                  <a:pt x="4262" y="8012"/>
                  <a:pt x="4372" y="8032"/>
                  <a:pt x="4490" y="8037"/>
                </a:cubicBezTo>
                <a:cubicBezTo>
                  <a:pt x="4888" y="8053"/>
                  <a:pt x="5182" y="7997"/>
                  <a:pt x="5556" y="7863"/>
                </a:cubicBezTo>
                <a:cubicBezTo>
                  <a:pt x="5716" y="7806"/>
                  <a:pt x="5875" y="7751"/>
                  <a:pt x="6028" y="7689"/>
                </a:cubicBezTo>
                <a:cubicBezTo>
                  <a:pt x="6075" y="7670"/>
                  <a:pt x="6160" y="7666"/>
                  <a:pt x="6201" y="7640"/>
                </a:cubicBezTo>
                <a:cubicBezTo>
                  <a:pt x="6265" y="7600"/>
                  <a:pt x="6330" y="7517"/>
                  <a:pt x="6400" y="7466"/>
                </a:cubicBezTo>
                <a:cubicBezTo>
                  <a:pt x="6476" y="7411"/>
                  <a:pt x="6584" y="7360"/>
                  <a:pt x="6648" y="7293"/>
                </a:cubicBezTo>
                <a:cubicBezTo>
                  <a:pt x="6724" y="7212"/>
                  <a:pt x="6782" y="7066"/>
                  <a:pt x="6846" y="6970"/>
                </a:cubicBezTo>
                <a:cubicBezTo>
                  <a:pt x="6871" y="6932"/>
                  <a:pt x="6905" y="6890"/>
                  <a:pt x="6921" y="6871"/>
                </a:cubicBezTo>
                <a:cubicBezTo>
                  <a:pt x="6969" y="6814"/>
                  <a:pt x="6957" y="6896"/>
                  <a:pt x="6995" y="6821"/>
                </a:cubicBezTo>
                <a:cubicBezTo>
                  <a:pt x="7043" y="6725"/>
                  <a:pt x="7020" y="6582"/>
                  <a:pt x="7020" y="6474"/>
                </a:cubicBezTo>
                <a:cubicBezTo>
                  <a:pt x="7020" y="6242"/>
                  <a:pt x="7020" y="6011"/>
                  <a:pt x="7020" y="577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73200" y="1795320"/>
            <a:ext cx="180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6871" y="5135"/>
                </a:moveTo>
                <a:cubicBezTo>
                  <a:pt x="6871" y="5085"/>
                  <a:pt x="6871" y="5036"/>
                  <a:pt x="6871" y="4986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-33480"/>
            <a:ext cx="428760" cy="1954440"/>
          </a:xfrm>
          <a:custGeom>
            <a:avLst/>
            <a:gdLst/>
            <a:ahLst/>
            <a:rect l="l" t="t" r="r" b="b"/>
            <a:pathLst>
              <a:path w="1191" h="5433">
                <a:moveTo>
                  <a:pt x="7020" y="5333"/>
                </a:moveTo>
                <a:cubicBezTo>
                  <a:pt x="6951" y="5323"/>
                  <a:pt x="6906" y="5332"/>
                  <a:pt x="6846" y="5308"/>
                </a:cubicBezTo>
                <a:cubicBezTo>
                  <a:pt x="6804" y="5291"/>
                  <a:pt x="6783" y="5239"/>
                  <a:pt x="6772" y="5209"/>
                </a:cubicBezTo>
                <a:cubicBezTo>
                  <a:pt x="6744" y="5134"/>
                  <a:pt x="6794" y="4997"/>
                  <a:pt x="6796" y="4961"/>
                </a:cubicBezTo>
                <a:cubicBezTo>
                  <a:pt x="6806" y="4762"/>
                  <a:pt x="6797" y="4586"/>
                  <a:pt x="6846" y="4390"/>
                </a:cubicBezTo>
                <a:cubicBezTo>
                  <a:pt x="6874" y="4278"/>
                  <a:pt x="6918" y="4178"/>
                  <a:pt x="6970" y="4068"/>
                </a:cubicBezTo>
                <a:cubicBezTo>
                  <a:pt x="6979" y="4049"/>
                  <a:pt x="7050" y="3892"/>
                  <a:pt x="7069" y="3870"/>
                </a:cubicBezTo>
                <a:cubicBezTo>
                  <a:pt x="7080" y="3858"/>
                  <a:pt x="7161" y="3776"/>
                  <a:pt x="7169" y="3770"/>
                </a:cubicBezTo>
                <a:cubicBezTo>
                  <a:pt x="7196" y="3748"/>
                  <a:pt x="7265" y="3726"/>
                  <a:pt x="7293" y="3696"/>
                </a:cubicBezTo>
                <a:cubicBezTo>
                  <a:pt x="7340" y="3646"/>
                  <a:pt x="7404" y="3557"/>
                  <a:pt x="7441" y="3497"/>
                </a:cubicBezTo>
                <a:cubicBezTo>
                  <a:pt x="7501" y="3399"/>
                  <a:pt x="7551" y="3296"/>
                  <a:pt x="7615" y="3200"/>
                </a:cubicBezTo>
                <a:cubicBezTo>
                  <a:pt x="7671" y="3115"/>
                  <a:pt x="7724" y="3050"/>
                  <a:pt x="7764" y="2952"/>
                </a:cubicBezTo>
                <a:cubicBezTo>
                  <a:pt x="7819" y="2817"/>
                  <a:pt x="7870" y="2670"/>
                  <a:pt x="7913" y="2530"/>
                </a:cubicBezTo>
                <a:cubicBezTo>
                  <a:pt x="7953" y="2400"/>
                  <a:pt x="7959" y="2243"/>
                  <a:pt x="7962" y="2108"/>
                </a:cubicBezTo>
                <a:cubicBezTo>
                  <a:pt x="7965" y="1960"/>
                  <a:pt x="8008" y="1649"/>
                  <a:pt x="7938" y="1513"/>
                </a:cubicBezTo>
                <a:cubicBezTo>
                  <a:pt x="7879" y="1399"/>
                  <a:pt x="7796" y="1375"/>
                  <a:pt x="7714" y="1290"/>
                </a:cubicBezTo>
                <a:cubicBezTo>
                  <a:pt x="7683" y="1258"/>
                  <a:pt x="7697" y="1258"/>
                  <a:pt x="7665" y="1215"/>
                </a:cubicBezTo>
                <a:cubicBezTo>
                  <a:pt x="7614" y="1146"/>
                  <a:pt x="7586" y="1061"/>
                  <a:pt x="7541" y="992"/>
                </a:cubicBezTo>
                <a:cubicBezTo>
                  <a:pt x="7494" y="920"/>
                  <a:pt x="7420" y="849"/>
                  <a:pt x="7367" y="769"/>
                </a:cubicBezTo>
                <a:cubicBezTo>
                  <a:pt x="7339" y="727"/>
                  <a:pt x="7322" y="685"/>
                  <a:pt x="7293" y="645"/>
                </a:cubicBezTo>
                <a:cubicBezTo>
                  <a:pt x="7206" y="523"/>
                  <a:pt x="7181" y="462"/>
                  <a:pt x="7144" y="322"/>
                </a:cubicBezTo>
                <a:cubicBezTo>
                  <a:pt x="7103" y="164"/>
                  <a:pt x="7094" y="90"/>
                  <a:pt x="7094" y="-74"/>
                </a:cubicBezTo>
                <a:cubicBezTo>
                  <a:pt x="7120" y="-54"/>
                  <a:pt x="7061" y="-26"/>
                  <a:pt x="7094" y="-25"/>
                </a:cubicBezTo>
                <a:cubicBezTo>
                  <a:pt x="7160" y="-23"/>
                  <a:pt x="7247" y="-23"/>
                  <a:pt x="7317" y="-25"/>
                </a:cubicBezTo>
                <a:cubicBezTo>
                  <a:pt x="7389" y="-27"/>
                  <a:pt x="7401" y="31"/>
                  <a:pt x="7466" y="0"/>
                </a:cubicBezTo>
                <a:cubicBezTo>
                  <a:pt x="7575" y="-51"/>
                  <a:pt x="7419" y="-1"/>
                  <a:pt x="7516" y="-25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115920"/>
            <a:ext cx="3419640" cy="2305080"/>
          </a:xfrm>
          <a:custGeom>
            <a:avLst/>
            <a:gdLst/>
            <a:ahLst/>
            <a:rect l="l" t="t" r="r" b="b"/>
            <a:pathLst>
              <a:path w="9501" h="6401">
                <a:moveTo>
                  <a:pt x="16247" y="322"/>
                </a:moveTo>
                <a:cubicBezTo>
                  <a:pt x="16241" y="605"/>
                  <a:pt x="16225" y="882"/>
                  <a:pt x="16222" y="1166"/>
                </a:cubicBezTo>
                <a:cubicBezTo>
                  <a:pt x="16219" y="1407"/>
                  <a:pt x="16188" y="1625"/>
                  <a:pt x="16148" y="1860"/>
                </a:cubicBezTo>
                <a:cubicBezTo>
                  <a:pt x="16127" y="1986"/>
                  <a:pt x="16118" y="2108"/>
                  <a:pt x="16098" y="2232"/>
                </a:cubicBezTo>
                <a:cubicBezTo>
                  <a:pt x="15996" y="2865"/>
                  <a:pt x="16028" y="3506"/>
                  <a:pt x="15949" y="4142"/>
                </a:cubicBezTo>
                <a:cubicBezTo>
                  <a:pt x="15929" y="4300"/>
                  <a:pt x="15907" y="4455"/>
                  <a:pt x="15900" y="4614"/>
                </a:cubicBezTo>
                <a:cubicBezTo>
                  <a:pt x="15893" y="4766"/>
                  <a:pt x="15869" y="4969"/>
                  <a:pt x="15925" y="5110"/>
                </a:cubicBezTo>
                <a:cubicBezTo>
                  <a:pt x="15959" y="5196"/>
                  <a:pt x="16041" y="5301"/>
                  <a:pt x="16098" y="5358"/>
                </a:cubicBezTo>
                <a:cubicBezTo>
                  <a:pt x="16160" y="5420"/>
                  <a:pt x="16190" y="5458"/>
                  <a:pt x="16272" y="5482"/>
                </a:cubicBezTo>
                <a:cubicBezTo>
                  <a:pt x="16369" y="5510"/>
                  <a:pt x="16476" y="5460"/>
                  <a:pt x="16570" y="5457"/>
                </a:cubicBezTo>
                <a:cubicBezTo>
                  <a:pt x="16692" y="5453"/>
                  <a:pt x="16871" y="5453"/>
                  <a:pt x="16991" y="5432"/>
                </a:cubicBezTo>
                <a:cubicBezTo>
                  <a:pt x="17152" y="5403"/>
                  <a:pt x="17267" y="5309"/>
                  <a:pt x="17413" y="5259"/>
                </a:cubicBezTo>
                <a:cubicBezTo>
                  <a:pt x="17528" y="5219"/>
                  <a:pt x="17677" y="5204"/>
                  <a:pt x="17785" y="5159"/>
                </a:cubicBezTo>
                <a:cubicBezTo>
                  <a:pt x="17816" y="5146"/>
                  <a:pt x="17904" y="5134"/>
                  <a:pt x="17934" y="5110"/>
                </a:cubicBezTo>
                <a:cubicBezTo>
                  <a:pt x="17968" y="5082"/>
                  <a:pt x="17992" y="5054"/>
                  <a:pt x="18008" y="5035"/>
                </a:cubicBezTo>
                <a:cubicBezTo>
                  <a:pt x="18051" y="4984"/>
                  <a:pt x="17901" y="5043"/>
                  <a:pt x="17983" y="4961"/>
                </a:cubicBezTo>
                <a:cubicBezTo>
                  <a:pt x="17918" y="5048"/>
                  <a:pt x="17961" y="4984"/>
                  <a:pt x="17909" y="4961"/>
                </a:cubicBezTo>
                <a:cubicBezTo>
                  <a:pt x="17919" y="4964"/>
                  <a:pt x="17993" y="4979"/>
                  <a:pt x="18033" y="4986"/>
                </a:cubicBezTo>
                <a:cubicBezTo>
                  <a:pt x="18142" y="5005"/>
                  <a:pt x="18255" y="5072"/>
                  <a:pt x="18355" y="5085"/>
                </a:cubicBezTo>
                <a:cubicBezTo>
                  <a:pt x="18562" y="5111"/>
                  <a:pt x="18767" y="5077"/>
                  <a:pt x="18951" y="5035"/>
                </a:cubicBezTo>
                <a:cubicBezTo>
                  <a:pt x="19065" y="5009"/>
                  <a:pt x="19183" y="4978"/>
                  <a:pt x="19298" y="4936"/>
                </a:cubicBezTo>
                <a:cubicBezTo>
                  <a:pt x="19438" y="4885"/>
                  <a:pt x="19581" y="4840"/>
                  <a:pt x="19720" y="4787"/>
                </a:cubicBezTo>
                <a:cubicBezTo>
                  <a:pt x="19880" y="4726"/>
                  <a:pt x="20053" y="4638"/>
                  <a:pt x="20216" y="4564"/>
                </a:cubicBezTo>
                <a:cubicBezTo>
                  <a:pt x="20314" y="4520"/>
                  <a:pt x="20438" y="4462"/>
                  <a:pt x="20538" y="4440"/>
                </a:cubicBezTo>
                <a:cubicBezTo>
                  <a:pt x="20603" y="4425"/>
                  <a:pt x="20702" y="4419"/>
                  <a:pt x="20762" y="4415"/>
                </a:cubicBezTo>
                <a:cubicBezTo>
                  <a:pt x="21177" y="4384"/>
                  <a:pt x="21626" y="4419"/>
                  <a:pt x="22027" y="4390"/>
                </a:cubicBezTo>
                <a:cubicBezTo>
                  <a:pt x="22142" y="4382"/>
                  <a:pt x="22260" y="4383"/>
                  <a:pt x="22374" y="4366"/>
                </a:cubicBezTo>
                <a:cubicBezTo>
                  <a:pt x="22745" y="4310"/>
                  <a:pt x="23118" y="4204"/>
                  <a:pt x="23490" y="4167"/>
                </a:cubicBezTo>
                <a:cubicBezTo>
                  <a:pt x="23647" y="4151"/>
                  <a:pt x="23944" y="4140"/>
                  <a:pt x="24061" y="4192"/>
                </a:cubicBezTo>
                <a:cubicBezTo>
                  <a:pt x="24220" y="4263"/>
                  <a:pt x="24423" y="4461"/>
                  <a:pt x="24532" y="4589"/>
                </a:cubicBezTo>
                <a:cubicBezTo>
                  <a:pt x="24615" y="4686"/>
                  <a:pt x="24679" y="4807"/>
                  <a:pt x="24730" y="4911"/>
                </a:cubicBezTo>
                <a:cubicBezTo>
                  <a:pt x="24754" y="4959"/>
                  <a:pt x="24789" y="4996"/>
                  <a:pt x="24805" y="5060"/>
                </a:cubicBezTo>
                <a:cubicBezTo>
                  <a:pt x="24843" y="5207"/>
                  <a:pt x="24824" y="5382"/>
                  <a:pt x="24854" y="5531"/>
                </a:cubicBezTo>
                <a:cubicBezTo>
                  <a:pt x="24893" y="5724"/>
                  <a:pt x="24931" y="5906"/>
                  <a:pt x="24954" y="6102"/>
                </a:cubicBezTo>
                <a:cubicBezTo>
                  <a:pt x="24969" y="6232"/>
                  <a:pt x="24979" y="6360"/>
                  <a:pt x="25028" y="6474"/>
                </a:cubicBezTo>
                <a:cubicBezTo>
                  <a:pt x="25052" y="6530"/>
                  <a:pt x="25032" y="6554"/>
                  <a:pt x="25078" y="6598"/>
                </a:cubicBezTo>
                <a:cubicBezTo>
                  <a:pt x="25098" y="6617"/>
                  <a:pt x="25173" y="6628"/>
                  <a:pt x="25202" y="6648"/>
                </a:cubicBezTo>
                <a:cubicBezTo>
                  <a:pt x="25228" y="6666"/>
                  <a:pt x="25276" y="6658"/>
                  <a:pt x="25301" y="6672"/>
                </a:cubicBezTo>
                <a:cubicBezTo>
                  <a:pt x="25319" y="6682"/>
                  <a:pt x="25364" y="6706"/>
                  <a:pt x="25400" y="6722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Police do not buy the puppies, they breed them. Then they pick out the suitable ones, that are not to aggressive and not to shy.</a:t>
            </a:r>
            <a:br>
              <a:rPr sz="4000"/>
            </a:b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All of the litter are named after one let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42920" y="189000"/>
            <a:ext cx="6676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briola"/>
              </a:rPr>
              <a:t>Where do they get the police dogs and puppies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briola"/>
              <a:ea typeface="Gabriol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204920"/>
            <a:ext cx="1835280" cy="1139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940360" y="5562720"/>
            <a:ext cx="2314800" cy="1295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4960" y="3116160"/>
            <a:ext cx="2001960" cy="3197160"/>
          </a:xfrm>
          <a:custGeom>
            <a:avLst/>
            <a:gdLst/>
            <a:ahLst/>
            <a:rect l="l" t="t" r="r" b="b"/>
            <a:pathLst>
              <a:path w="5558" h="8881">
                <a:moveTo>
                  <a:pt x="1488" y="8657"/>
                </a:moveTo>
                <a:cubicBezTo>
                  <a:pt x="1488" y="11609"/>
                  <a:pt x="1488" y="14560"/>
                  <a:pt x="1488" y="17512"/>
                </a:cubicBezTo>
                <a:cubicBezTo>
                  <a:pt x="3124" y="17512"/>
                  <a:pt x="4774" y="17517"/>
                  <a:pt x="6400" y="17537"/>
                </a:cubicBezTo>
                <a:cubicBezTo>
                  <a:pt x="6615" y="17540"/>
                  <a:pt x="6830" y="17537"/>
                  <a:pt x="7045" y="17537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81200" y="6205680"/>
            <a:ext cx="2928960" cy="671400"/>
          </a:xfrm>
          <a:custGeom>
            <a:avLst/>
            <a:gdLst/>
            <a:ahLst/>
            <a:rect l="l" t="t" r="r" b="b"/>
            <a:pathLst>
              <a:path w="8136" h="1862">
                <a:moveTo>
                  <a:pt x="7169" y="17562"/>
                </a:moveTo>
                <a:cubicBezTo>
                  <a:pt x="7406" y="17562"/>
                  <a:pt x="7667" y="17547"/>
                  <a:pt x="7888" y="17537"/>
                </a:cubicBezTo>
                <a:cubicBezTo>
                  <a:pt x="8876" y="17494"/>
                  <a:pt x="9875" y="17537"/>
                  <a:pt x="10864" y="17537"/>
                </a:cubicBezTo>
                <a:cubicBezTo>
                  <a:pt x="10864" y="17751"/>
                  <a:pt x="10728" y="18853"/>
                  <a:pt x="10889" y="19025"/>
                </a:cubicBezTo>
                <a:cubicBezTo>
                  <a:pt x="10910" y="19047"/>
                  <a:pt x="10922" y="19015"/>
                  <a:pt x="10988" y="19025"/>
                </a:cubicBezTo>
                <a:cubicBezTo>
                  <a:pt x="11027" y="19031"/>
                  <a:pt x="11059" y="19023"/>
                  <a:pt x="11112" y="19025"/>
                </a:cubicBezTo>
                <a:cubicBezTo>
                  <a:pt x="11337" y="19033"/>
                  <a:pt x="11625" y="19041"/>
                  <a:pt x="11807" y="19050"/>
                </a:cubicBezTo>
                <a:cubicBezTo>
                  <a:pt x="11853" y="19052"/>
                  <a:pt x="11989" y="19079"/>
                  <a:pt x="12030" y="19075"/>
                </a:cubicBezTo>
                <a:cubicBezTo>
                  <a:pt x="12100" y="19069"/>
                  <a:pt x="12108" y="19024"/>
                  <a:pt x="12179" y="19025"/>
                </a:cubicBezTo>
                <a:cubicBezTo>
                  <a:pt x="12277" y="19027"/>
                  <a:pt x="12373" y="19048"/>
                  <a:pt x="12477" y="19050"/>
                </a:cubicBezTo>
                <a:cubicBezTo>
                  <a:pt x="12551" y="19051"/>
                  <a:pt x="12662" y="19015"/>
                  <a:pt x="12725" y="19025"/>
                </a:cubicBezTo>
                <a:cubicBezTo>
                  <a:pt x="12760" y="19025"/>
                  <a:pt x="12773" y="19034"/>
                  <a:pt x="12774" y="19075"/>
                </a:cubicBezTo>
                <a:cubicBezTo>
                  <a:pt x="12819" y="19065"/>
                  <a:pt x="12865" y="19034"/>
                  <a:pt x="12948" y="19025"/>
                </a:cubicBezTo>
                <a:cubicBezTo>
                  <a:pt x="13074" y="19011"/>
                  <a:pt x="13289" y="19053"/>
                  <a:pt x="13370" y="19050"/>
                </a:cubicBezTo>
                <a:cubicBezTo>
                  <a:pt x="13385" y="19050"/>
                  <a:pt x="13488" y="19016"/>
                  <a:pt x="13543" y="19025"/>
                </a:cubicBezTo>
                <a:cubicBezTo>
                  <a:pt x="13780" y="19064"/>
                  <a:pt x="13962" y="19077"/>
                  <a:pt x="14188" y="19050"/>
                </a:cubicBezTo>
                <a:cubicBezTo>
                  <a:pt x="14291" y="19038"/>
                  <a:pt x="14280" y="19030"/>
                  <a:pt x="14362" y="19025"/>
                </a:cubicBezTo>
                <a:cubicBezTo>
                  <a:pt x="14467" y="19019"/>
                  <a:pt x="14627" y="19018"/>
                  <a:pt x="14709" y="19025"/>
                </a:cubicBezTo>
                <a:cubicBezTo>
                  <a:pt x="14767" y="19030"/>
                  <a:pt x="14852" y="19030"/>
                  <a:pt x="14858" y="19025"/>
                </a:cubicBezTo>
                <a:cubicBezTo>
                  <a:pt x="14895" y="18997"/>
                  <a:pt x="14917" y="18927"/>
                  <a:pt x="14932" y="18876"/>
                </a:cubicBezTo>
                <a:cubicBezTo>
                  <a:pt x="14951" y="18813"/>
                  <a:pt x="14963" y="18735"/>
                  <a:pt x="14982" y="18678"/>
                </a:cubicBezTo>
                <a:cubicBezTo>
                  <a:pt x="15003" y="18612"/>
                  <a:pt x="15041" y="18544"/>
                  <a:pt x="15056" y="18479"/>
                </a:cubicBezTo>
                <a:cubicBezTo>
                  <a:pt x="15068" y="18426"/>
                  <a:pt x="15072" y="18352"/>
                  <a:pt x="15081" y="18306"/>
                </a:cubicBezTo>
                <a:cubicBezTo>
                  <a:pt x="15092" y="18249"/>
                  <a:pt x="15093" y="18211"/>
                  <a:pt x="15106" y="18157"/>
                </a:cubicBezTo>
                <a:cubicBezTo>
                  <a:pt x="15128" y="18066"/>
                  <a:pt x="15172" y="17979"/>
                  <a:pt x="15205" y="17884"/>
                </a:cubicBezTo>
                <a:cubicBezTo>
                  <a:pt x="15239" y="17786"/>
                  <a:pt x="15291" y="17687"/>
                  <a:pt x="15304" y="17587"/>
                </a:cubicBezTo>
                <a:cubicBezTo>
                  <a:pt x="15319" y="17476"/>
                  <a:pt x="15304" y="17351"/>
                  <a:pt x="15304" y="1723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35760" y="2492280"/>
            <a:ext cx="3108240" cy="3017880"/>
          </a:xfrm>
          <a:custGeom>
            <a:avLst/>
            <a:gdLst/>
            <a:ahLst/>
            <a:rect l="l" t="t" r="r" b="b"/>
            <a:pathLst>
              <a:path w="8633" h="8385">
                <a:moveTo>
                  <a:pt x="15404" y="17239"/>
                </a:moveTo>
                <a:cubicBezTo>
                  <a:pt x="17038" y="17239"/>
                  <a:pt x="18692" y="17197"/>
                  <a:pt x="20315" y="17289"/>
                </a:cubicBezTo>
                <a:cubicBezTo>
                  <a:pt x="20497" y="17299"/>
                  <a:pt x="20660" y="17298"/>
                  <a:pt x="20836" y="17338"/>
                </a:cubicBezTo>
                <a:cubicBezTo>
                  <a:pt x="20908" y="17354"/>
                  <a:pt x="21015" y="17408"/>
                  <a:pt x="21059" y="17413"/>
                </a:cubicBezTo>
                <a:cubicBezTo>
                  <a:pt x="22018" y="17515"/>
                  <a:pt x="23074" y="17413"/>
                  <a:pt x="24036" y="17413"/>
                </a:cubicBezTo>
                <a:cubicBezTo>
                  <a:pt x="23986" y="17161"/>
                  <a:pt x="23946" y="16952"/>
                  <a:pt x="23937" y="16694"/>
                </a:cubicBezTo>
                <a:cubicBezTo>
                  <a:pt x="23912" y="15983"/>
                  <a:pt x="23919" y="15267"/>
                  <a:pt x="23912" y="14560"/>
                </a:cubicBezTo>
                <a:cubicBezTo>
                  <a:pt x="23893" y="12717"/>
                  <a:pt x="23912" y="10872"/>
                  <a:pt x="23912" y="902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1773360"/>
            <a:ext cx="4589280" cy="223560"/>
          </a:xfrm>
          <a:custGeom>
            <a:avLst/>
            <a:gdLst/>
            <a:ahLst/>
            <a:rect l="l" t="t" r="r" b="b"/>
            <a:pathLst>
              <a:path w="12751" h="621">
                <a:moveTo>
                  <a:pt x="6102" y="6102"/>
                </a:moveTo>
                <a:cubicBezTo>
                  <a:pt x="6448" y="6102"/>
                  <a:pt x="6786" y="6099"/>
                  <a:pt x="7119" y="6052"/>
                </a:cubicBezTo>
                <a:cubicBezTo>
                  <a:pt x="7210" y="6039"/>
                  <a:pt x="7301" y="6039"/>
                  <a:pt x="7392" y="6028"/>
                </a:cubicBezTo>
                <a:cubicBezTo>
                  <a:pt x="7462" y="6019"/>
                  <a:pt x="7547" y="6006"/>
                  <a:pt x="7615" y="6003"/>
                </a:cubicBezTo>
                <a:cubicBezTo>
                  <a:pt x="8102" y="5979"/>
                  <a:pt x="8646" y="5963"/>
                  <a:pt x="9103" y="6052"/>
                </a:cubicBezTo>
                <a:cubicBezTo>
                  <a:pt x="9176" y="6066"/>
                  <a:pt x="9253" y="6091"/>
                  <a:pt x="9327" y="6102"/>
                </a:cubicBezTo>
                <a:cubicBezTo>
                  <a:pt x="9535" y="6134"/>
                  <a:pt x="9738" y="6169"/>
                  <a:pt x="9947" y="6201"/>
                </a:cubicBezTo>
                <a:cubicBezTo>
                  <a:pt x="10262" y="6250"/>
                  <a:pt x="10575" y="6306"/>
                  <a:pt x="10889" y="6350"/>
                </a:cubicBezTo>
                <a:cubicBezTo>
                  <a:pt x="11142" y="6385"/>
                  <a:pt x="11379" y="6396"/>
                  <a:pt x="11633" y="6400"/>
                </a:cubicBezTo>
                <a:cubicBezTo>
                  <a:pt x="12020" y="6406"/>
                  <a:pt x="12393" y="6393"/>
                  <a:pt x="12774" y="6350"/>
                </a:cubicBezTo>
                <a:cubicBezTo>
                  <a:pt x="13176" y="6305"/>
                  <a:pt x="13589" y="6316"/>
                  <a:pt x="13990" y="6350"/>
                </a:cubicBezTo>
                <a:cubicBezTo>
                  <a:pt x="14227" y="6370"/>
                  <a:pt x="14426" y="6442"/>
                  <a:pt x="14660" y="6474"/>
                </a:cubicBezTo>
                <a:cubicBezTo>
                  <a:pt x="14943" y="6512"/>
                  <a:pt x="15217" y="6571"/>
                  <a:pt x="15503" y="6598"/>
                </a:cubicBezTo>
                <a:cubicBezTo>
                  <a:pt x="15833" y="6630"/>
                  <a:pt x="16163" y="6623"/>
                  <a:pt x="16495" y="6623"/>
                </a:cubicBezTo>
                <a:cubicBezTo>
                  <a:pt x="16841" y="6623"/>
                  <a:pt x="17125" y="6579"/>
                  <a:pt x="17462" y="6524"/>
                </a:cubicBezTo>
                <a:cubicBezTo>
                  <a:pt x="17584" y="6504"/>
                  <a:pt x="17713" y="6490"/>
                  <a:pt x="17835" y="6474"/>
                </a:cubicBezTo>
                <a:cubicBezTo>
                  <a:pt x="18049" y="6446"/>
                  <a:pt x="18344" y="6409"/>
                  <a:pt x="18554" y="6474"/>
                </a:cubicBezTo>
                <a:cubicBezTo>
                  <a:pt x="18614" y="6493"/>
                  <a:pt x="18650" y="6529"/>
                  <a:pt x="18703" y="6548"/>
                </a:cubicBezTo>
                <a:cubicBezTo>
                  <a:pt x="18734" y="6559"/>
                  <a:pt x="18771" y="6560"/>
                  <a:pt x="18802" y="6573"/>
                </a:cubicBezTo>
                <a:cubicBezTo>
                  <a:pt x="18825" y="6596"/>
                  <a:pt x="18829" y="6604"/>
                  <a:pt x="18852" y="6598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742240" y="98280"/>
            <a:ext cx="115920" cy="1643040"/>
          </a:xfrm>
          <a:custGeom>
            <a:avLst/>
            <a:gdLst/>
            <a:ahLst/>
            <a:rect l="l" t="t" r="r" b="b"/>
            <a:pathLst>
              <a:path w="323" h="4565">
                <a:moveTo>
                  <a:pt x="24532" y="4837"/>
                </a:moveTo>
                <a:cubicBezTo>
                  <a:pt x="24547" y="4780"/>
                  <a:pt x="24564" y="4723"/>
                  <a:pt x="24581" y="4663"/>
                </a:cubicBezTo>
                <a:cubicBezTo>
                  <a:pt x="24599" y="4598"/>
                  <a:pt x="24604" y="4534"/>
                  <a:pt x="24606" y="4465"/>
                </a:cubicBezTo>
                <a:cubicBezTo>
                  <a:pt x="24618" y="4096"/>
                  <a:pt x="24603" y="3735"/>
                  <a:pt x="24557" y="3373"/>
                </a:cubicBezTo>
                <a:cubicBezTo>
                  <a:pt x="24454" y="2560"/>
                  <a:pt x="24811" y="1521"/>
                  <a:pt x="24507" y="769"/>
                </a:cubicBezTo>
                <a:cubicBezTo>
                  <a:pt x="24486" y="718"/>
                  <a:pt x="24450" y="667"/>
                  <a:pt x="24433" y="620"/>
                </a:cubicBezTo>
                <a:cubicBezTo>
                  <a:pt x="24417" y="576"/>
                  <a:pt x="24406" y="538"/>
                  <a:pt x="24383" y="496"/>
                </a:cubicBezTo>
                <a:cubicBezTo>
                  <a:pt x="24363" y="460"/>
                  <a:pt x="24349" y="434"/>
                  <a:pt x="24333" y="397"/>
                </a:cubicBezTo>
                <a:cubicBezTo>
                  <a:pt x="24316" y="358"/>
                  <a:pt x="24324" y="353"/>
                  <a:pt x="24309" y="322"/>
                </a:cubicBezTo>
                <a:cubicBezTo>
                  <a:pt x="24309" y="294"/>
                  <a:pt x="24306" y="284"/>
                  <a:pt x="24284" y="273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2200" y="-52560"/>
            <a:ext cx="320760" cy="1562400"/>
          </a:xfrm>
          <a:custGeom>
            <a:avLst/>
            <a:gdLst/>
            <a:ahLst/>
            <a:rect l="l" t="t" r="r" b="b"/>
            <a:pathLst>
              <a:path w="894" h="4342">
                <a:moveTo>
                  <a:pt x="893" y="4192"/>
                </a:moveTo>
                <a:cubicBezTo>
                  <a:pt x="907" y="4119"/>
                  <a:pt x="903" y="4071"/>
                  <a:pt x="918" y="3994"/>
                </a:cubicBezTo>
                <a:cubicBezTo>
                  <a:pt x="943" y="3871"/>
                  <a:pt x="981" y="3745"/>
                  <a:pt x="992" y="3621"/>
                </a:cubicBezTo>
                <a:cubicBezTo>
                  <a:pt x="1042" y="3076"/>
                  <a:pt x="902" y="2489"/>
                  <a:pt x="1017" y="1960"/>
                </a:cubicBezTo>
                <a:cubicBezTo>
                  <a:pt x="1031" y="1896"/>
                  <a:pt x="1046" y="1856"/>
                  <a:pt x="1067" y="1786"/>
                </a:cubicBezTo>
                <a:cubicBezTo>
                  <a:pt x="1088" y="1714"/>
                  <a:pt x="1114" y="1636"/>
                  <a:pt x="1141" y="1563"/>
                </a:cubicBezTo>
                <a:cubicBezTo>
                  <a:pt x="1198" y="1408"/>
                  <a:pt x="1209" y="1242"/>
                  <a:pt x="1265" y="1091"/>
                </a:cubicBezTo>
                <a:cubicBezTo>
                  <a:pt x="1324" y="932"/>
                  <a:pt x="1383" y="791"/>
                  <a:pt x="1414" y="620"/>
                </a:cubicBezTo>
                <a:cubicBezTo>
                  <a:pt x="1447" y="438"/>
                  <a:pt x="1464" y="255"/>
                  <a:pt x="1488" y="74"/>
                </a:cubicBezTo>
                <a:cubicBezTo>
                  <a:pt x="1511" y="-42"/>
                  <a:pt x="1518" y="-75"/>
                  <a:pt x="1538" y="-149"/>
                </a:cubicBezTo>
                <a:cubicBezTo>
                  <a:pt x="1589" y="-21"/>
                  <a:pt x="1493" y="-108"/>
                  <a:pt x="1588" y="-124"/>
                </a:cubicBezTo>
                <a:cubicBezTo>
                  <a:pt x="1667" y="-78"/>
                  <a:pt x="1612" y="-118"/>
                  <a:pt x="1662" y="-74"/>
                </a:cubicBezTo>
                <a:cubicBezTo>
                  <a:pt x="1687" y="-74"/>
                  <a:pt x="1695" y="-74"/>
                  <a:pt x="1687" y="-50"/>
                </a:cubicBezTo>
                <a:cubicBezTo>
                  <a:pt x="1745" y="-44"/>
                  <a:pt x="1687" y="-81"/>
                  <a:pt x="1761" y="-50"/>
                </a:cubicBezTo>
                <a:cubicBezTo>
                  <a:pt x="1792" y="-37"/>
                  <a:pt x="1757" y="-42"/>
                  <a:pt x="1786" y="-25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626920" y="206028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re are photos of polic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000760"/>
            <a:ext cx="2592360" cy="1857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4697280"/>
            <a:ext cx="1644840" cy="2160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51280" y="5292720"/>
            <a:ext cx="1433520" cy="1565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0"/>
            <a:ext cx="2104920" cy="2521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92720" y="5162400"/>
            <a:ext cx="2521080" cy="1695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4149720"/>
            <a:ext cx="1476360" cy="1109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924360" y="4292640"/>
            <a:ext cx="1584360" cy="10605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292720" y="3789360"/>
            <a:ext cx="2001960" cy="1434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0" y="2492280"/>
            <a:ext cx="2268360" cy="1619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050920" y="0"/>
            <a:ext cx="1817640" cy="1844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3851280" y="0"/>
            <a:ext cx="2124000" cy="13273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308720" y="371628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7"/>
          <a:stretch/>
        </p:blipFill>
        <p:spPr>
          <a:xfrm>
            <a:off x="7596360" y="6107040"/>
            <a:ext cx="1800000" cy="750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8"/>
          <a:stretch/>
        </p:blipFill>
        <p:spPr>
          <a:xfrm>
            <a:off x="7812000" y="5229360"/>
            <a:ext cx="111456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9"/>
          <a:stretch/>
        </p:blipFill>
        <p:spPr>
          <a:xfrm>
            <a:off x="7308720" y="2492280"/>
            <a:ext cx="1656000" cy="1244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763640" y="1413000"/>
            <a:ext cx="6921720" cy="3376440"/>
          </a:xfrm>
          <a:custGeom>
            <a:avLst/>
            <a:gdLst/>
            <a:ahLst/>
            <a:rect l="l" t="t" r="r" b="b"/>
            <a:pathLst>
              <a:path w="19225" h="9378">
                <a:moveTo>
                  <a:pt x="7268" y="5531"/>
                </a:moveTo>
                <a:cubicBezTo>
                  <a:pt x="6985" y="5647"/>
                  <a:pt x="7018" y="5513"/>
                  <a:pt x="6796" y="5755"/>
                </a:cubicBezTo>
                <a:cubicBezTo>
                  <a:pt x="6761" y="5793"/>
                  <a:pt x="6797" y="5852"/>
                  <a:pt x="6772" y="5879"/>
                </a:cubicBezTo>
                <a:cubicBezTo>
                  <a:pt x="6807" y="5892"/>
                  <a:pt x="6913" y="5927"/>
                  <a:pt x="6970" y="5953"/>
                </a:cubicBezTo>
                <a:cubicBezTo>
                  <a:pt x="7029" y="5980"/>
                  <a:pt x="7103" y="6003"/>
                  <a:pt x="7169" y="6028"/>
                </a:cubicBezTo>
                <a:cubicBezTo>
                  <a:pt x="7245" y="6056"/>
                  <a:pt x="7279" y="6103"/>
                  <a:pt x="7342" y="6127"/>
                </a:cubicBezTo>
                <a:cubicBezTo>
                  <a:pt x="7423" y="6158"/>
                  <a:pt x="7513" y="6172"/>
                  <a:pt x="7590" y="6201"/>
                </a:cubicBezTo>
                <a:cubicBezTo>
                  <a:pt x="7493" y="6674"/>
                  <a:pt x="7357" y="7008"/>
                  <a:pt x="7169" y="7466"/>
                </a:cubicBezTo>
                <a:cubicBezTo>
                  <a:pt x="7101" y="7631"/>
                  <a:pt x="7085" y="7585"/>
                  <a:pt x="7045" y="7764"/>
                </a:cubicBezTo>
                <a:cubicBezTo>
                  <a:pt x="6939" y="8243"/>
                  <a:pt x="7100" y="8850"/>
                  <a:pt x="7020" y="9302"/>
                </a:cubicBezTo>
                <a:cubicBezTo>
                  <a:pt x="6958" y="9655"/>
                  <a:pt x="6786" y="9968"/>
                  <a:pt x="6697" y="10319"/>
                </a:cubicBezTo>
                <a:cubicBezTo>
                  <a:pt x="6671" y="10421"/>
                  <a:pt x="6636" y="10561"/>
                  <a:pt x="6623" y="10666"/>
                </a:cubicBezTo>
                <a:cubicBezTo>
                  <a:pt x="6554" y="11234"/>
                  <a:pt x="6461" y="11615"/>
                  <a:pt x="6325" y="12154"/>
                </a:cubicBezTo>
                <a:cubicBezTo>
                  <a:pt x="6325" y="12289"/>
                  <a:pt x="6343" y="12311"/>
                  <a:pt x="6300" y="12378"/>
                </a:cubicBezTo>
                <a:cubicBezTo>
                  <a:pt x="6136" y="12404"/>
                  <a:pt x="5956" y="12453"/>
                  <a:pt x="5829" y="12477"/>
                </a:cubicBezTo>
                <a:cubicBezTo>
                  <a:pt x="5619" y="12516"/>
                  <a:pt x="5475" y="12493"/>
                  <a:pt x="5283" y="12576"/>
                </a:cubicBezTo>
                <a:cubicBezTo>
                  <a:pt x="5233" y="12598"/>
                  <a:pt x="5095" y="12604"/>
                  <a:pt x="5060" y="12650"/>
                </a:cubicBezTo>
                <a:cubicBezTo>
                  <a:pt x="4995" y="12735"/>
                  <a:pt x="5006" y="12673"/>
                  <a:pt x="4961" y="12774"/>
                </a:cubicBezTo>
                <a:cubicBezTo>
                  <a:pt x="4885" y="12944"/>
                  <a:pt x="4962" y="13254"/>
                  <a:pt x="5035" y="13345"/>
                </a:cubicBezTo>
                <a:cubicBezTo>
                  <a:pt x="5061" y="13377"/>
                  <a:pt x="5132" y="13373"/>
                  <a:pt x="5159" y="13395"/>
                </a:cubicBezTo>
                <a:cubicBezTo>
                  <a:pt x="5239" y="13462"/>
                  <a:pt x="5303" y="13484"/>
                  <a:pt x="5407" y="13494"/>
                </a:cubicBezTo>
                <a:cubicBezTo>
                  <a:pt x="5449" y="13498"/>
                  <a:pt x="5425" y="13524"/>
                  <a:pt x="5482" y="13519"/>
                </a:cubicBezTo>
                <a:cubicBezTo>
                  <a:pt x="5597" y="13509"/>
                  <a:pt x="5598" y="13513"/>
                  <a:pt x="5680" y="13469"/>
                </a:cubicBezTo>
                <a:cubicBezTo>
                  <a:pt x="5755" y="13429"/>
                  <a:pt x="5776" y="13235"/>
                  <a:pt x="5879" y="13171"/>
                </a:cubicBezTo>
                <a:cubicBezTo>
                  <a:pt x="5934" y="13137"/>
                  <a:pt x="5978" y="13125"/>
                  <a:pt x="6028" y="13097"/>
                </a:cubicBezTo>
                <a:cubicBezTo>
                  <a:pt x="6078" y="13069"/>
                  <a:pt x="6114" y="13072"/>
                  <a:pt x="6152" y="13047"/>
                </a:cubicBezTo>
                <a:cubicBezTo>
                  <a:pt x="6195" y="13019"/>
                  <a:pt x="6256" y="13008"/>
                  <a:pt x="6300" y="12973"/>
                </a:cubicBezTo>
                <a:cubicBezTo>
                  <a:pt x="6336" y="12944"/>
                  <a:pt x="6356" y="12960"/>
                  <a:pt x="6400" y="12923"/>
                </a:cubicBezTo>
                <a:cubicBezTo>
                  <a:pt x="6437" y="12891"/>
                  <a:pt x="6488" y="12808"/>
                  <a:pt x="6524" y="12774"/>
                </a:cubicBezTo>
                <a:cubicBezTo>
                  <a:pt x="6570" y="12731"/>
                  <a:pt x="6611" y="12656"/>
                  <a:pt x="6648" y="12626"/>
                </a:cubicBezTo>
                <a:cubicBezTo>
                  <a:pt x="6688" y="12594"/>
                  <a:pt x="6680" y="12584"/>
                  <a:pt x="6722" y="12551"/>
                </a:cubicBezTo>
                <a:cubicBezTo>
                  <a:pt x="6840" y="12459"/>
                  <a:pt x="6895" y="12424"/>
                  <a:pt x="7020" y="12353"/>
                </a:cubicBezTo>
                <a:cubicBezTo>
                  <a:pt x="7083" y="12317"/>
                  <a:pt x="7065" y="12327"/>
                  <a:pt x="7119" y="12303"/>
                </a:cubicBezTo>
                <a:cubicBezTo>
                  <a:pt x="7168" y="12281"/>
                  <a:pt x="7201" y="12276"/>
                  <a:pt x="7268" y="12254"/>
                </a:cubicBezTo>
                <a:cubicBezTo>
                  <a:pt x="7348" y="12227"/>
                  <a:pt x="7433" y="12194"/>
                  <a:pt x="7516" y="12179"/>
                </a:cubicBezTo>
                <a:cubicBezTo>
                  <a:pt x="7793" y="12130"/>
                  <a:pt x="8066" y="12194"/>
                  <a:pt x="8260" y="12055"/>
                </a:cubicBezTo>
                <a:cubicBezTo>
                  <a:pt x="8304" y="12023"/>
                  <a:pt x="8337" y="11927"/>
                  <a:pt x="8359" y="11906"/>
                </a:cubicBezTo>
                <a:cubicBezTo>
                  <a:pt x="8404" y="11863"/>
                  <a:pt x="8440" y="11824"/>
                  <a:pt x="8483" y="11782"/>
                </a:cubicBezTo>
                <a:cubicBezTo>
                  <a:pt x="8520" y="11746"/>
                  <a:pt x="8520" y="11668"/>
                  <a:pt x="8558" y="11633"/>
                </a:cubicBezTo>
                <a:cubicBezTo>
                  <a:pt x="8782" y="11426"/>
                  <a:pt x="9000" y="11336"/>
                  <a:pt x="9277" y="11237"/>
                </a:cubicBezTo>
                <a:cubicBezTo>
                  <a:pt x="9357" y="11209"/>
                  <a:pt x="9445" y="11177"/>
                  <a:pt x="9525" y="11162"/>
                </a:cubicBezTo>
                <a:cubicBezTo>
                  <a:pt x="9588" y="11150"/>
                  <a:pt x="9652" y="11147"/>
                  <a:pt x="9723" y="11137"/>
                </a:cubicBezTo>
                <a:cubicBezTo>
                  <a:pt x="9991" y="11098"/>
                  <a:pt x="10254" y="11116"/>
                  <a:pt x="10517" y="11063"/>
                </a:cubicBezTo>
                <a:cubicBezTo>
                  <a:pt x="10807" y="11005"/>
                  <a:pt x="11105" y="10928"/>
                  <a:pt x="11385" y="10840"/>
                </a:cubicBezTo>
                <a:cubicBezTo>
                  <a:pt x="11522" y="10797"/>
                  <a:pt x="11649" y="10735"/>
                  <a:pt x="11782" y="10691"/>
                </a:cubicBezTo>
                <a:cubicBezTo>
                  <a:pt x="11910" y="10649"/>
                  <a:pt x="12029" y="10631"/>
                  <a:pt x="12154" y="10592"/>
                </a:cubicBezTo>
                <a:cubicBezTo>
                  <a:pt x="12262" y="10558"/>
                  <a:pt x="12298" y="10537"/>
                  <a:pt x="12402" y="10517"/>
                </a:cubicBezTo>
                <a:cubicBezTo>
                  <a:pt x="12905" y="10421"/>
                  <a:pt x="13339" y="10461"/>
                  <a:pt x="13767" y="10244"/>
                </a:cubicBezTo>
                <a:cubicBezTo>
                  <a:pt x="13813" y="10221"/>
                  <a:pt x="13866" y="10199"/>
                  <a:pt x="13915" y="10170"/>
                </a:cubicBezTo>
                <a:cubicBezTo>
                  <a:pt x="13999" y="10121"/>
                  <a:pt x="14056" y="10078"/>
                  <a:pt x="14139" y="10021"/>
                </a:cubicBezTo>
                <a:cubicBezTo>
                  <a:pt x="14201" y="9979"/>
                  <a:pt x="14258" y="9938"/>
                  <a:pt x="14312" y="9897"/>
                </a:cubicBezTo>
                <a:cubicBezTo>
                  <a:pt x="14377" y="9848"/>
                  <a:pt x="14455" y="9784"/>
                  <a:pt x="14536" y="9723"/>
                </a:cubicBezTo>
                <a:cubicBezTo>
                  <a:pt x="14623" y="9657"/>
                  <a:pt x="14705" y="9538"/>
                  <a:pt x="14808" y="9500"/>
                </a:cubicBezTo>
                <a:cubicBezTo>
                  <a:pt x="14844" y="9487"/>
                  <a:pt x="14869" y="9462"/>
                  <a:pt x="14908" y="9451"/>
                </a:cubicBezTo>
                <a:cubicBezTo>
                  <a:pt x="15023" y="9418"/>
                  <a:pt x="15310" y="9414"/>
                  <a:pt x="15379" y="9500"/>
                </a:cubicBezTo>
                <a:cubicBezTo>
                  <a:pt x="15442" y="9578"/>
                  <a:pt x="15083" y="9562"/>
                  <a:pt x="15131" y="9649"/>
                </a:cubicBezTo>
                <a:cubicBezTo>
                  <a:pt x="15547" y="9817"/>
                  <a:pt x="15897" y="9758"/>
                  <a:pt x="16123" y="10145"/>
                </a:cubicBezTo>
                <a:cubicBezTo>
                  <a:pt x="16201" y="10279"/>
                  <a:pt x="15748" y="10098"/>
                  <a:pt x="15751" y="10170"/>
                </a:cubicBezTo>
                <a:cubicBezTo>
                  <a:pt x="15812" y="10200"/>
                  <a:pt x="15986" y="10394"/>
                  <a:pt x="16098" y="10418"/>
                </a:cubicBezTo>
                <a:cubicBezTo>
                  <a:pt x="16613" y="10527"/>
                  <a:pt x="16897" y="10225"/>
                  <a:pt x="17289" y="9971"/>
                </a:cubicBezTo>
                <a:cubicBezTo>
                  <a:pt x="17570" y="9789"/>
                  <a:pt x="17876" y="9525"/>
                  <a:pt x="18182" y="9401"/>
                </a:cubicBezTo>
                <a:cubicBezTo>
                  <a:pt x="18243" y="9376"/>
                  <a:pt x="18297" y="9322"/>
                  <a:pt x="18355" y="9302"/>
                </a:cubicBezTo>
                <a:cubicBezTo>
                  <a:pt x="18602" y="9216"/>
                  <a:pt x="18733" y="9289"/>
                  <a:pt x="18976" y="9128"/>
                </a:cubicBezTo>
                <a:cubicBezTo>
                  <a:pt x="19081" y="9058"/>
                  <a:pt x="19249" y="8911"/>
                  <a:pt x="19323" y="8806"/>
                </a:cubicBezTo>
                <a:cubicBezTo>
                  <a:pt x="19493" y="8565"/>
                  <a:pt x="19535" y="8343"/>
                  <a:pt x="19596" y="8062"/>
                </a:cubicBezTo>
                <a:cubicBezTo>
                  <a:pt x="19645" y="7835"/>
                  <a:pt x="19632" y="7616"/>
                  <a:pt x="19670" y="7392"/>
                </a:cubicBezTo>
                <a:cubicBezTo>
                  <a:pt x="19688" y="7288"/>
                  <a:pt x="19764" y="7139"/>
                  <a:pt x="19769" y="7045"/>
                </a:cubicBezTo>
                <a:cubicBezTo>
                  <a:pt x="19786" y="6752"/>
                  <a:pt x="19697" y="6506"/>
                  <a:pt x="19819" y="6226"/>
                </a:cubicBezTo>
                <a:cubicBezTo>
                  <a:pt x="19902" y="6037"/>
                  <a:pt x="20080" y="5844"/>
                  <a:pt x="20241" y="5730"/>
                </a:cubicBezTo>
                <a:cubicBezTo>
                  <a:pt x="20545" y="5514"/>
                  <a:pt x="20982" y="5371"/>
                  <a:pt x="21357" y="5383"/>
                </a:cubicBezTo>
                <a:cubicBezTo>
                  <a:pt x="21473" y="5387"/>
                  <a:pt x="21521" y="5411"/>
                  <a:pt x="21630" y="5432"/>
                </a:cubicBezTo>
                <a:cubicBezTo>
                  <a:pt x="21803" y="5465"/>
                  <a:pt x="21958" y="5595"/>
                  <a:pt x="22126" y="5631"/>
                </a:cubicBezTo>
                <a:cubicBezTo>
                  <a:pt x="22276" y="5663"/>
                  <a:pt x="22417" y="5668"/>
                  <a:pt x="22572" y="5680"/>
                </a:cubicBezTo>
                <a:cubicBezTo>
                  <a:pt x="23093" y="5722"/>
                  <a:pt x="23637" y="5680"/>
                  <a:pt x="24160" y="5680"/>
                </a:cubicBezTo>
                <a:cubicBezTo>
                  <a:pt x="24135" y="5478"/>
                  <a:pt x="24271" y="5204"/>
                  <a:pt x="24135" y="5035"/>
                </a:cubicBezTo>
                <a:cubicBezTo>
                  <a:pt x="24028" y="4901"/>
                  <a:pt x="24011" y="4910"/>
                  <a:pt x="23862" y="4812"/>
                </a:cubicBezTo>
                <a:cubicBezTo>
                  <a:pt x="23742" y="4733"/>
                  <a:pt x="23461" y="4675"/>
                  <a:pt x="23316" y="4638"/>
                </a:cubicBezTo>
                <a:cubicBezTo>
                  <a:pt x="23259" y="4624"/>
                  <a:pt x="23227" y="4589"/>
                  <a:pt x="23168" y="4589"/>
                </a:cubicBezTo>
                <a:cubicBezTo>
                  <a:pt x="22898" y="4587"/>
                  <a:pt x="22784" y="4668"/>
                  <a:pt x="22547" y="4738"/>
                </a:cubicBezTo>
                <a:cubicBezTo>
                  <a:pt x="22475" y="4759"/>
                  <a:pt x="22417" y="4816"/>
                  <a:pt x="22349" y="4837"/>
                </a:cubicBezTo>
                <a:cubicBezTo>
                  <a:pt x="22121" y="4909"/>
                  <a:pt x="21866" y="4960"/>
                  <a:pt x="21630" y="5035"/>
                </a:cubicBezTo>
                <a:cubicBezTo>
                  <a:pt x="21340" y="5127"/>
                  <a:pt x="21060" y="5205"/>
                  <a:pt x="20762" y="5259"/>
                </a:cubicBezTo>
                <a:cubicBezTo>
                  <a:pt x="20550" y="5298"/>
                  <a:pt x="20328" y="5337"/>
                  <a:pt x="20117" y="5358"/>
                </a:cubicBezTo>
                <a:cubicBezTo>
                  <a:pt x="19941" y="5375"/>
                  <a:pt x="19755" y="5379"/>
                  <a:pt x="19571" y="5383"/>
                </a:cubicBezTo>
                <a:cubicBezTo>
                  <a:pt x="19112" y="5393"/>
                  <a:pt x="18622" y="5418"/>
                  <a:pt x="18182" y="5333"/>
                </a:cubicBezTo>
                <a:cubicBezTo>
                  <a:pt x="18044" y="5306"/>
                  <a:pt x="17941" y="5249"/>
                  <a:pt x="17810" y="5209"/>
                </a:cubicBezTo>
                <a:cubicBezTo>
                  <a:pt x="17716" y="5180"/>
                  <a:pt x="17674" y="5169"/>
                  <a:pt x="17562" y="5135"/>
                </a:cubicBezTo>
                <a:cubicBezTo>
                  <a:pt x="17197" y="5024"/>
                  <a:pt x="16764" y="4888"/>
                  <a:pt x="16446" y="4738"/>
                </a:cubicBezTo>
                <a:cubicBezTo>
                  <a:pt x="16371" y="4703"/>
                  <a:pt x="16305" y="4617"/>
                  <a:pt x="16247" y="4589"/>
                </a:cubicBezTo>
                <a:cubicBezTo>
                  <a:pt x="16204" y="4568"/>
                  <a:pt x="16151" y="4565"/>
                  <a:pt x="16098" y="4539"/>
                </a:cubicBezTo>
                <a:cubicBezTo>
                  <a:pt x="15991" y="4487"/>
                  <a:pt x="15863" y="4414"/>
                  <a:pt x="15726" y="4366"/>
                </a:cubicBezTo>
                <a:cubicBezTo>
                  <a:pt x="15606" y="4324"/>
                  <a:pt x="15447" y="4269"/>
                  <a:pt x="15329" y="4242"/>
                </a:cubicBezTo>
                <a:cubicBezTo>
                  <a:pt x="15168" y="4205"/>
                  <a:pt x="14996" y="4184"/>
                  <a:pt x="14833" y="4167"/>
                </a:cubicBezTo>
                <a:cubicBezTo>
                  <a:pt x="14427" y="4124"/>
                  <a:pt x="14007" y="4134"/>
                  <a:pt x="13618" y="4192"/>
                </a:cubicBezTo>
                <a:cubicBezTo>
                  <a:pt x="13581" y="4198"/>
                  <a:pt x="13545" y="4257"/>
                  <a:pt x="13494" y="4266"/>
                </a:cubicBezTo>
                <a:cubicBezTo>
                  <a:pt x="13494" y="4266"/>
                  <a:pt x="13400" y="4285"/>
                  <a:pt x="13370" y="4291"/>
                </a:cubicBezTo>
                <a:cubicBezTo>
                  <a:pt x="12841" y="4393"/>
                  <a:pt x="12193" y="4496"/>
                  <a:pt x="11757" y="4837"/>
                </a:cubicBezTo>
                <a:cubicBezTo>
                  <a:pt x="11670" y="4905"/>
                  <a:pt x="11610" y="5007"/>
                  <a:pt x="11534" y="5085"/>
                </a:cubicBezTo>
                <a:cubicBezTo>
                  <a:pt x="11379" y="5244"/>
                  <a:pt x="11310" y="5359"/>
                  <a:pt x="11137" y="5457"/>
                </a:cubicBezTo>
                <a:cubicBezTo>
                  <a:pt x="10899" y="5591"/>
                  <a:pt x="10520" y="5711"/>
                  <a:pt x="10269" y="5779"/>
                </a:cubicBezTo>
                <a:cubicBezTo>
                  <a:pt x="9970" y="5861"/>
                  <a:pt x="9579" y="5928"/>
                  <a:pt x="9277" y="5953"/>
                </a:cubicBezTo>
                <a:cubicBezTo>
                  <a:pt x="8911" y="5983"/>
                  <a:pt x="7553" y="6140"/>
                  <a:pt x="7268" y="5904"/>
                </a:cubicBezTo>
                <a:cubicBezTo>
                  <a:pt x="7149" y="5806"/>
                  <a:pt x="7219" y="5838"/>
                  <a:pt x="7169" y="5680"/>
                </a:cubicBezTo>
                <a:cubicBezTo>
                  <a:pt x="7026" y="5233"/>
                  <a:pt x="7329" y="5446"/>
                  <a:pt x="7441" y="533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987640" y="1052640"/>
            <a:ext cx="2924280" cy="26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abic Typesetting"/>
              </a:rPr>
              <a:t>Pictures of police d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abic Typesetting"/>
              <a:ea typeface="Arabic Typesetting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676920" y="3429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547640" y="5076720"/>
            <a:ext cx="2571840" cy="1781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140360" y="510552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7591320" y="0"/>
            <a:ext cx="1552680" cy="1514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52680" cy="1514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0" y="5343480"/>
            <a:ext cx="1552680" cy="1514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7591320" y="5343480"/>
            <a:ext cx="1552680" cy="1514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5435640" y="0"/>
            <a:ext cx="2087640" cy="1563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0" y="2708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od and B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are helping families not to suff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make the world. saf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ing people ho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ent robberi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ent Steal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ent kidnapp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ould di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get injur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could be crowds and you don’t find th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Gungsuh"/>
              </a:rPr>
              <a:t>If I were police, I would be a dog handler cause I like animals!</a:t>
            </a:r>
            <a:br>
              <a:rPr sz="4000"/>
            </a:br>
            <a:r>
              <a:rPr b="0" lang="en-NZ" sz="4000" spc="-1" strike="noStrike">
                <a:solidFill>
                  <a:srgbClr val="ccecff"/>
                </a:solidFill>
                <a:latin typeface="Gungsuh"/>
              </a:rPr>
              <a:t>Thanks for watching!</a:t>
            </a:r>
            <a:br>
              <a:rPr sz="4000"/>
            </a:br>
            <a:r>
              <a:rPr b="0" lang="en-NZ" sz="4000" spc="-1" strike="noStrike">
                <a:solidFill>
                  <a:srgbClr val="ccecff"/>
                </a:solidFill>
                <a:latin typeface="Gungsuh"/>
              </a:rPr>
              <a:t>By: Siri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076480" cy="22003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819840" y="48862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156360" y="3141720"/>
            <a:ext cx="2628720" cy="1733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0" y="2349360"/>
            <a:ext cx="1908000" cy="1398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9360" y="3848040"/>
            <a:ext cx="857520" cy="1411200"/>
          </a:xfrm>
          <a:custGeom>
            <a:avLst/>
            <a:gdLst/>
            <a:ahLst/>
            <a:rect l="l" t="t" r="r" b="b"/>
            <a:pathLst>
              <a:path w="2382" h="3920">
                <a:moveTo>
                  <a:pt x="471" y="13370"/>
                </a:moveTo>
                <a:cubicBezTo>
                  <a:pt x="471" y="13560"/>
                  <a:pt x="471" y="13750"/>
                  <a:pt x="471" y="13940"/>
                </a:cubicBezTo>
                <a:cubicBezTo>
                  <a:pt x="486" y="13915"/>
                  <a:pt x="544" y="13823"/>
                  <a:pt x="546" y="13816"/>
                </a:cubicBezTo>
                <a:cubicBezTo>
                  <a:pt x="560" y="13774"/>
                  <a:pt x="592" y="13762"/>
                  <a:pt x="595" y="13717"/>
                </a:cubicBezTo>
                <a:cubicBezTo>
                  <a:pt x="600" y="13637"/>
                  <a:pt x="641" y="13632"/>
                  <a:pt x="645" y="13543"/>
                </a:cubicBezTo>
                <a:cubicBezTo>
                  <a:pt x="648" y="13487"/>
                  <a:pt x="684" y="13444"/>
                  <a:pt x="695" y="13419"/>
                </a:cubicBezTo>
                <a:cubicBezTo>
                  <a:pt x="707" y="13391"/>
                  <a:pt x="696" y="13357"/>
                  <a:pt x="719" y="13345"/>
                </a:cubicBezTo>
                <a:cubicBezTo>
                  <a:pt x="767" y="13321"/>
                  <a:pt x="884" y="13352"/>
                  <a:pt x="918" y="13370"/>
                </a:cubicBezTo>
                <a:cubicBezTo>
                  <a:pt x="968" y="13397"/>
                  <a:pt x="1037" y="13443"/>
                  <a:pt x="1067" y="13494"/>
                </a:cubicBezTo>
                <a:cubicBezTo>
                  <a:pt x="1087" y="13529"/>
                  <a:pt x="1125" y="13604"/>
                  <a:pt x="1141" y="13643"/>
                </a:cubicBezTo>
                <a:cubicBezTo>
                  <a:pt x="1155" y="13678"/>
                  <a:pt x="1166" y="13700"/>
                  <a:pt x="1166" y="13742"/>
                </a:cubicBezTo>
                <a:cubicBezTo>
                  <a:pt x="1166" y="13800"/>
                  <a:pt x="1166" y="13857"/>
                  <a:pt x="1166" y="13915"/>
                </a:cubicBezTo>
              </a:path>
              <a:path w="2382" h="3920">
                <a:moveTo>
                  <a:pt x="2406" y="14610"/>
                </a:moveTo>
                <a:cubicBezTo>
                  <a:pt x="2310" y="14610"/>
                  <a:pt x="2186" y="14630"/>
                  <a:pt x="2108" y="14585"/>
                </a:cubicBezTo>
                <a:cubicBezTo>
                  <a:pt x="2085" y="14572"/>
                  <a:pt x="2072" y="14527"/>
                  <a:pt x="2034" y="14511"/>
                </a:cubicBezTo>
                <a:cubicBezTo>
                  <a:pt x="1944" y="14474"/>
                  <a:pt x="1856" y="14488"/>
                  <a:pt x="1761" y="14486"/>
                </a:cubicBezTo>
                <a:cubicBezTo>
                  <a:pt x="1617" y="14483"/>
                  <a:pt x="1482" y="14507"/>
                  <a:pt x="1339" y="14511"/>
                </a:cubicBezTo>
                <a:cubicBezTo>
                  <a:pt x="1073" y="14518"/>
                  <a:pt x="769" y="14532"/>
                  <a:pt x="521" y="14486"/>
                </a:cubicBezTo>
                <a:cubicBezTo>
                  <a:pt x="471" y="14477"/>
                  <a:pt x="422" y="14443"/>
                  <a:pt x="372" y="14436"/>
                </a:cubicBezTo>
                <a:cubicBezTo>
                  <a:pt x="292" y="14425"/>
                  <a:pt x="205" y="14436"/>
                  <a:pt x="124" y="14436"/>
                </a:cubicBezTo>
                <a:cubicBezTo>
                  <a:pt x="119" y="14361"/>
                  <a:pt x="115" y="14308"/>
                  <a:pt x="99" y="14238"/>
                </a:cubicBezTo>
                <a:cubicBezTo>
                  <a:pt x="82" y="14163"/>
                  <a:pt x="39" y="14093"/>
                  <a:pt x="25" y="14015"/>
                </a:cubicBezTo>
                <a:cubicBezTo>
                  <a:pt x="3" y="13888"/>
                  <a:pt x="17" y="13710"/>
                  <a:pt x="50" y="13593"/>
                </a:cubicBezTo>
                <a:cubicBezTo>
                  <a:pt x="68" y="13527"/>
                  <a:pt x="84" y="13462"/>
                  <a:pt x="99" y="13395"/>
                </a:cubicBezTo>
                <a:cubicBezTo>
                  <a:pt x="118" y="13309"/>
                  <a:pt x="122" y="13239"/>
                  <a:pt x="124" y="13146"/>
                </a:cubicBezTo>
                <a:cubicBezTo>
                  <a:pt x="127" y="12987"/>
                  <a:pt x="136" y="12826"/>
                  <a:pt x="149" y="12675"/>
                </a:cubicBezTo>
                <a:cubicBezTo>
                  <a:pt x="155" y="12602"/>
                  <a:pt x="170" y="12518"/>
                  <a:pt x="174" y="12452"/>
                </a:cubicBezTo>
                <a:cubicBezTo>
                  <a:pt x="180" y="12359"/>
                  <a:pt x="193" y="12270"/>
                  <a:pt x="198" y="12179"/>
                </a:cubicBezTo>
                <a:cubicBezTo>
                  <a:pt x="205" y="12060"/>
                  <a:pt x="233" y="12048"/>
                  <a:pt x="273" y="11956"/>
                </a:cubicBezTo>
                <a:cubicBezTo>
                  <a:pt x="298" y="11897"/>
                  <a:pt x="312" y="11826"/>
                  <a:pt x="347" y="11782"/>
                </a:cubicBezTo>
                <a:cubicBezTo>
                  <a:pt x="390" y="11727"/>
                  <a:pt x="409" y="11680"/>
                  <a:pt x="446" y="11633"/>
                </a:cubicBezTo>
                <a:cubicBezTo>
                  <a:pt x="511" y="11552"/>
                  <a:pt x="564" y="11568"/>
                  <a:pt x="645" y="11534"/>
                </a:cubicBezTo>
                <a:cubicBezTo>
                  <a:pt x="702" y="11510"/>
                  <a:pt x="752" y="11477"/>
                  <a:pt x="794" y="11435"/>
                </a:cubicBezTo>
                <a:cubicBezTo>
                  <a:pt x="863" y="11366"/>
                  <a:pt x="894" y="11329"/>
                  <a:pt x="967" y="11261"/>
                </a:cubicBezTo>
                <a:cubicBezTo>
                  <a:pt x="1014" y="11218"/>
                  <a:pt x="1051" y="11172"/>
                  <a:pt x="1091" y="11137"/>
                </a:cubicBezTo>
                <a:cubicBezTo>
                  <a:pt x="1128" y="11105"/>
                  <a:pt x="1162" y="11108"/>
                  <a:pt x="1191" y="11088"/>
                </a:cubicBezTo>
                <a:cubicBezTo>
                  <a:pt x="1234" y="11058"/>
                  <a:pt x="1278" y="10991"/>
                  <a:pt x="1339" y="10964"/>
                </a:cubicBezTo>
                <a:cubicBezTo>
                  <a:pt x="1356" y="10964"/>
                  <a:pt x="1372" y="10964"/>
                  <a:pt x="1389" y="10964"/>
                </a:cubicBezTo>
                <a:cubicBezTo>
                  <a:pt x="1415" y="10922"/>
                  <a:pt x="1415" y="10892"/>
                  <a:pt x="1463" y="10840"/>
                </a:cubicBezTo>
                <a:cubicBezTo>
                  <a:pt x="1492" y="10808"/>
                  <a:pt x="1514" y="10763"/>
                  <a:pt x="1538" y="10740"/>
                </a:cubicBezTo>
                <a:cubicBezTo>
                  <a:pt x="1587" y="10693"/>
                  <a:pt x="1577" y="10719"/>
                  <a:pt x="1612" y="10691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3920" y="2813040"/>
            <a:ext cx="1054080" cy="2473200"/>
          </a:xfrm>
          <a:custGeom>
            <a:avLst/>
            <a:gdLst/>
            <a:ahLst/>
            <a:rect l="l" t="t" r="r" b="b"/>
            <a:pathLst>
              <a:path w="2928" h="6872">
                <a:moveTo>
                  <a:pt x="819" y="11559"/>
                </a:moveTo>
                <a:cubicBezTo>
                  <a:pt x="803" y="11617"/>
                  <a:pt x="807" y="11674"/>
                  <a:pt x="794" y="11733"/>
                </a:cubicBezTo>
                <a:cubicBezTo>
                  <a:pt x="770" y="11843"/>
                  <a:pt x="769" y="11941"/>
                  <a:pt x="769" y="12055"/>
                </a:cubicBezTo>
                <a:cubicBezTo>
                  <a:pt x="769" y="12152"/>
                  <a:pt x="751" y="12263"/>
                  <a:pt x="794" y="12353"/>
                </a:cubicBezTo>
                <a:cubicBezTo>
                  <a:pt x="834" y="12437"/>
                  <a:pt x="857" y="12472"/>
                  <a:pt x="943" y="12502"/>
                </a:cubicBezTo>
                <a:cubicBezTo>
                  <a:pt x="1070" y="12546"/>
                  <a:pt x="1290" y="12494"/>
                  <a:pt x="1414" y="12477"/>
                </a:cubicBezTo>
                <a:cubicBezTo>
                  <a:pt x="1497" y="12466"/>
                  <a:pt x="1470" y="12467"/>
                  <a:pt x="1488" y="12402"/>
                </a:cubicBezTo>
                <a:cubicBezTo>
                  <a:pt x="1515" y="12303"/>
                  <a:pt x="1538" y="12287"/>
                  <a:pt x="1538" y="12179"/>
                </a:cubicBezTo>
                <a:cubicBezTo>
                  <a:pt x="1538" y="12121"/>
                  <a:pt x="1522" y="12075"/>
                  <a:pt x="1513" y="12030"/>
                </a:cubicBezTo>
                <a:cubicBezTo>
                  <a:pt x="1497" y="11948"/>
                  <a:pt x="1439" y="11959"/>
                  <a:pt x="1389" y="11906"/>
                </a:cubicBezTo>
                <a:cubicBezTo>
                  <a:pt x="1372" y="11888"/>
                  <a:pt x="1352" y="11845"/>
                  <a:pt x="1339" y="11832"/>
                </a:cubicBezTo>
                <a:cubicBezTo>
                  <a:pt x="1312" y="11805"/>
                  <a:pt x="1275" y="11738"/>
                  <a:pt x="1265" y="11733"/>
                </a:cubicBezTo>
                <a:cubicBezTo>
                  <a:pt x="1236" y="11719"/>
                  <a:pt x="1194" y="11726"/>
                  <a:pt x="1166" y="11708"/>
                </a:cubicBezTo>
                <a:cubicBezTo>
                  <a:pt x="1118" y="11678"/>
                  <a:pt x="1125" y="11661"/>
                  <a:pt x="1067" y="11658"/>
                </a:cubicBezTo>
                <a:cubicBezTo>
                  <a:pt x="1018" y="11655"/>
                  <a:pt x="967" y="11658"/>
                  <a:pt x="918" y="11658"/>
                </a:cubicBezTo>
              </a:path>
              <a:path w="2928" h="6872">
                <a:moveTo>
                  <a:pt x="1662" y="11807"/>
                </a:moveTo>
                <a:cubicBezTo>
                  <a:pt x="1662" y="12005"/>
                  <a:pt x="1662" y="12204"/>
                  <a:pt x="1662" y="12402"/>
                </a:cubicBezTo>
                <a:cubicBezTo>
                  <a:pt x="1719" y="12402"/>
                  <a:pt x="1734" y="12398"/>
                  <a:pt x="1761" y="12378"/>
                </a:cubicBezTo>
                <a:cubicBezTo>
                  <a:pt x="1805" y="12347"/>
                  <a:pt x="1905" y="12329"/>
                  <a:pt x="1935" y="12303"/>
                </a:cubicBezTo>
                <a:cubicBezTo>
                  <a:pt x="1957" y="12284"/>
                  <a:pt x="1944" y="12259"/>
                  <a:pt x="1984" y="12254"/>
                </a:cubicBezTo>
                <a:cubicBezTo>
                  <a:pt x="2040" y="12247"/>
                  <a:pt x="2019" y="12273"/>
                  <a:pt x="2059" y="12278"/>
                </a:cubicBezTo>
                <a:cubicBezTo>
                  <a:pt x="2100" y="12283"/>
                  <a:pt x="2110" y="12296"/>
                  <a:pt x="2158" y="12303"/>
                </a:cubicBezTo>
                <a:cubicBezTo>
                  <a:pt x="2158" y="12350"/>
                  <a:pt x="2175" y="12366"/>
                  <a:pt x="2183" y="12402"/>
                </a:cubicBezTo>
                <a:cubicBezTo>
                  <a:pt x="2194" y="12455"/>
                  <a:pt x="2183" y="12522"/>
                  <a:pt x="2183" y="12576"/>
                </a:cubicBezTo>
              </a:path>
              <a:path w="2928" h="6872">
                <a:moveTo>
                  <a:pt x="1761" y="13246"/>
                </a:moveTo>
                <a:cubicBezTo>
                  <a:pt x="1748" y="13299"/>
                  <a:pt x="1736" y="13331"/>
                  <a:pt x="1736" y="13395"/>
                </a:cubicBezTo>
                <a:cubicBezTo>
                  <a:pt x="1736" y="13552"/>
                  <a:pt x="1736" y="13709"/>
                  <a:pt x="1736" y="13866"/>
                </a:cubicBezTo>
                <a:cubicBezTo>
                  <a:pt x="1857" y="13866"/>
                  <a:pt x="1998" y="13890"/>
                  <a:pt x="2108" y="13841"/>
                </a:cubicBezTo>
                <a:cubicBezTo>
                  <a:pt x="2183" y="13807"/>
                  <a:pt x="2235" y="13780"/>
                  <a:pt x="2307" y="13742"/>
                </a:cubicBezTo>
                <a:cubicBezTo>
                  <a:pt x="2377" y="13705"/>
                  <a:pt x="2381" y="13709"/>
                  <a:pt x="2431" y="13643"/>
                </a:cubicBezTo>
                <a:cubicBezTo>
                  <a:pt x="2464" y="13599"/>
                  <a:pt x="2480" y="13600"/>
                  <a:pt x="2480" y="13543"/>
                </a:cubicBezTo>
                <a:cubicBezTo>
                  <a:pt x="2480" y="13476"/>
                  <a:pt x="2474" y="13426"/>
                  <a:pt x="2456" y="13370"/>
                </a:cubicBezTo>
                <a:cubicBezTo>
                  <a:pt x="2437" y="13311"/>
                  <a:pt x="2390" y="13320"/>
                  <a:pt x="2332" y="13320"/>
                </a:cubicBezTo>
                <a:cubicBezTo>
                  <a:pt x="2249" y="13320"/>
                  <a:pt x="2173" y="13295"/>
                  <a:pt x="2084" y="13295"/>
                </a:cubicBezTo>
                <a:cubicBezTo>
                  <a:pt x="2009" y="13295"/>
                  <a:pt x="1935" y="13295"/>
                  <a:pt x="1860" y="13295"/>
                </a:cubicBezTo>
              </a:path>
              <a:path w="2928" h="6872">
                <a:moveTo>
                  <a:pt x="3175" y="12725"/>
                </a:moveTo>
                <a:cubicBezTo>
                  <a:pt x="3175" y="12973"/>
                  <a:pt x="3175" y="13221"/>
                  <a:pt x="3175" y="13469"/>
                </a:cubicBezTo>
              </a:path>
              <a:path w="2928" h="6872">
                <a:moveTo>
                  <a:pt x="2381" y="14684"/>
                </a:moveTo>
                <a:cubicBezTo>
                  <a:pt x="2386" y="14682"/>
                  <a:pt x="2454" y="14639"/>
                  <a:pt x="2480" y="14635"/>
                </a:cubicBezTo>
                <a:cubicBezTo>
                  <a:pt x="2535" y="14626"/>
                  <a:pt x="2557" y="14630"/>
                  <a:pt x="2604" y="14610"/>
                </a:cubicBezTo>
                <a:cubicBezTo>
                  <a:pt x="2637" y="14596"/>
                  <a:pt x="2660" y="14574"/>
                  <a:pt x="2679" y="14560"/>
                </a:cubicBezTo>
                <a:cubicBezTo>
                  <a:pt x="2703" y="14542"/>
                  <a:pt x="2706" y="14512"/>
                  <a:pt x="2729" y="14486"/>
                </a:cubicBezTo>
                <a:cubicBezTo>
                  <a:pt x="2752" y="14460"/>
                  <a:pt x="2791" y="14421"/>
                  <a:pt x="2803" y="14412"/>
                </a:cubicBezTo>
                <a:cubicBezTo>
                  <a:pt x="2838" y="14386"/>
                  <a:pt x="2855" y="14381"/>
                  <a:pt x="2877" y="14362"/>
                </a:cubicBezTo>
                <a:cubicBezTo>
                  <a:pt x="2941" y="14305"/>
                  <a:pt x="2987" y="14346"/>
                  <a:pt x="3051" y="14312"/>
                </a:cubicBezTo>
                <a:cubicBezTo>
                  <a:pt x="3088" y="14292"/>
                  <a:pt x="3149" y="14203"/>
                  <a:pt x="3175" y="14163"/>
                </a:cubicBezTo>
                <a:cubicBezTo>
                  <a:pt x="3218" y="14098"/>
                  <a:pt x="3252" y="14071"/>
                  <a:pt x="3299" y="14015"/>
                </a:cubicBezTo>
                <a:cubicBezTo>
                  <a:pt x="3342" y="13963"/>
                  <a:pt x="3322" y="13970"/>
                  <a:pt x="3349" y="13915"/>
                </a:cubicBezTo>
                <a:cubicBezTo>
                  <a:pt x="3381" y="13899"/>
                  <a:pt x="3420" y="13896"/>
                  <a:pt x="3448" y="13866"/>
                </a:cubicBezTo>
                <a:cubicBezTo>
                  <a:pt x="3461" y="13852"/>
                  <a:pt x="3486" y="13788"/>
                  <a:pt x="3497" y="13767"/>
                </a:cubicBezTo>
                <a:cubicBezTo>
                  <a:pt x="3507" y="13746"/>
                  <a:pt x="3518" y="13742"/>
                  <a:pt x="3522" y="13692"/>
                </a:cubicBezTo>
                <a:cubicBezTo>
                  <a:pt x="3529" y="13600"/>
                  <a:pt x="3539" y="13498"/>
                  <a:pt x="3547" y="13419"/>
                </a:cubicBezTo>
                <a:cubicBezTo>
                  <a:pt x="3554" y="13350"/>
                  <a:pt x="3541" y="13301"/>
                  <a:pt x="3522" y="13246"/>
                </a:cubicBezTo>
                <a:cubicBezTo>
                  <a:pt x="3505" y="13195"/>
                  <a:pt x="3491" y="13152"/>
                  <a:pt x="3473" y="13097"/>
                </a:cubicBezTo>
                <a:cubicBezTo>
                  <a:pt x="3460" y="13056"/>
                  <a:pt x="3455" y="12978"/>
                  <a:pt x="3423" y="12948"/>
                </a:cubicBezTo>
                <a:cubicBezTo>
                  <a:pt x="3398" y="12925"/>
                  <a:pt x="3308" y="12887"/>
                  <a:pt x="3299" y="12874"/>
                </a:cubicBezTo>
                <a:cubicBezTo>
                  <a:pt x="3269" y="12833"/>
                  <a:pt x="3260" y="12792"/>
                  <a:pt x="3225" y="12750"/>
                </a:cubicBezTo>
                <a:cubicBezTo>
                  <a:pt x="3208" y="12729"/>
                  <a:pt x="3149" y="12687"/>
                  <a:pt x="3125" y="12650"/>
                </a:cubicBezTo>
                <a:cubicBezTo>
                  <a:pt x="3104" y="12619"/>
                  <a:pt x="3056" y="12540"/>
                  <a:pt x="3026" y="12526"/>
                </a:cubicBezTo>
                <a:cubicBezTo>
                  <a:pt x="2985" y="12507"/>
                  <a:pt x="2914" y="12506"/>
                  <a:pt x="2877" y="12477"/>
                </a:cubicBezTo>
                <a:cubicBezTo>
                  <a:pt x="2841" y="12449"/>
                  <a:pt x="2818" y="12419"/>
                  <a:pt x="2778" y="12402"/>
                </a:cubicBezTo>
                <a:cubicBezTo>
                  <a:pt x="2695" y="12366"/>
                  <a:pt x="2639" y="12352"/>
                  <a:pt x="2555" y="12328"/>
                </a:cubicBezTo>
                <a:cubicBezTo>
                  <a:pt x="2530" y="12321"/>
                  <a:pt x="2485" y="12313"/>
                  <a:pt x="2456" y="12303"/>
                </a:cubicBezTo>
                <a:cubicBezTo>
                  <a:pt x="2448" y="12295"/>
                  <a:pt x="2439" y="12286"/>
                  <a:pt x="2431" y="12278"/>
                </a:cubicBezTo>
              </a:path>
              <a:path w="2928" h="6872">
                <a:moveTo>
                  <a:pt x="2505" y="12353"/>
                </a:moveTo>
                <a:cubicBezTo>
                  <a:pt x="2458" y="12311"/>
                  <a:pt x="2394" y="12279"/>
                  <a:pt x="2356" y="12229"/>
                </a:cubicBezTo>
                <a:cubicBezTo>
                  <a:pt x="2330" y="12195"/>
                  <a:pt x="2288" y="12129"/>
                  <a:pt x="2282" y="12105"/>
                </a:cubicBezTo>
                <a:cubicBezTo>
                  <a:pt x="2282" y="12080"/>
                  <a:pt x="2282" y="12072"/>
                  <a:pt x="2282" y="12055"/>
                </a:cubicBezTo>
                <a:cubicBezTo>
                  <a:pt x="2095" y="11993"/>
                  <a:pt x="1979" y="11771"/>
                  <a:pt x="1836" y="11633"/>
                </a:cubicBezTo>
                <a:cubicBezTo>
                  <a:pt x="1689" y="11491"/>
                  <a:pt x="1509" y="11350"/>
                  <a:pt x="1339" y="11237"/>
                </a:cubicBezTo>
                <a:cubicBezTo>
                  <a:pt x="1284" y="11200"/>
                  <a:pt x="1236" y="11148"/>
                  <a:pt x="1215" y="11088"/>
                </a:cubicBezTo>
                <a:cubicBezTo>
                  <a:pt x="1215" y="11080"/>
                  <a:pt x="1215" y="11071"/>
                  <a:pt x="1215" y="11063"/>
                </a:cubicBezTo>
              </a:path>
              <a:path w="2928" h="6872">
                <a:moveTo>
                  <a:pt x="1612" y="10691"/>
                </a:moveTo>
                <a:cubicBezTo>
                  <a:pt x="1592" y="10673"/>
                  <a:pt x="1500" y="10605"/>
                  <a:pt x="1488" y="10592"/>
                </a:cubicBezTo>
                <a:cubicBezTo>
                  <a:pt x="1448" y="10548"/>
                  <a:pt x="1453" y="10556"/>
                  <a:pt x="1389" y="10517"/>
                </a:cubicBezTo>
                <a:cubicBezTo>
                  <a:pt x="1333" y="10483"/>
                  <a:pt x="1278" y="10445"/>
                  <a:pt x="1215" y="10418"/>
                </a:cubicBezTo>
                <a:cubicBezTo>
                  <a:pt x="1171" y="10399"/>
                  <a:pt x="1105" y="10382"/>
                  <a:pt x="1067" y="10344"/>
                </a:cubicBezTo>
                <a:cubicBezTo>
                  <a:pt x="1036" y="10313"/>
                  <a:pt x="1036" y="10240"/>
                  <a:pt x="1017" y="10220"/>
                </a:cubicBezTo>
                <a:cubicBezTo>
                  <a:pt x="987" y="10188"/>
                  <a:pt x="989" y="10187"/>
                  <a:pt x="967" y="10145"/>
                </a:cubicBezTo>
                <a:cubicBezTo>
                  <a:pt x="912" y="10041"/>
                  <a:pt x="877" y="9961"/>
                  <a:pt x="843" y="9847"/>
                </a:cubicBezTo>
                <a:cubicBezTo>
                  <a:pt x="825" y="9785"/>
                  <a:pt x="809" y="9719"/>
                  <a:pt x="794" y="9649"/>
                </a:cubicBezTo>
                <a:cubicBezTo>
                  <a:pt x="782" y="9595"/>
                  <a:pt x="751" y="9557"/>
                  <a:pt x="744" y="9500"/>
                </a:cubicBezTo>
                <a:cubicBezTo>
                  <a:pt x="737" y="9444"/>
                  <a:pt x="733" y="9405"/>
                  <a:pt x="719" y="9351"/>
                </a:cubicBezTo>
                <a:cubicBezTo>
                  <a:pt x="704" y="9294"/>
                  <a:pt x="700" y="9267"/>
                  <a:pt x="695" y="9203"/>
                </a:cubicBezTo>
                <a:cubicBezTo>
                  <a:pt x="667" y="9154"/>
                  <a:pt x="624" y="9092"/>
                  <a:pt x="620" y="8979"/>
                </a:cubicBezTo>
                <a:cubicBezTo>
                  <a:pt x="614" y="8823"/>
                  <a:pt x="598" y="8623"/>
                  <a:pt x="645" y="8483"/>
                </a:cubicBezTo>
                <a:cubicBezTo>
                  <a:pt x="660" y="8440"/>
                  <a:pt x="676" y="8392"/>
                  <a:pt x="695" y="8359"/>
                </a:cubicBezTo>
                <a:cubicBezTo>
                  <a:pt x="729" y="8300"/>
                  <a:pt x="744" y="8244"/>
                  <a:pt x="769" y="8186"/>
                </a:cubicBezTo>
                <a:cubicBezTo>
                  <a:pt x="790" y="8137"/>
                  <a:pt x="817" y="8052"/>
                  <a:pt x="843" y="8012"/>
                </a:cubicBezTo>
                <a:cubicBezTo>
                  <a:pt x="872" y="7967"/>
                  <a:pt x="880" y="7946"/>
                  <a:pt x="918" y="7913"/>
                </a:cubicBezTo>
                <a:cubicBezTo>
                  <a:pt x="943" y="7891"/>
                  <a:pt x="1010" y="7877"/>
                  <a:pt x="1042" y="7863"/>
                </a:cubicBezTo>
                <a:cubicBezTo>
                  <a:pt x="1081" y="7846"/>
                  <a:pt x="1098" y="7850"/>
                  <a:pt x="1141" y="7838"/>
                </a:cubicBezTo>
                <a:cubicBezTo>
                  <a:pt x="1182" y="7827"/>
                  <a:pt x="1197" y="7815"/>
                  <a:pt x="1265" y="7813"/>
                </a:cubicBezTo>
                <a:cubicBezTo>
                  <a:pt x="1315" y="7812"/>
                  <a:pt x="1364" y="7813"/>
                  <a:pt x="1414" y="781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33640" y="493884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150" y="13717"/>
                </a:moveTo>
                <a:cubicBezTo>
                  <a:pt x="3150" y="13725"/>
                  <a:pt x="3150" y="13734"/>
                  <a:pt x="3150" y="1374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1403280" y="357336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olice also search for lost people, and rescue people who got lost in the bush, or a big mountain. Some police dogs are trained to search for lost people. All dogs need to know how to jump through thing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514760"/>
            <a:ext cx="1952640" cy="2343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7920" y="4200480"/>
            <a:ext cx="2389320" cy="2676600"/>
          </a:xfrm>
          <a:custGeom>
            <a:avLst/>
            <a:gdLst/>
            <a:ahLst/>
            <a:rect l="l" t="t" r="r" b="b"/>
            <a:pathLst>
              <a:path w="6642" h="7436">
                <a:moveTo>
                  <a:pt x="-26" y="11668"/>
                </a:moveTo>
                <a:cubicBezTo>
                  <a:pt x="-26" y="11686"/>
                  <a:pt x="-26" y="11703"/>
                  <a:pt x="-26" y="11721"/>
                </a:cubicBezTo>
                <a:cubicBezTo>
                  <a:pt x="132" y="11756"/>
                  <a:pt x="308" y="11831"/>
                  <a:pt x="450" y="11853"/>
                </a:cubicBezTo>
                <a:cubicBezTo>
                  <a:pt x="1308" y="11984"/>
                  <a:pt x="2215" y="11795"/>
                  <a:pt x="3069" y="11933"/>
                </a:cubicBezTo>
                <a:cubicBezTo>
                  <a:pt x="3144" y="11945"/>
                  <a:pt x="3159" y="11936"/>
                  <a:pt x="3228" y="11959"/>
                </a:cubicBezTo>
                <a:cubicBezTo>
                  <a:pt x="3327" y="11991"/>
                  <a:pt x="3360" y="11968"/>
                  <a:pt x="3440" y="12039"/>
                </a:cubicBezTo>
                <a:cubicBezTo>
                  <a:pt x="3450" y="12048"/>
                  <a:pt x="3510" y="12132"/>
                  <a:pt x="3519" y="12144"/>
                </a:cubicBezTo>
                <a:cubicBezTo>
                  <a:pt x="3566" y="12202"/>
                  <a:pt x="3572" y="12265"/>
                  <a:pt x="3625" y="12330"/>
                </a:cubicBezTo>
                <a:cubicBezTo>
                  <a:pt x="3646" y="12356"/>
                  <a:pt x="3657" y="12420"/>
                  <a:pt x="3678" y="12435"/>
                </a:cubicBezTo>
                <a:cubicBezTo>
                  <a:pt x="3707" y="12455"/>
                  <a:pt x="3755" y="12447"/>
                  <a:pt x="3784" y="12462"/>
                </a:cubicBezTo>
                <a:cubicBezTo>
                  <a:pt x="3865" y="12504"/>
                  <a:pt x="3934" y="12521"/>
                  <a:pt x="4022" y="12541"/>
                </a:cubicBezTo>
                <a:cubicBezTo>
                  <a:pt x="4079" y="12554"/>
                  <a:pt x="4105" y="12560"/>
                  <a:pt x="4180" y="12568"/>
                </a:cubicBezTo>
                <a:cubicBezTo>
                  <a:pt x="4635" y="12617"/>
                  <a:pt x="5061" y="12539"/>
                  <a:pt x="5503" y="12647"/>
                </a:cubicBezTo>
                <a:cubicBezTo>
                  <a:pt x="5535" y="12655"/>
                  <a:pt x="5782" y="12671"/>
                  <a:pt x="5821" y="12700"/>
                </a:cubicBezTo>
                <a:cubicBezTo>
                  <a:pt x="5883" y="12746"/>
                  <a:pt x="5843" y="12783"/>
                  <a:pt x="5874" y="12832"/>
                </a:cubicBezTo>
                <a:cubicBezTo>
                  <a:pt x="5958" y="12966"/>
                  <a:pt x="5958" y="13135"/>
                  <a:pt x="5980" y="13282"/>
                </a:cubicBezTo>
                <a:cubicBezTo>
                  <a:pt x="5997" y="13397"/>
                  <a:pt x="5993" y="13511"/>
                  <a:pt x="6006" y="13626"/>
                </a:cubicBezTo>
                <a:cubicBezTo>
                  <a:pt x="6025" y="13792"/>
                  <a:pt x="6053" y="13999"/>
                  <a:pt x="6059" y="14155"/>
                </a:cubicBezTo>
                <a:cubicBezTo>
                  <a:pt x="6069" y="14418"/>
                  <a:pt x="6026" y="14678"/>
                  <a:pt x="6112" y="14923"/>
                </a:cubicBezTo>
                <a:cubicBezTo>
                  <a:pt x="6155" y="15046"/>
                  <a:pt x="6136" y="15074"/>
                  <a:pt x="6244" y="15161"/>
                </a:cubicBezTo>
                <a:cubicBezTo>
                  <a:pt x="6273" y="15184"/>
                  <a:pt x="6286" y="15167"/>
                  <a:pt x="6324" y="15187"/>
                </a:cubicBezTo>
                <a:cubicBezTo>
                  <a:pt x="6360" y="15206"/>
                  <a:pt x="6424" y="15184"/>
                  <a:pt x="6456" y="15214"/>
                </a:cubicBezTo>
                <a:cubicBezTo>
                  <a:pt x="6489" y="15244"/>
                  <a:pt x="6481" y="15252"/>
                  <a:pt x="6509" y="15293"/>
                </a:cubicBezTo>
                <a:cubicBezTo>
                  <a:pt x="6553" y="15359"/>
                  <a:pt x="6545" y="15381"/>
                  <a:pt x="6562" y="15452"/>
                </a:cubicBezTo>
                <a:cubicBezTo>
                  <a:pt x="6594" y="15586"/>
                  <a:pt x="6586" y="15709"/>
                  <a:pt x="6588" y="15849"/>
                </a:cubicBezTo>
                <a:cubicBezTo>
                  <a:pt x="6590" y="16009"/>
                  <a:pt x="6623" y="16233"/>
                  <a:pt x="6562" y="16378"/>
                </a:cubicBezTo>
                <a:cubicBezTo>
                  <a:pt x="6555" y="16396"/>
                  <a:pt x="6472" y="16443"/>
                  <a:pt x="6456" y="16484"/>
                </a:cubicBezTo>
                <a:cubicBezTo>
                  <a:pt x="6441" y="16522"/>
                  <a:pt x="6442" y="16512"/>
                  <a:pt x="6429" y="16563"/>
                </a:cubicBezTo>
                <a:cubicBezTo>
                  <a:pt x="6416" y="16614"/>
                  <a:pt x="6410" y="16659"/>
                  <a:pt x="6403" y="16722"/>
                </a:cubicBezTo>
                <a:cubicBezTo>
                  <a:pt x="6387" y="16868"/>
                  <a:pt x="6417" y="16968"/>
                  <a:pt x="6456" y="17066"/>
                </a:cubicBezTo>
                <a:cubicBezTo>
                  <a:pt x="6473" y="17109"/>
                  <a:pt x="6494" y="17115"/>
                  <a:pt x="6509" y="17145"/>
                </a:cubicBezTo>
                <a:cubicBezTo>
                  <a:pt x="6530" y="17185"/>
                  <a:pt x="6549" y="17208"/>
                  <a:pt x="6562" y="17251"/>
                </a:cubicBezTo>
                <a:cubicBezTo>
                  <a:pt x="6575" y="17294"/>
                  <a:pt x="6605" y="17307"/>
                  <a:pt x="6615" y="17357"/>
                </a:cubicBezTo>
                <a:cubicBezTo>
                  <a:pt x="6637" y="17469"/>
                  <a:pt x="6661" y="17802"/>
                  <a:pt x="6588" y="17886"/>
                </a:cubicBezTo>
                <a:cubicBezTo>
                  <a:pt x="6582" y="17893"/>
                  <a:pt x="6492" y="17902"/>
                  <a:pt x="6482" y="17912"/>
                </a:cubicBezTo>
                <a:cubicBezTo>
                  <a:pt x="6456" y="17912"/>
                  <a:pt x="6447" y="17912"/>
                  <a:pt x="6429" y="17912"/>
                </a:cubicBezTo>
                <a:cubicBezTo>
                  <a:pt x="6407" y="17990"/>
                  <a:pt x="6405" y="18037"/>
                  <a:pt x="6376" y="18124"/>
                </a:cubicBezTo>
                <a:cubicBezTo>
                  <a:pt x="6320" y="18295"/>
                  <a:pt x="6236" y="18474"/>
                  <a:pt x="6191" y="18653"/>
                </a:cubicBezTo>
                <a:cubicBezTo>
                  <a:pt x="6162" y="18766"/>
                  <a:pt x="6122" y="18764"/>
                  <a:pt x="6165" y="18838"/>
                </a:cubicBezTo>
                <a:cubicBezTo>
                  <a:pt x="6208" y="18912"/>
                  <a:pt x="6272" y="18858"/>
                  <a:pt x="6324" y="18891"/>
                </a:cubicBezTo>
                <a:cubicBezTo>
                  <a:pt x="6353" y="18910"/>
                  <a:pt x="6379" y="18903"/>
                  <a:pt x="6403" y="18918"/>
                </a:cubicBezTo>
                <a:cubicBezTo>
                  <a:pt x="6377" y="18961"/>
                  <a:pt x="6412" y="19018"/>
                  <a:pt x="6376" y="19050"/>
                </a:cubicBezTo>
                <a:cubicBezTo>
                  <a:pt x="6347" y="19075"/>
                  <a:pt x="6384" y="19033"/>
                  <a:pt x="6350" y="19050"/>
                </a:cubicBezTo>
                <a:cubicBezTo>
                  <a:pt x="6286" y="19083"/>
                  <a:pt x="6307" y="19112"/>
                  <a:pt x="6218" y="19103"/>
                </a:cubicBezTo>
                <a:cubicBezTo>
                  <a:pt x="6218" y="19068"/>
                  <a:pt x="6218" y="19050"/>
                  <a:pt x="6218" y="19024"/>
                </a:cubicBezTo>
                <a:cubicBezTo>
                  <a:pt x="6186" y="19038"/>
                  <a:pt x="6226" y="19044"/>
                  <a:pt x="6191" y="19050"/>
                </a:cubicBezTo>
                <a:cubicBezTo>
                  <a:pt x="6145" y="19058"/>
                  <a:pt x="6212" y="19080"/>
                  <a:pt x="6165" y="19076"/>
                </a:cubicBezTo>
                <a:cubicBezTo>
                  <a:pt x="6085" y="19069"/>
                  <a:pt x="6239" y="19036"/>
                  <a:pt x="6138" y="19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2200" y="1660680"/>
            <a:ext cx="115920" cy="1474560"/>
          </a:xfrm>
          <a:custGeom>
            <a:avLst/>
            <a:gdLst/>
            <a:ahLst/>
            <a:rect l="l" t="t" r="r" b="b"/>
            <a:pathLst>
              <a:path w="323" h="4093">
                <a:moveTo>
                  <a:pt x="893" y="4614"/>
                </a:moveTo>
                <a:cubicBezTo>
                  <a:pt x="893" y="4932"/>
                  <a:pt x="896" y="5242"/>
                  <a:pt x="943" y="5556"/>
                </a:cubicBezTo>
                <a:cubicBezTo>
                  <a:pt x="972" y="5754"/>
                  <a:pt x="971" y="5955"/>
                  <a:pt x="1017" y="6152"/>
                </a:cubicBezTo>
                <a:cubicBezTo>
                  <a:pt x="1066" y="6362"/>
                  <a:pt x="1081" y="6561"/>
                  <a:pt x="1116" y="6772"/>
                </a:cubicBezTo>
                <a:cubicBezTo>
                  <a:pt x="1137" y="6898"/>
                  <a:pt x="1178" y="7017"/>
                  <a:pt x="1191" y="7144"/>
                </a:cubicBezTo>
                <a:cubicBezTo>
                  <a:pt x="1201" y="7245"/>
                  <a:pt x="1215" y="7338"/>
                  <a:pt x="1215" y="7441"/>
                </a:cubicBezTo>
                <a:cubicBezTo>
                  <a:pt x="1215" y="7855"/>
                  <a:pt x="1215" y="8268"/>
                  <a:pt x="1215" y="8682"/>
                </a:cubicBezTo>
                <a:cubicBezTo>
                  <a:pt x="1215" y="8625"/>
                  <a:pt x="1215" y="8615"/>
                  <a:pt x="1215" y="8558"/>
                </a:cubicBezTo>
              </a:path>
            </a:pathLst>
          </a:custGeom>
          <a:noFill/>
          <a:ln cap="sq" w="228600">
            <a:solidFill>
              <a:srgbClr val="ff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8120" y="2581200"/>
            <a:ext cx="2963880" cy="866880"/>
          </a:xfrm>
          <a:custGeom>
            <a:avLst/>
            <a:gdLst/>
            <a:ahLst/>
            <a:rect l="l" t="t" r="r" b="b"/>
            <a:pathLst>
              <a:path w="8237" h="2407">
                <a:moveTo>
                  <a:pt x="1215" y="8384"/>
                </a:moveTo>
                <a:cubicBezTo>
                  <a:pt x="1234" y="8319"/>
                  <a:pt x="1241" y="8253"/>
                  <a:pt x="1265" y="8186"/>
                </a:cubicBezTo>
                <a:cubicBezTo>
                  <a:pt x="1295" y="8104"/>
                  <a:pt x="1325" y="8043"/>
                  <a:pt x="1364" y="7962"/>
                </a:cubicBezTo>
                <a:cubicBezTo>
                  <a:pt x="1418" y="7851"/>
                  <a:pt x="1478" y="7707"/>
                  <a:pt x="1538" y="7615"/>
                </a:cubicBezTo>
                <a:cubicBezTo>
                  <a:pt x="1549" y="7599"/>
                  <a:pt x="1594" y="7571"/>
                  <a:pt x="1612" y="7541"/>
                </a:cubicBezTo>
                <a:cubicBezTo>
                  <a:pt x="1630" y="7510"/>
                  <a:pt x="1643" y="7449"/>
                  <a:pt x="1662" y="7417"/>
                </a:cubicBezTo>
                <a:cubicBezTo>
                  <a:pt x="1697" y="7360"/>
                  <a:pt x="1732" y="7332"/>
                  <a:pt x="1761" y="7268"/>
                </a:cubicBezTo>
                <a:cubicBezTo>
                  <a:pt x="1775" y="7237"/>
                  <a:pt x="1773" y="7201"/>
                  <a:pt x="1786" y="7169"/>
                </a:cubicBezTo>
                <a:cubicBezTo>
                  <a:pt x="1832" y="7192"/>
                  <a:pt x="1925" y="7181"/>
                  <a:pt x="1960" y="7218"/>
                </a:cubicBezTo>
                <a:cubicBezTo>
                  <a:pt x="1982" y="7242"/>
                  <a:pt x="2017" y="7336"/>
                  <a:pt x="2034" y="7367"/>
                </a:cubicBezTo>
                <a:cubicBezTo>
                  <a:pt x="2059" y="7413"/>
                  <a:pt x="2085" y="7493"/>
                  <a:pt x="2108" y="7541"/>
                </a:cubicBezTo>
                <a:cubicBezTo>
                  <a:pt x="2144" y="7615"/>
                  <a:pt x="2165" y="7715"/>
                  <a:pt x="2232" y="7789"/>
                </a:cubicBezTo>
                <a:cubicBezTo>
                  <a:pt x="2307" y="7872"/>
                  <a:pt x="2439" y="7998"/>
                  <a:pt x="2530" y="8062"/>
                </a:cubicBezTo>
                <a:cubicBezTo>
                  <a:pt x="2719" y="8194"/>
                  <a:pt x="2957" y="8308"/>
                  <a:pt x="3175" y="8384"/>
                </a:cubicBezTo>
                <a:cubicBezTo>
                  <a:pt x="3398" y="8462"/>
                  <a:pt x="3618" y="8520"/>
                  <a:pt x="3845" y="8582"/>
                </a:cubicBezTo>
                <a:cubicBezTo>
                  <a:pt x="4065" y="8642"/>
                  <a:pt x="4264" y="8666"/>
                  <a:pt x="4490" y="8682"/>
                </a:cubicBezTo>
                <a:cubicBezTo>
                  <a:pt x="4681" y="8695"/>
                  <a:pt x="4994" y="8732"/>
                  <a:pt x="5159" y="8632"/>
                </a:cubicBezTo>
                <a:cubicBezTo>
                  <a:pt x="5232" y="8588"/>
                  <a:pt x="5297" y="8448"/>
                  <a:pt x="5358" y="8384"/>
                </a:cubicBezTo>
                <a:cubicBezTo>
                  <a:pt x="5468" y="8270"/>
                  <a:pt x="5580" y="8182"/>
                  <a:pt x="5705" y="8086"/>
                </a:cubicBezTo>
                <a:cubicBezTo>
                  <a:pt x="5856" y="7970"/>
                  <a:pt x="6000" y="7888"/>
                  <a:pt x="6176" y="7813"/>
                </a:cubicBezTo>
                <a:cubicBezTo>
                  <a:pt x="6361" y="7734"/>
                  <a:pt x="6560" y="7684"/>
                  <a:pt x="6747" y="7615"/>
                </a:cubicBezTo>
                <a:cubicBezTo>
                  <a:pt x="6780" y="7603"/>
                  <a:pt x="6764" y="7603"/>
                  <a:pt x="6796" y="7590"/>
                </a:cubicBezTo>
                <a:cubicBezTo>
                  <a:pt x="6626" y="7713"/>
                  <a:pt x="6458" y="7780"/>
                  <a:pt x="6276" y="7888"/>
                </a:cubicBezTo>
                <a:cubicBezTo>
                  <a:pt x="6067" y="8011"/>
                  <a:pt x="5795" y="8161"/>
                  <a:pt x="5680" y="8384"/>
                </a:cubicBezTo>
                <a:cubicBezTo>
                  <a:pt x="5625" y="8491"/>
                  <a:pt x="5627" y="8772"/>
                  <a:pt x="5680" y="8880"/>
                </a:cubicBezTo>
                <a:cubicBezTo>
                  <a:pt x="5786" y="9096"/>
                  <a:pt x="6229" y="9188"/>
                  <a:pt x="6424" y="9252"/>
                </a:cubicBezTo>
                <a:cubicBezTo>
                  <a:pt x="6917" y="9415"/>
                  <a:pt x="7344" y="9509"/>
                  <a:pt x="7863" y="9550"/>
                </a:cubicBezTo>
                <a:cubicBezTo>
                  <a:pt x="8301" y="9585"/>
                  <a:pt x="8756" y="9600"/>
                  <a:pt x="9178" y="9451"/>
                </a:cubicBezTo>
                <a:cubicBezTo>
                  <a:pt x="9280" y="9415"/>
                  <a:pt x="9356" y="9347"/>
                  <a:pt x="9451" y="9302"/>
                </a:cubicBezTo>
                <a:cubicBezTo>
                  <a:pt x="9237" y="9309"/>
                  <a:pt x="9109" y="9326"/>
                  <a:pt x="8905" y="9401"/>
                </a:cubicBezTo>
              </a:path>
            </a:pathLst>
          </a:custGeom>
          <a:noFill/>
          <a:ln cap="sq" w="228600">
            <a:solidFill>
              <a:srgbClr val="ff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olice have ranks.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ese are the ranks of a different country: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1.Cheifinspector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2.Superintendent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3.Chief superintendent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4.Assistant Chief Constable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5.Deputy Chief Constable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6.Chief Constab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2440" y="-55440"/>
            <a:ext cx="8782200" cy="6951600"/>
          </a:xfrm>
          <a:custGeom>
            <a:avLst/>
            <a:gdLst/>
            <a:ahLst/>
            <a:rect l="l" t="t" r="r" b="b"/>
            <a:pathLst>
              <a:path w="24396" h="19316">
                <a:moveTo>
                  <a:pt x="1402" y="0"/>
                </a:moveTo>
                <a:cubicBezTo>
                  <a:pt x="1309" y="433"/>
                  <a:pt x="1197" y="883"/>
                  <a:pt x="1111" y="1323"/>
                </a:cubicBezTo>
                <a:cubicBezTo>
                  <a:pt x="1041" y="1682"/>
                  <a:pt x="995" y="1982"/>
                  <a:pt x="979" y="2355"/>
                </a:cubicBezTo>
                <a:cubicBezTo>
                  <a:pt x="961" y="2771"/>
                  <a:pt x="756" y="4224"/>
                  <a:pt x="1032" y="4577"/>
                </a:cubicBezTo>
                <a:cubicBezTo>
                  <a:pt x="1082" y="4642"/>
                  <a:pt x="1100" y="4646"/>
                  <a:pt x="1138" y="4683"/>
                </a:cubicBezTo>
                <a:cubicBezTo>
                  <a:pt x="1258" y="4800"/>
                  <a:pt x="1680" y="4844"/>
                  <a:pt x="1826" y="4921"/>
                </a:cubicBezTo>
                <a:cubicBezTo>
                  <a:pt x="2158" y="5096"/>
                  <a:pt x="2428" y="5106"/>
                  <a:pt x="2672" y="5477"/>
                </a:cubicBezTo>
                <a:cubicBezTo>
                  <a:pt x="2754" y="5601"/>
                  <a:pt x="2782" y="5728"/>
                  <a:pt x="2831" y="5874"/>
                </a:cubicBezTo>
                <a:cubicBezTo>
                  <a:pt x="3047" y="6517"/>
                  <a:pt x="2750" y="7429"/>
                  <a:pt x="2593" y="8043"/>
                </a:cubicBezTo>
                <a:cubicBezTo>
                  <a:pt x="2533" y="8278"/>
                  <a:pt x="2451" y="8498"/>
                  <a:pt x="2381" y="8731"/>
                </a:cubicBezTo>
                <a:cubicBezTo>
                  <a:pt x="2062" y="9798"/>
                  <a:pt x="1638" y="10808"/>
                  <a:pt x="1455" y="11906"/>
                </a:cubicBezTo>
                <a:cubicBezTo>
                  <a:pt x="1350" y="12538"/>
                  <a:pt x="1274" y="13447"/>
                  <a:pt x="1429" y="14076"/>
                </a:cubicBezTo>
                <a:cubicBezTo>
                  <a:pt x="1455" y="14180"/>
                  <a:pt x="1519" y="14278"/>
                  <a:pt x="1561" y="14393"/>
                </a:cubicBezTo>
                <a:cubicBezTo>
                  <a:pt x="1734" y="14863"/>
                  <a:pt x="2114" y="15271"/>
                  <a:pt x="2408" y="15663"/>
                </a:cubicBezTo>
                <a:cubicBezTo>
                  <a:pt x="2658" y="15997"/>
                  <a:pt x="2858" y="16235"/>
                  <a:pt x="3201" y="16484"/>
                </a:cubicBezTo>
                <a:cubicBezTo>
                  <a:pt x="3423" y="16646"/>
                  <a:pt x="3677" y="16778"/>
                  <a:pt x="3916" y="16907"/>
                </a:cubicBezTo>
                <a:cubicBezTo>
                  <a:pt x="4541" y="17244"/>
                  <a:pt x="5213" y="17430"/>
                  <a:pt x="5847" y="17727"/>
                </a:cubicBezTo>
                <a:cubicBezTo>
                  <a:pt x="6091" y="17841"/>
                  <a:pt x="6312" y="17985"/>
                  <a:pt x="6562" y="18124"/>
                </a:cubicBezTo>
                <a:cubicBezTo>
                  <a:pt x="7068" y="18406"/>
                  <a:pt x="7599" y="18851"/>
                  <a:pt x="8149" y="19024"/>
                </a:cubicBezTo>
                <a:cubicBezTo>
                  <a:pt x="8410" y="19106"/>
                  <a:pt x="8495" y="19015"/>
                  <a:pt x="8678" y="19050"/>
                </a:cubicBezTo>
                <a:cubicBezTo>
                  <a:pt x="8818" y="19077"/>
                  <a:pt x="8919" y="19125"/>
                  <a:pt x="9075" y="19129"/>
                </a:cubicBezTo>
                <a:cubicBezTo>
                  <a:pt x="9491" y="19140"/>
                  <a:pt x="9907" y="19158"/>
                  <a:pt x="10319" y="19129"/>
                </a:cubicBezTo>
                <a:cubicBezTo>
                  <a:pt x="10698" y="19102"/>
                  <a:pt x="11079" y="19064"/>
                  <a:pt x="11456" y="19024"/>
                </a:cubicBezTo>
                <a:cubicBezTo>
                  <a:pt x="11983" y="18968"/>
                  <a:pt x="12412" y="18866"/>
                  <a:pt x="12938" y="18759"/>
                </a:cubicBezTo>
                <a:cubicBezTo>
                  <a:pt x="14078" y="18527"/>
                  <a:pt x="15266" y="18579"/>
                  <a:pt x="16431" y="18600"/>
                </a:cubicBezTo>
                <a:cubicBezTo>
                  <a:pt x="17035" y="18611"/>
                  <a:pt x="17466" y="18735"/>
                  <a:pt x="18045" y="18891"/>
                </a:cubicBezTo>
                <a:cubicBezTo>
                  <a:pt x="18385" y="18983"/>
                  <a:pt x="18563" y="19055"/>
                  <a:pt x="18918" y="19076"/>
                </a:cubicBezTo>
                <a:cubicBezTo>
                  <a:pt x="19353" y="19102"/>
                  <a:pt x="19853" y="18939"/>
                  <a:pt x="20267" y="18812"/>
                </a:cubicBezTo>
                <a:cubicBezTo>
                  <a:pt x="21345" y="18481"/>
                  <a:pt x="22569" y="17919"/>
                  <a:pt x="23125" y="16907"/>
                </a:cubicBezTo>
                <a:cubicBezTo>
                  <a:pt x="23234" y="16709"/>
                  <a:pt x="23252" y="16463"/>
                  <a:pt x="23336" y="16245"/>
                </a:cubicBezTo>
                <a:cubicBezTo>
                  <a:pt x="23418" y="16032"/>
                  <a:pt x="23488" y="15784"/>
                  <a:pt x="23574" y="15584"/>
                </a:cubicBezTo>
                <a:cubicBezTo>
                  <a:pt x="23642" y="15427"/>
                  <a:pt x="23706" y="15254"/>
                  <a:pt x="23786" y="15108"/>
                </a:cubicBezTo>
                <a:cubicBezTo>
                  <a:pt x="23958" y="14793"/>
                  <a:pt x="24189" y="14500"/>
                  <a:pt x="24395" y="14208"/>
                </a:cubicBezTo>
                <a:cubicBezTo>
                  <a:pt x="24660" y="13832"/>
                  <a:pt x="24920" y="13544"/>
                  <a:pt x="25083" y="13097"/>
                </a:cubicBezTo>
                <a:cubicBezTo>
                  <a:pt x="25331" y="12418"/>
                  <a:pt x="25400" y="11724"/>
                  <a:pt x="25374" y="11007"/>
                </a:cubicBezTo>
                <a:cubicBezTo>
                  <a:pt x="25358" y="10576"/>
                  <a:pt x="25314" y="10315"/>
                  <a:pt x="25109" y="9922"/>
                </a:cubicBezTo>
                <a:cubicBezTo>
                  <a:pt x="24887" y="9496"/>
                  <a:pt x="24470" y="9150"/>
                  <a:pt x="24104" y="8890"/>
                </a:cubicBezTo>
                <a:cubicBezTo>
                  <a:pt x="23961" y="8789"/>
                  <a:pt x="23719" y="8711"/>
                  <a:pt x="23548" y="8625"/>
                </a:cubicBezTo>
                <a:cubicBezTo>
                  <a:pt x="23226" y="8462"/>
                  <a:pt x="22909" y="8364"/>
                  <a:pt x="22569" y="8255"/>
                </a:cubicBezTo>
                <a:cubicBezTo>
                  <a:pt x="22514" y="8237"/>
                  <a:pt x="22366" y="8204"/>
                  <a:pt x="22278" y="8176"/>
                </a:cubicBezTo>
                <a:cubicBezTo>
                  <a:pt x="21948" y="8070"/>
                  <a:pt x="21636" y="8031"/>
                  <a:pt x="21405" y="7779"/>
                </a:cubicBezTo>
                <a:cubicBezTo>
                  <a:pt x="21017" y="7355"/>
                  <a:pt x="21083" y="6745"/>
                  <a:pt x="21061" y="6218"/>
                </a:cubicBezTo>
                <a:cubicBezTo>
                  <a:pt x="21045" y="5829"/>
                  <a:pt x="20928" y="5028"/>
                  <a:pt x="21167" y="4763"/>
                </a:cubicBezTo>
                <a:cubicBezTo>
                  <a:pt x="21296" y="4620"/>
                  <a:pt x="21713" y="4576"/>
                  <a:pt x="21881" y="4498"/>
                </a:cubicBezTo>
                <a:cubicBezTo>
                  <a:pt x="22259" y="4323"/>
                  <a:pt x="22709" y="4248"/>
                  <a:pt x="23098" y="4128"/>
                </a:cubicBezTo>
                <a:cubicBezTo>
                  <a:pt x="23749" y="3928"/>
                  <a:pt x="23786" y="3844"/>
                  <a:pt x="24156" y="3307"/>
                </a:cubicBezTo>
                <a:cubicBezTo>
                  <a:pt x="24248" y="3174"/>
                  <a:pt x="24304" y="3022"/>
                  <a:pt x="24395" y="2884"/>
                </a:cubicBezTo>
                <a:cubicBezTo>
                  <a:pt x="24583" y="2600"/>
                  <a:pt x="24856" y="2289"/>
                  <a:pt x="24924" y="1958"/>
                </a:cubicBezTo>
                <a:cubicBezTo>
                  <a:pt x="25039" y="1398"/>
                  <a:pt x="24809" y="1263"/>
                  <a:pt x="24474" y="979"/>
                </a:cubicBezTo>
                <a:cubicBezTo>
                  <a:pt x="24370" y="891"/>
                  <a:pt x="24146" y="904"/>
                  <a:pt x="24024" y="820"/>
                </a:cubicBezTo>
                <a:cubicBezTo>
                  <a:pt x="23961" y="776"/>
                  <a:pt x="23698" y="689"/>
                  <a:pt x="23654" y="635"/>
                </a:cubicBezTo>
                <a:cubicBezTo>
                  <a:pt x="23629" y="605"/>
                  <a:pt x="23576" y="600"/>
                  <a:pt x="23548" y="556"/>
                </a:cubicBezTo>
                <a:cubicBezTo>
                  <a:pt x="23460" y="420"/>
                  <a:pt x="23565" y="180"/>
                  <a:pt x="23495" y="53"/>
                </a:cubicBezTo>
                <a:cubicBezTo>
                  <a:pt x="23465" y="-1"/>
                  <a:pt x="23501" y="-102"/>
                  <a:pt x="23469" y="-159"/>
                </a:cubicBezTo>
                <a:cubicBezTo>
                  <a:pt x="23443" y="-205"/>
                  <a:pt x="23488" y="49"/>
                  <a:pt x="23469" y="0"/>
                </a:cubicBezTo>
                <a:cubicBezTo>
                  <a:pt x="23469" y="-82"/>
                  <a:pt x="23469" y="-3"/>
                  <a:pt x="23469" y="-53"/>
                </a:cubicBezTo>
                <a:cubicBezTo>
                  <a:pt x="23469" y="-88"/>
                  <a:pt x="23469" y="35"/>
                  <a:pt x="23469" y="0"/>
                </a:cubicBezTo>
                <a:cubicBezTo>
                  <a:pt x="23469" y="-26"/>
                  <a:pt x="23469" y="-35"/>
                  <a:pt x="23469" y="-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81080" y="27079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olice sure do hard things! Because they catch criminals with guns.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Do you believe all guns are real? 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ell some are no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619280" y="404640"/>
            <a:ext cx="5832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lice in a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olice do different things in different countries. Like in New Zealand they don’t do mounted police, which is riding a hors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10160" y="1830240"/>
            <a:ext cx="44640" cy="19080"/>
          </a:xfrm>
          <a:custGeom>
            <a:avLst/>
            <a:gdLst/>
            <a:ahLst/>
            <a:rect l="l" t="t" r="r" b="b"/>
            <a:pathLst>
              <a:path w="126" h="51">
                <a:moveTo>
                  <a:pt x="15304" y="5085"/>
                </a:moveTo>
                <a:lnTo>
                  <a:pt x="15304" y="5085"/>
                </a:lnTo>
              </a:path>
              <a:path w="126" h="51">
                <a:moveTo>
                  <a:pt x="15429" y="5135"/>
                </a:moveTo>
                <a:lnTo>
                  <a:pt x="15429" y="5135"/>
                </a:lnTo>
              </a:path>
              <a:path w="126" h="51">
                <a:moveTo>
                  <a:pt x="15304" y="5110"/>
                </a:moveTo>
                <a:lnTo>
                  <a:pt x="15304" y="5110"/>
                </a:lnTo>
              </a:path>
              <a:path w="126" h="51">
                <a:moveTo>
                  <a:pt x="15429" y="5110"/>
                </a:moveTo>
                <a:lnTo>
                  <a:pt x="15429" y="5110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18080" y="1839960"/>
            <a:ext cx="36720" cy="17280"/>
          </a:xfrm>
          <a:custGeom>
            <a:avLst/>
            <a:gdLst/>
            <a:ahLst/>
            <a:rect l="l" t="t" r="r" b="b"/>
            <a:pathLst>
              <a:path w="101" h="50">
                <a:moveTo>
                  <a:pt x="15429" y="5110"/>
                </a:moveTo>
                <a:cubicBezTo>
                  <a:pt x="15429" y="5118"/>
                  <a:pt x="15429" y="5127"/>
                  <a:pt x="15429" y="5135"/>
                </a:cubicBezTo>
                <a:cubicBezTo>
                  <a:pt x="15390" y="5144"/>
                  <a:pt x="15373" y="5159"/>
                  <a:pt x="15329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76640" y="4348080"/>
            <a:ext cx="4332240" cy="965160"/>
          </a:xfrm>
          <a:custGeom>
            <a:avLst/>
            <a:gdLst/>
            <a:ahLst/>
            <a:rect l="l" t="t" r="r" b="b"/>
            <a:pathLst>
              <a:path w="12031" h="2680">
                <a:moveTo>
                  <a:pt x="18355" y="12427"/>
                </a:moveTo>
                <a:cubicBezTo>
                  <a:pt x="18341" y="12728"/>
                  <a:pt x="18265" y="12998"/>
                  <a:pt x="18231" y="13295"/>
                </a:cubicBezTo>
                <a:cubicBezTo>
                  <a:pt x="18210" y="13474"/>
                  <a:pt x="18322" y="14068"/>
                  <a:pt x="18256" y="14188"/>
                </a:cubicBezTo>
                <a:cubicBezTo>
                  <a:pt x="18236" y="14224"/>
                  <a:pt x="18229" y="14243"/>
                  <a:pt x="18207" y="14263"/>
                </a:cubicBezTo>
                <a:cubicBezTo>
                  <a:pt x="18144" y="14322"/>
                  <a:pt x="18098" y="14284"/>
                  <a:pt x="18033" y="14312"/>
                </a:cubicBezTo>
                <a:cubicBezTo>
                  <a:pt x="17950" y="14348"/>
                  <a:pt x="17923" y="14370"/>
                  <a:pt x="17835" y="14387"/>
                </a:cubicBezTo>
                <a:cubicBezTo>
                  <a:pt x="17742" y="14405"/>
                  <a:pt x="17660" y="14405"/>
                  <a:pt x="17562" y="14412"/>
                </a:cubicBezTo>
                <a:cubicBezTo>
                  <a:pt x="17394" y="14424"/>
                  <a:pt x="17231" y="14422"/>
                  <a:pt x="17066" y="14436"/>
                </a:cubicBezTo>
                <a:cubicBezTo>
                  <a:pt x="16878" y="14452"/>
                  <a:pt x="16688" y="14459"/>
                  <a:pt x="16495" y="14461"/>
                </a:cubicBezTo>
                <a:cubicBezTo>
                  <a:pt x="15519" y="14469"/>
                  <a:pt x="14455" y="14572"/>
                  <a:pt x="13494" y="14412"/>
                </a:cubicBezTo>
                <a:cubicBezTo>
                  <a:pt x="13236" y="14369"/>
                  <a:pt x="12966" y="14304"/>
                  <a:pt x="12700" y="14288"/>
                </a:cubicBezTo>
                <a:cubicBezTo>
                  <a:pt x="11182" y="14196"/>
                  <a:pt x="9466" y="14141"/>
                  <a:pt x="7962" y="14337"/>
                </a:cubicBezTo>
                <a:cubicBezTo>
                  <a:pt x="7750" y="14365"/>
                  <a:pt x="7518" y="14406"/>
                  <a:pt x="7317" y="14461"/>
                </a:cubicBezTo>
                <a:cubicBezTo>
                  <a:pt x="7238" y="14482"/>
                  <a:pt x="7149" y="14506"/>
                  <a:pt x="7069" y="14536"/>
                </a:cubicBezTo>
                <a:cubicBezTo>
                  <a:pt x="7003" y="14561"/>
                  <a:pt x="6939" y="14605"/>
                  <a:pt x="6871" y="14635"/>
                </a:cubicBezTo>
                <a:cubicBezTo>
                  <a:pt x="6795" y="14668"/>
                  <a:pt x="6715" y="14709"/>
                  <a:pt x="6648" y="14734"/>
                </a:cubicBezTo>
                <a:cubicBezTo>
                  <a:pt x="6614" y="14747"/>
                  <a:pt x="6581" y="14746"/>
                  <a:pt x="6548" y="14759"/>
                </a:cubicBezTo>
                <a:cubicBezTo>
                  <a:pt x="6531" y="14668"/>
                  <a:pt x="6518" y="14578"/>
                  <a:pt x="6499" y="14486"/>
                </a:cubicBezTo>
                <a:cubicBezTo>
                  <a:pt x="6456" y="14284"/>
                  <a:pt x="6404" y="14063"/>
                  <a:pt x="6375" y="13866"/>
                </a:cubicBezTo>
                <a:cubicBezTo>
                  <a:pt x="6350" y="13701"/>
                  <a:pt x="6332" y="13512"/>
                  <a:pt x="6325" y="13345"/>
                </a:cubicBezTo>
                <a:cubicBezTo>
                  <a:pt x="6317" y="13144"/>
                  <a:pt x="6331" y="12942"/>
                  <a:pt x="6350" y="12750"/>
                </a:cubicBezTo>
                <a:cubicBezTo>
                  <a:pt x="6363" y="12623"/>
                  <a:pt x="6382" y="12521"/>
                  <a:pt x="6400" y="12402"/>
                </a:cubicBezTo>
                <a:cubicBezTo>
                  <a:pt x="6410" y="12336"/>
                  <a:pt x="6419" y="12269"/>
                  <a:pt x="6424" y="12204"/>
                </a:cubicBezTo>
                <a:cubicBezTo>
                  <a:pt x="6427" y="12163"/>
                  <a:pt x="6420" y="12121"/>
                  <a:pt x="6424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203040" y="1820880"/>
            <a:ext cx="5695920" cy="2724120"/>
          </a:xfrm>
          <a:custGeom>
            <a:avLst/>
            <a:gdLst/>
            <a:ahLst/>
            <a:rect l="l" t="t" r="r" b="b"/>
            <a:pathLst>
              <a:path w="15827" h="7567">
                <a:moveTo>
                  <a:pt x="6424" y="12129"/>
                </a:moveTo>
                <a:cubicBezTo>
                  <a:pt x="6194" y="12149"/>
                  <a:pt x="6012" y="12132"/>
                  <a:pt x="5804" y="12204"/>
                </a:cubicBezTo>
                <a:cubicBezTo>
                  <a:pt x="5760" y="12219"/>
                  <a:pt x="5676" y="12279"/>
                  <a:pt x="5606" y="12303"/>
                </a:cubicBezTo>
                <a:cubicBezTo>
                  <a:pt x="5365" y="12386"/>
                  <a:pt x="5137" y="12467"/>
                  <a:pt x="4887" y="12502"/>
                </a:cubicBezTo>
                <a:cubicBezTo>
                  <a:pt x="4817" y="12512"/>
                  <a:pt x="4758" y="12519"/>
                  <a:pt x="4688" y="12526"/>
                </a:cubicBezTo>
                <a:cubicBezTo>
                  <a:pt x="4231" y="12569"/>
                  <a:pt x="3759" y="12551"/>
                  <a:pt x="3299" y="12551"/>
                </a:cubicBezTo>
                <a:cubicBezTo>
                  <a:pt x="2193" y="12551"/>
                  <a:pt x="1102" y="12626"/>
                  <a:pt x="0" y="12626"/>
                </a:cubicBezTo>
                <a:cubicBezTo>
                  <a:pt x="-175" y="12626"/>
                  <a:pt x="-439" y="12608"/>
                  <a:pt x="-571" y="12601"/>
                </a:cubicBezTo>
                <a:cubicBezTo>
                  <a:pt x="-537" y="12509"/>
                  <a:pt x="-504" y="12421"/>
                  <a:pt x="-471" y="12328"/>
                </a:cubicBezTo>
                <a:cubicBezTo>
                  <a:pt x="-428" y="12204"/>
                  <a:pt x="-385" y="12083"/>
                  <a:pt x="-347" y="11956"/>
                </a:cubicBezTo>
                <a:cubicBezTo>
                  <a:pt x="-251" y="11634"/>
                  <a:pt x="-192" y="11278"/>
                  <a:pt x="-174" y="10939"/>
                </a:cubicBezTo>
                <a:cubicBezTo>
                  <a:pt x="-105" y="9643"/>
                  <a:pt x="-195" y="8340"/>
                  <a:pt x="-149" y="7045"/>
                </a:cubicBezTo>
                <a:cubicBezTo>
                  <a:pt x="-144" y="6897"/>
                  <a:pt x="-122" y="6743"/>
                  <a:pt x="-99" y="6598"/>
                </a:cubicBezTo>
                <a:cubicBezTo>
                  <a:pt x="-68" y="6407"/>
                  <a:pt x="-38" y="6219"/>
                  <a:pt x="0" y="6028"/>
                </a:cubicBezTo>
                <a:cubicBezTo>
                  <a:pt x="31" y="5871"/>
                  <a:pt x="46" y="5711"/>
                  <a:pt x="74" y="5556"/>
                </a:cubicBezTo>
                <a:cubicBezTo>
                  <a:pt x="95" y="5439"/>
                  <a:pt x="125" y="5324"/>
                  <a:pt x="149" y="5209"/>
                </a:cubicBezTo>
                <a:cubicBezTo>
                  <a:pt x="156" y="5175"/>
                  <a:pt x="167" y="5144"/>
                  <a:pt x="174" y="5110"/>
                </a:cubicBezTo>
                <a:cubicBezTo>
                  <a:pt x="528" y="5158"/>
                  <a:pt x="883" y="5211"/>
                  <a:pt x="1240" y="5259"/>
                </a:cubicBezTo>
                <a:cubicBezTo>
                  <a:pt x="1653" y="5315"/>
                  <a:pt x="2047" y="5410"/>
                  <a:pt x="2456" y="5482"/>
                </a:cubicBezTo>
                <a:cubicBezTo>
                  <a:pt x="2960" y="5571"/>
                  <a:pt x="3482" y="5680"/>
                  <a:pt x="3994" y="5705"/>
                </a:cubicBezTo>
                <a:cubicBezTo>
                  <a:pt x="6043" y="5803"/>
                  <a:pt x="8284" y="5878"/>
                  <a:pt x="10319" y="5631"/>
                </a:cubicBezTo>
                <a:cubicBezTo>
                  <a:pt x="10870" y="5564"/>
                  <a:pt x="11411" y="5446"/>
                  <a:pt x="11956" y="5358"/>
                </a:cubicBezTo>
                <a:cubicBezTo>
                  <a:pt x="12373" y="5291"/>
                  <a:pt x="12776" y="5214"/>
                  <a:pt x="13196" y="5159"/>
                </a:cubicBezTo>
                <a:cubicBezTo>
                  <a:pt x="13594" y="5107"/>
                  <a:pt x="13986" y="5072"/>
                  <a:pt x="14387" y="5060"/>
                </a:cubicBezTo>
                <a:cubicBezTo>
                  <a:pt x="14635" y="5053"/>
                  <a:pt x="15004" y="5081"/>
                  <a:pt x="15205" y="5085"/>
                </a:cubicBezTo>
                <a:cubicBezTo>
                  <a:pt x="15213" y="5085"/>
                  <a:pt x="15222" y="5085"/>
                  <a:pt x="15230" y="5085"/>
                </a:cubicBezTo>
                <a:cubicBezTo>
                  <a:pt x="15201" y="5152"/>
                  <a:pt x="15249" y="5205"/>
                  <a:pt x="15180" y="5308"/>
                </a:cubicBezTo>
                <a:cubicBezTo>
                  <a:pt x="15110" y="5379"/>
                  <a:pt x="15088" y="5400"/>
                  <a:pt x="15056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54800" y="1830240"/>
            <a:ext cx="3465360" cy="2768760"/>
          </a:xfrm>
          <a:custGeom>
            <a:avLst/>
            <a:gdLst/>
            <a:ahLst/>
            <a:rect l="l" t="t" r="r" b="b"/>
            <a:pathLst>
              <a:path w="9625" h="7690">
                <a:moveTo>
                  <a:pt x="15429" y="5085"/>
                </a:moveTo>
                <a:cubicBezTo>
                  <a:pt x="15629" y="5116"/>
                  <a:pt x="15797" y="5163"/>
                  <a:pt x="15999" y="5209"/>
                </a:cubicBezTo>
                <a:cubicBezTo>
                  <a:pt x="16172" y="5248"/>
                  <a:pt x="16345" y="5263"/>
                  <a:pt x="16520" y="5283"/>
                </a:cubicBezTo>
                <a:cubicBezTo>
                  <a:pt x="16977" y="5336"/>
                  <a:pt x="17448" y="5308"/>
                  <a:pt x="17909" y="5308"/>
                </a:cubicBezTo>
                <a:cubicBezTo>
                  <a:pt x="18123" y="5308"/>
                  <a:pt x="18317" y="5288"/>
                  <a:pt x="18529" y="5259"/>
                </a:cubicBezTo>
                <a:cubicBezTo>
                  <a:pt x="19183" y="5169"/>
                  <a:pt x="19747" y="5260"/>
                  <a:pt x="20389" y="5358"/>
                </a:cubicBezTo>
                <a:cubicBezTo>
                  <a:pt x="20790" y="5419"/>
                  <a:pt x="21182" y="5478"/>
                  <a:pt x="21580" y="5556"/>
                </a:cubicBezTo>
                <a:cubicBezTo>
                  <a:pt x="21945" y="5628"/>
                  <a:pt x="22305" y="5710"/>
                  <a:pt x="22671" y="5779"/>
                </a:cubicBezTo>
                <a:cubicBezTo>
                  <a:pt x="22777" y="5799"/>
                  <a:pt x="22888" y="5822"/>
                  <a:pt x="22994" y="5829"/>
                </a:cubicBezTo>
                <a:cubicBezTo>
                  <a:pt x="23200" y="5843"/>
                  <a:pt x="23413" y="5830"/>
                  <a:pt x="23614" y="5804"/>
                </a:cubicBezTo>
                <a:cubicBezTo>
                  <a:pt x="23691" y="5794"/>
                  <a:pt x="23764" y="5767"/>
                  <a:pt x="23837" y="5755"/>
                </a:cubicBezTo>
                <a:cubicBezTo>
                  <a:pt x="23911" y="5743"/>
                  <a:pt x="23985" y="5742"/>
                  <a:pt x="24061" y="5730"/>
                </a:cubicBezTo>
                <a:cubicBezTo>
                  <a:pt x="24119" y="5721"/>
                  <a:pt x="24175" y="5714"/>
                  <a:pt x="24234" y="5705"/>
                </a:cubicBezTo>
                <a:cubicBezTo>
                  <a:pt x="24321" y="5691"/>
                  <a:pt x="24418" y="5672"/>
                  <a:pt x="24507" y="5655"/>
                </a:cubicBezTo>
                <a:cubicBezTo>
                  <a:pt x="24557" y="5646"/>
                  <a:pt x="24614" y="5613"/>
                  <a:pt x="24656" y="5606"/>
                </a:cubicBezTo>
                <a:cubicBezTo>
                  <a:pt x="24680" y="5602"/>
                  <a:pt x="24706" y="5610"/>
                  <a:pt x="24730" y="5606"/>
                </a:cubicBezTo>
                <a:cubicBezTo>
                  <a:pt x="24740" y="5657"/>
                  <a:pt x="24773" y="5679"/>
                  <a:pt x="24780" y="5730"/>
                </a:cubicBezTo>
                <a:cubicBezTo>
                  <a:pt x="24793" y="5830"/>
                  <a:pt x="24784" y="5929"/>
                  <a:pt x="24805" y="6028"/>
                </a:cubicBezTo>
                <a:cubicBezTo>
                  <a:pt x="24859" y="6289"/>
                  <a:pt x="24912" y="6534"/>
                  <a:pt x="24954" y="6796"/>
                </a:cubicBezTo>
                <a:cubicBezTo>
                  <a:pt x="24975" y="6930"/>
                  <a:pt x="24997" y="7059"/>
                  <a:pt x="25003" y="7193"/>
                </a:cubicBezTo>
                <a:cubicBezTo>
                  <a:pt x="25009" y="7313"/>
                  <a:pt x="25018" y="7428"/>
                  <a:pt x="25028" y="7541"/>
                </a:cubicBezTo>
                <a:cubicBezTo>
                  <a:pt x="25042" y="7706"/>
                  <a:pt x="25047" y="7847"/>
                  <a:pt x="25028" y="8012"/>
                </a:cubicBezTo>
                <a:cubicBezTo>
                  <a:pt x="25021" y="8072"/>
                  <a:pt x="24994" y="8127"/>
                  <a:pt x="24978" y="8186"/>
                </a:cubicBezTo>
                <a:cubicBezTo>
                  <a:pt x="24950" y="8291"/>
                  <a:pt x="24904" y="8407"/>
                  <a:pt x="24879" y="8508"/>
                </a:cubicBezTo>
                <a:cubicBezTo>
                  <a:pt x="24860" y="8581"/>
                  <a:pt x="24845" y="8647"/>
                  <a:pt x="24829" y="8731"/>
                </a:cubicBezTo>
                <a:cubicBezTo>
                  <a:pt x="24816" y="8797"/>
                  <a:pt x="24818" y="8863"/>
                  <a:pt x="24805" y="8930"/>
                </a:cubicBezTo>
                <a:cubicBezTo>
                  <a:pt x="24791" y="9006"/>
                  <a:pt x="24787" y="9075"/>
                  <a:pt x="24780" y="9153"/>
                </a:cubicBezTo>
                <a:cubicBezTo>
                  <a:pt x="24767" y="9297"/>
                  <a:pt x="24758" y="9447"/>
                  <a:pt x="24755" y="9599"/>
                </a:cubicBezTo>
                <a:cubicBezTo>
                  <a:pt x="24737" y="10541"/>
                  <a:pt x="24755" y="11485"/>
                  <a:pt x="24755" y="12427"/>
                </a:cubicBezTo>
                <a:cubicBezTo>
                  <a:pt x="23661" y="12427"/>
                  <a:pt x="22540" y="12254"/>
                  <a:pt x="21456" y="12328"/>
                </a:cubicBezTo>
                <a:cubicBezTo>
                  <a:pt x="21185" y="12346"/>
                  <a:pt x="20929" y="12385"/>
                  <a:pt x="20662" y="12427"/>
                </a:cubicBezTo>
                <a:cubicBezTo>
                  <a:pt x="20552" y="12444"/>
                  <a:pt x="20418" y="12441"/>
                  <a:pt x="20315" y="12477"/>
                </a:cubicBezTo>
                <a:cubicBezTo>
                  <a:pt x="20280" y="12489"/>
                  <a:pt x="20253" y="12514"/>
                  <a:pt x="20216" y="12526"/>
                </a:cubicBezTo>
                <a:cubicBezTo>
                  <a:pt x="20140" y="12550"/>
                  <a:pt x="20089" y="12584"/>
                  <a:pt x="20017" y="12601"/>
                </a:cubicBezTo>
                <a:cubicBezTo>
                  <a:pt x="19922" y="12624"/>
                  <a:pt x="19817" y="12629"/>
                  <a:pt x="19720" y="12650"/>
                </a:cubicBezTo>
                <a:cubicBezTo>
                  <a:pt x="19387" y="12722"/>
                  <a:pt x="19063" y="12725"/>
                  <a:pt x="18728" y="12750"/>
                </a:cubicBezTo>
                <a:cubicBezTo>
                  <a:pt x="18681" y="12753"/>
                  <a:pt x="18564" y="12774"/>
                  <a:pt x="18554" y="12774"/>
                </a:cubicBezTo>
                <a:cubicBezTo>
                  <a:pt x="18463" y="12778"/>
                  <a:pt x="18372" y="12772"/>
                  <a:pt x="18281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1703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943680" y="0"/>
            <a:ext cx="2200320" cy="2076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0"/>
            <a:ext cx="3152880" cy="2219400"/>
          </a:xfrm>
          <a:custGeom>
            <a:avLst/>
            <a:gdLst/>
            <a:ahLst/>
            <a:rect l="l" t="t" r="r" b="b"/>
            <a:pathLst>
              <a:path w="8759" h="6166">
                <a:moveTo>
                  <a:pt x="17965" y="0"/>
                </a:moveTo>
                <a:cubicBezTo>
                  <a:pt x="17965" y="532"/>
                  <a:pt x="17941" y="1053"/>
                  <a:pt x="17859" y="1535"/>
                </a:cubicBezTo>
                <a:cubicBezTo>
                  <a:pt x="17833" y="1691"/>
                  <a:pt x="17847" y="1849"/>
                  <a:pt x="17833" y="2011"/>
                </a:cubicBezTo>
                <a:cubicBezTo>
                  <a:pt x="17816" y="2214"/>
                  <a:pt x="17789" y="2418"/>
                  <a:pt x="17780" y="2619"/>
                </a:cubicBezTo>
                <a:cubicBezTo>
                  <a:pt x="17728" y="3733"/>
                  <a:pt x="17780" y="4864"/>
                  <a:pt x="17780" y="5980"/>
                </a:cubicBezTo>
                <a:cubicBezTo>
                  <a:pt x="17836" y="5994"/>
                  <a:pt x="17887" y="6020"/>
                  <a:pt x="17939" y="6033"/>
                </a:cubicBezTo>
                <a:cubicBezTo>
                  <a:pt x="18023" y="6054"/>
                  <a:pt x="18177" y="6106"/>
                  <a:pt x="18256" y="6112"/>
                </a:cubicBezTo>
                <a:cubicBezTo>
                  <a:pt x="18305" y="6116"/>
                  <a:pt x="18412" y="6085"/>
                  <a:pt x="18415" y="6085"/>
                </a:cubicBezTo>
                <a:cubicBezTo>
                  <a:pt x="18536" y="6088"/>
                  <a:pt x="18663" y="6129"/>
                  <a:pt x="18733" y="6138"/>
                </a:cubicBezTo>
                <a:cubicBezTo>
                  <a:pt x="18811" y="6148"/>
                  <a:pt x="18867" y="6158"/>
                  <a:pt x="18944" y="6165"/>
                </a:cubicBezTo>
                <a:cubicBezTo>
                  <a:pt x="19145" y="6183"/>
                  <a:pt x="19421" y="6165"/>
                  <a:pt x="19579" y="6138"/>
                </a:cubicBezTo>
                <a:cubicBezTo>
                  <a:pt x="19622" y="6131"/>
                  <a:pt x="19645" y="6120"/>
                  <a:pt x="19685" y="6112"/>
                </a:cubicBezTo>
                <a:cubicBezTo>
                  <a:pt x="19723" y="6104"/>
                  <a:pt x="19714" y="6096"/>
                  <a:pt x="19764" y="6085"/>
                </a:cubicBezTo>
                <a:cubicBezTo>
                  <a:pt x="19857" y="6064"/>
                  <a:pt x="19959" y="6049"/>
                  <a:pt x="20055" y="6033"/>
                </a:cubicBezTo>
                <a:cubicBezTo>
                  <a:pt x="20142" y="6019"/>
                  <a:pt x="20245" y="6015"/>
                  <a:pt x="20346" y="6006"/>
                </a:cubicBezTo>
                <a:cubicBezTo>
                  <a:pt x="20421" y="5999"/>
                  <a:pt x="20482" y="5984"/>
                  <a:pt x="20558" y="5980"/>
                </a:cubicBezTo>
                <a:cubicBezTo>
                  <a:pt x="22199" y="5902"/>
                  <a:pt x="23896" y="5879"/>
                  <a:pt x="25532" y="5953"/>
                </a:cubicBezTo>
                <a:cubicBezTo>
                  <a:pt x="25868" y="5968"/>
                  <a:pt x="26201" y="5980"/>
                  <a:pt x="26538" y="59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503280" y="0"/>
            <a:ext cx="3598920" cy="1886040"/>
          </a:xfrm>
          <a:custGeom>
            <a:avLst/>
            <a:gdLst/>
            <a:ahLst/>
            <a:rect l="l" t="t" r="r" b="b"/>
            <a:pathLst>
              <a:path w="10002" h="5240">
                <a:moveTo>
                  <a:pt x="8599" y="0"/>
                </a:moveTo>
                <a:cubicBezTo>
                  <a:pt x="8599" y="1486"/>
                  <a:pt x="8651" y="3001"/>
                  <a:pt x="8546" y="4471"/>
                </a:cubicBezTo>
                <a:cubicBezTo>
                  <a:pt x="8539" y="4574"/>
                  <a:pt x="8587" y="4756"/>
                  <a:pt x="8520" y="4842"/>
                </a:cubicBezTo>
                <a:cubicBezTo>
                  <a:pt x="8498" y="4870"/>
                  <a:pt x="8494" y="4872"/>
                  <a:pt x="8467" y="4895"/>
                </a:cubicBezTo>
                <a:cubicBezTo>
                  <a:pt x="8434" y="4923"/>
                  <a:pt x="8349" y="4926"/>
                  <a:pt x="8308" y="4948"/>
                </a:cubicBezTo>
                <a:cubicBezTo>
                  <a:pt x="8251" y="4978"/>
                  <a:pt x="8168" y="5012"/>
                  <a:pt x="8096" y="5027"/>
                </a:cubicBezTo>
                <a:cubicBezTo>
                  <a:pt x="8042" y="5038"/>
                  <a:pt x="8001" y="5047"/>
                  <a:pt x="7938" y="5054"/>
                </a:cubicBezTo>
                <a:cubicBezTo>
                  <a:pt x="7276" y="5126"/>
                  <a:pt x="6556" y="5159"/>
                  <a:pt x="5900" y="5159"/>
                </a:cubicBezTo>
                <a:cubicBezTo>
                  <a:pt x="5538" y="5159"/>
                  <a:pt x="5166" y="5173"/>
                  <a:pt x="4815" y="5186"/>
                </a:cubicBezTo>
                <a:cubicBezTo>
                  <a:pt x="3930" y="5219"/>
                  <a:pt x="3050" y="5178"/>
                  <a:pt x="2170" y="5212"/>
                </a:cubicBezTo>
                <a:cubicBezTo>
                  <a:pt x="1913" y="5222"/>
                  <a:pt x="1660" y="5248"/>
                  <a:pt x="1402" y="5239"/>
                </a:cubicBezTo>
                <a:cubicBezTo>
                  <a:pt x="1172" y="5231"/>
                  <a:pt x="945" y="5214"/>
                  <a:pt x="714" y="5212"/>
                </a:cubicBezTo>
                <a:cubicBezTo>
                  <a:pt x="9" y="5206"/>
                  <a:pt x="-697" y="5212"/>
                  <a:pt x="-1402" y="5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83000" y="322200"/>
            <a:ext cx="2357280" cy="793800"/>
          </a:xfrm>
          <a:custGeom>
            <a:avLst/>
            <a:gdLst/>
            <a:ahLst/>
            <a:rect l="l" t="t" r="r" b="b"/>
            <a:pathLst>
              <a:path w="6549" h="2209">
                <a:moveTo>
                  <a:pt x="12229" y="2282"/>
                </a:moveTo>
                <a:cubicBezTo>
                  <a:pt x="12189" y="2276"/>
                  <a:pt x="12164" y="2273"/>
                  <a:pt x="12129" y="2257"/>
                </a:cubicBezTo>
                <a:cubicBezTo>
                  <a:pt x="12083" y="2236"/>
                  <a:pt x="12061" y="2235"/>
                  <a:pt x="12005" y="2232"/>
                </a:cubicBezTo>
                <a:cubicBezTo>
                  <a:pt x="11901" y="2226"/>
                  <a:pt x="11807" y="2231"/>
                  <a:pt x="11708" y="2257"/>
                </a:cubicBezTo>
                <a:cubicBezTo>
                  <a:pt x="11581" y="2290"/>
                  <a:pt x="11467" y="2307"/>
                  <a:pt x="11336" y="2307"/>
                </a:cubicBezTo>
                <a:cubicBezTo>
                  <a:pt x="11238" y="2307"/>
                  <a:pt x="11146" y="2316"/>
                  <a:pt x="11063" y="2332"/>
                </a:cubicBezTo>
                <a:cubicBezTo>
                  <a:pt x="10991" y="2345"/>
                  <a:pt x="10909" y="2361"/>
                  <a:pt x="10840" y="2381"/>
                </a:cubicBezTo>
                <a:cubicBezTo>
                  <a:pt x="10754" y="2406"/>
                  <a:pt x="10656" y="2438"/>
                  <a:pt x="10567" y="2456"/>
                </a:cubicBezTo>
                <a:cubicBezTo>
                  <a:pt x="10542" y="2456"/>
                  <a:pt x="10534" y="2456"/>
                  <a:pt x="10517" y="2456"/>
                </a:cubicBezTo>
              </a:path>
              <a:path w="6549" h="2209">
                <a:moveTo>
                  <a:pt x="10567" y="2902"/>
                </a:moveTo>
                <a:cubicBezTo>
                  <a:pt x="10526" y="2861"/>
                  <a:pt x="10488" y="2837"/>
                  <a:pt x="10443" y="2803"/>
                </a:cubicBezTo>
                <a:cubicBezTo>
                  <a:pt x="10407" y="2776"/>
                  <a:pt x="10400" y="2762"/>
                  <a:pt x="10368" y="2753"/>
                </a:cubicBezTo>
                <a:cubicBezTo>
                  <a:pt x="10309" y="2737"/>
                  <a:pt x="10271" y="2726"/>
                  <a:pt x="10220" y="2679"/>
                </a:cubicBezTo>
                <a:cubicBezTo>
                  <a:pt x="10110" y="2578"/>
                  <a:pt x="9945" y="2540"/>
                  <a:pt x="9823" y="2456"/>
                </a:cubicBezTo>
                <a:cubicBezTo>
                  <a:pt x="9772" y="2421"/>
                  <a:pt x="9725" y="2390"/>
                  <a:pt x="9674" y="2356"/>
                </a:cubicBezTo>
                <a:cubicBezTo>
                  <a:pt x="9722" y="2333"/>
                  <a:pt x="9773" y="2338"/>
                  <a:pt x="9823" y="2307"/>
                </a:cubicBezTo>
                <a:cubicBezTo>
                  <a:pt x="9869" y="2278"/>
                  <a:pt x="9938" y="2244"/>
                  <a:pt x="9996" y="2232"/>
                </a:cubicBezTo>
                <a:cubicBezTo>
                  <a:pt x="10059" y="2219"/>
                  <a:pt x="10107" y="2211"/>
                  <a:pt x="10170" y="2183"/>
                </a:cubicBezTo>
                <a:cubicBezTo>
                  <a:pt x="10241" y="2151"/>
                  <a:pt x="10320" y="2156"/>
                  <a:pt x="10393" y="2133"/>
                </a:cubicBezTo>
                <a:cubicBezTo>
                  <a:pt x="10464" y="2110"/>
                  <a:pt x="10546" y="2106"/>
                  <a:pt x="10616" y="2084"/>
                </a:cubicBezTo>
                <a:cubicBezTo>
                  <a:pt x="10667" y="2068"/>
                  <a:pt x="10723" y="2030"/>
                  <a:pt x="10765" y="2009"/>
                </a:cubicBezTo>
                <a:cubicBezTo>
                  <a:pt x="10821" y="1981"/>
                  <a:pt x="10833" y="1968"/>
                  <a:pt x="10889" y="1960"/>
                </a:cubicBezTo>
              </a:path>
              <a:path w="6549" h="2209">
                <a:moveTo>
                  <a:pt x="14213" y="2332"/>
                </a:moveTo>
                <a:cubicBezTo>
                  <a:pt x="14280" y="2298"/>
                  <a:pt x="14338" y="2323"/>
                  <a:pt x="14412" y="2307"/>
                </a:cubicBezTo>
                <a:cubicBezTo>
                  <a:pt x="14514" y="2285"/>
                  <a:pt x="14603" y="2282"/>
                  <a:pt x="14709" y="2282"/>
                </a:cubicBezTo>
                <a:cubicBezTo>
                  <a:pt x="14911" y="2282"/>
                  <a:pt x="15108" y="2283"/>
                  <a:pt x="15304" y="2257"/>
                </a:cubicBezTo>
                <a:cubicBezTo>
                  <a:pt x="15335" y="2253"/>
                  <a:pt x="15372" y="2257"/>
                  <a:pt x="15404" y="2257"/>
                </a:cubicBezTo>
              </a:path>
              <a:path w="6549" h="2209">
                <a:moveTo>
                  <a:pt x="15304" y="3101"/>
                </a:moveTo>
                <a:cubicBezTo>
                  <a:pt x="15351" y="3067"/>
                  <a:pt x="15402" y="3023"/>
                  <a:pt x="15453" y="2977"/>
                </a:cubicBezTo>
                <a:cubicBezTo>
                  <a:pt x="15524" y="2913"/>
                  <a:pt x="15539" y="2872"/>
                  <a:pt x="15627" y="2828"/>
                </a:cubicBezTo>
                <a:cubicBezTo>
                  <a:pt x="15667" y="2808"/>
                  <a:pt x="15719" y="2799"/>
                  <a:pt x="15751" y="2778"/>
                </a:cubicBezTo>
                <a:cubicBezTo>
                  <a:pt x="15761" y="2771"/>
                  <a:pt x="15786" y="2727"/>
                  <a:pt x="15801" y="2704"/>
                </a:cubicBezTo>
                <a:cubicBezTo>
                  <a:pt x="15844" y="2636"/>
                  <a:pt x="15891" y="2588"/>
                  <a:pt x="15949" y="2530"/>
                </a:cubicBezTo>
                <a:cubicBezTo>
                  <a:pt x="15995" y="2484"/>
                  <a:pt x="16051" y="2453"/>
                  <a:pt x="16098" y="2406"/>
                </a:cubicBezTo>
                <a:cubicBezTo>
                  <a:pt x="16141" y="2363"/>
                  <a:pt x="16204" y="2337"/>
                  <a:pt x="16222" y="2282"/>
                </a:cubicBezTo>
                <a:cubicBezTo>
                  <a:pt x="16249" y="2200"/>
                  <a:pt x="16118" y="2196"/>
                  <a:pt x="16073" y="2158"/>
                </a:cubicBezTo>
                <a:cubicBezTo>
                  <a:pt x="16012" y="2107"/>
                  <a:pt x="15948" y="2090"/>
                  <a:pt x="15875" y="2059"/>
                </a:cubicBezTo>
                <a:cubicBezTo>
                  <a:pt x="15797" y="2026"/>
                  <a:pt x="15794" y="1975"/>
                  <a:pt x="15701" y="1960"/>
                </a:cubicBezTo>
                <a:cubicBezTo>
                  <a:pt x="15652" y="1952"/>
                  <a:pt x="15618" y="1921"/>
                  <a:pt x="15577" y="1910"/>
                </a:cubicBezTo>
                <a:cubicBezTo>
                  <a:pt x="15531" y="1898"/>
                  <a:pt x="15538" y="1896"/>
                  <a:pt x="15503" y="1885"/>
                </a:cubicBezTo>
                <a:cubicBezTo>
                  <a:pt x="15495" y="1885"/>
                  <a:pt x="15486" y="1885"/>
                  <a:pt x="15478" y="1885"/>
                </a:cubicBezTo>
              </a:path>
              <a:path w="6549" h="2209">
                <a:moveTo>
                  <a:pt x="11807" y="893"/>
                </a:moveTo>
                <a:cubicBezTo>
                  <a:pt x="11798" y="980"/>
                  <a:pt x="11789" y="969"/>
                  <a:pt x="11782" y="1017"/>
                </a:cubicBezTo>
                <a:cubicBezTo>
                  <a:pt x="11769" y="1114"/>
                  <a:pt x="11749" y="1335"/>
                  <a:pt x="11807" y="1414"/>
                </a:cubicBezTo>
                <a:cubicBezTo>
                  <a:pt x="11819" y="1431"/>
                  <a:pt x="11866" y="1453"/>
                  <a:pt x="11906" y="1439"/>
                </a:cubicBezTo>
                <a:cubicBezTo>
                  <a:pt x="11938" y="1428"/>
                  <a:pt x="12043" y="1350"/>
                  <a:pt x="12055" y="1339"/>
                </a:cubicBezTo>
                <a:cubicBezTo>
                  <a:pt x="12090" y="1304"/>
                  <a:pt x="12126" y="1262"/>
                  <a:pt x="12154" y="1215"/>
                </a:cubicBezTo>
                <a:cubicBezTo>
                  <a:pt x="12174" y="1181"/>
                  <a:pt x="12184" y="1161"/>
                  <a:pt x="12204" y="1141"/>
                </a:cubicBezTo>
                <a:cubicBezTo>
                  <a:pt x="12204" y="1254"/>
                  <a:pt x="12210" y="1364"/>
                  <a:pt x="12229" y="1463"/>
                </a:cubicBezTo>
                <a:cubicBezTo>
                  <a:pt x="12243" y="1539"/>
                  <a:pt x="12243" y="1597"/>
                  <a:pt x="12278" y="1662"/>
                </a:cubicBezTo>
                <a:cubicBezTo>
                  <a:pt x="12286" y="1670"/>
                  <a:pt x="12295" y="1679"/>
                  <a:pt x="12303" y="1687"/>
                </a:cubicBezTo>
                <a:cubicBezTo>
                  <a:pt x="12350" y="1651"/>
                  <a:pt x="12405" y="1613"/>
                  <a:pt x="12452" y="1563"/>
                </a:cubicBezTo>
                <a:cubicBezTo>
                  <a:pt x="12502" y="1510"/>
                  <a:pt x="12574" y="1432"/>
                  <a:pt x="12601" y="1389"/>
                </a:cubicBezTo>
                <a:cubicBezTo>
                  <a:pt x="12624" y="1352"/>
                  <a:pt x="12628" y="1295"/>
                  <a:pt x="12650" y="1265"/>
                </a:cubicBezTo>
                <a:cubicBezTo>
                  <a:pt x="12679" y="1226"/>
                  <a:pt x="12701" y="1178"/>
                  <a:pt x="12725" y="1116"/>
                </a:cubicBezTo>
                <a:cubicBezTo>
                  <a:pt x="12744" y="1066"/>
                  <a:pt x="12767" y="1005"/>
                  <a:pt x="12799" y="967"/>
                </a:cubicBezTo>
                <a:cubicBezTo>
                  <a:pt x="12807" y="959"/>
                  <a:pt x="12816" y="951"/>
                  <a:pt x="12824" y="943"/>
                </a:cubicBezTo>
              </a:path>
              <a:path w="6549" h="2209">
                <a:moveTo>
                  <a:pt x="13097" y="1588"/>
                </a:moveTo>
                <a:cubicBezTo>
                  <a:pt x="13064" y="1588"/>
                  <a:pt x="13016" y="1575"/>
                  <a:pt x="12998" y="1612"/>
                </a:cubicBezTo>
                <a:cubicBezTo>
                  <a:pt x="12984" y="1641"/>
                  <a:pt x="12974" y="1704"/>
                  <a:pt x="12973" y="1736"/>
                </a:cubicBezTo>
                <a:cubicBezTo>
                  <a:pt x="12970" y="1802"/>
                  <a:pt x="12973" y="1869"/>
                  <a:pt x="12973" y="1935"/>
                </a:cubicBezTo>
                <a:cubicBezTo>
                  <a:pt x="13059" y="1935"/>
                  <a:pt x="13039" y="1946"/>
                  <a:pt x="13072" y="1885"/>
                </a:cubicBezTo>
                <a:cubicBezTo>
                  <a:pt x="13105" y="1825"/>
                  <a:pt x="13139" y="1788"/>
                  <a:pt x="13146" y="1712"/>
                </a:cubicBezTo>
                <a:cubicBezTo>
                  <a:pt x="13146" y="1684"/>
                  <a:pt x="13148" y="1673"/>
                  <a:pt x="13171" y="1662"/>
                </a:cubicBezTo>
              </a:path>
              <a:path w="6549" h="2209">
                <a:moveTo>
                  <a:pt x="13395" y="1860"/>
                </a:moveTo>
                <a:cubicBezTo>
                  <a:pt x="13395" y="1916"/>
                  <a:pt x="13401" y="1959"/>
                  <a:pt x="13370" y="2009"/>
                </a:cubicBezTo>
                <a:cubicBezTo>
                  <a:pt x="13339" y="2059"/>
                  <a:pt x="13279" y="2078"/>
                  <a:pt x="13246" y="2133"/>
                </a:cubicBezTo>
                <a:cubicBezTo>
                  <a:pt x="13222" y="2181"/>
                  <a:pt x="13214" y="2195"/>
                  <a:pt x="13221" y="2232"/>
                </a:cubicBezTo>
                <a:cubicBezTo>
                  <a:pt x="13275" y="2232"/>
                  <a:pt x="13296" y="2220"/>
                  <a:pt x="13320" y="2208"/>
                </a:cubicBezTo>
                <a:cubicBezTo>
                  <a:pt x="13341" y="2198"/>
                  <a:pt x="13395" y="2208"/>
                  <a:pt x="13419" y="2208"/>
                </a:cubicBezTo>
                <a:cubicBezTo>
                  <a:pt x="13419" y="2291"/>
                  <a:pt x="13412" y="2354"/>
                  <a:pt x="13395" y="2431"/>
                </a:cubicBezTo>
                <a:cubicBezTo>
                  <a:pt x="13395" y="2439"/>
                  <a:pt x="13395" y="2448"/>
                  <a:pt x="13395" y="2456"/>
                </a:cubicBezTo>
                <a:cubicBezTo>
                  <a:pt x="13493" y="2456"/>
                  <a:pt x="13576" y="2446"/>
                  <a:pt x="13667" y="2431"/>
                </a:cubicBezTo>
                <a:cubicBezTo>
                  <a:pt x="13742" y="2418"/>
                  <a:pt x="13794" y="2439"/>
                  <a:pt x="13866" y="2406"/>
                </a:cubicBezTo>
                <a:cubicBezTo>
                  <a:pt x="13921" y="2381"/>
                  <a:pt x="13957" y="2381"/>
                  <a:pt x="14015" y="23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In some roles like dog handler you need to be in the, police for a certain time. For dog handler you need to be in the police for 2 whole year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3120" y="4938840"/>
            <a:ext cx="1401840" cy="911160"/>
          </a:xfrm>
          <a:custGeom>
            <a:avLst/>
            <a:gdLst/>
            <a:ahLst/>
            <a:rect l="l" t="t" r="r" b="b"/>
            <a:pathLst>
              <a:path w="3895" h="2531">
                <a:moveTo>
                  <a:pt x="4093" y="13717"/>
                </a:moveTo>
                <a:cubicBezTo>
                  <a:pt x="4155" y="13842"/>
                  <a:pt x="4227" y="13946"/>
                  <a:pt x="4316" y="14064"/>
                </a:cubicBezTo>
                <a:cubicBezTo>
                  <a:pt x="4460" y="14254"/>
                  <a:pt x="4595" y="14444"/>
                  <a:pt x="4738" y="14635"/>
                </a:cubicBezTo>
                <a:cubicBezTo>
                  <a:pt x="4861" y="14799"/>
                  <a:pt x="4977" y="14976"/>
                  <a:pt x="5110" y="15131"/>
                </a:cubicBezTo>
                <a:cubicBezTo>
                  <a:pt x="5222" y="15262"/>
                  <a:pt x="5395" y="15426"/>
                  <a:pt x="5531" y="15528"/>
                </a:cubicBezTo>
                <a:cubicBezTo>
                  <a:pt x="5638" y="15609"/>
                  <a:pt x="5785" y="15665"/>
                  <a:pt x="5904" y="15726"/>
                </a:cubicBezTo>
                <a:cubicBezTo>
                  <a:pt x="6079" y="15815"/>
                  <a:pt x="6275" y="15844"/>
                  <a:pt x="6449" y="15925"/>
                </a:cubicBezTo>
                <a:cubicBezTo>
                  <a:pt x="6636" y="16012"/>
                  <a:pt x="6803" y="16104"/>
                  <a:pt x="6995" y="16173"/>
                </a:cubicBezTo>
                <a:cubicBezTo>
                  <a:pt x="7121" y="16218"/>
                  <a:pt x="7235" y="16236"/>
                  <a:pt x="7367" y="16247"/>
                </a:cubicBezTo>
                <a:cubicBezTo>
                  <a:pt x="7446" y="16254"/>
                  <a:pt x="7566" y="16259"/>
                  <a:pt x="7640" y="16222"/>
                </a:cubicBezTo>
                <a:cubicBezTo>
                  <a:pt x="7741" y="16172"/>
                  <a:pt x="7824" y="16120"/>
                  <a:pt x="7888" y="16024"/>
                </a:cubicBezTo>
                <a:cubicBezTo>
                  <a:pt x="7942" y="15943"/>
                  <a:pt x="7972" y="15869"/>
                  <a:pt x="7987" y="15776"/>
                </a:cubicBezTo>
                <a:cubicBezTo>
                  <a:pt x="7998" y="15707"/>
                  <a:pt x="7986" y="15657"/>
                  <a:pt x="7962" y="15627"/>
                </a:cubicBezTo>
                <a:cubicBezTo>
                  <a:pt x="7938" y="15627"/>
                  <a:pt x="7929" y="15627"/>
                  <a:pt x="7913" y="15627"/>
                </a:cubicBezTo>
              </a:path>
            </a:pathLst>
          </a:custGeom>
          <a:noFill/>
          <a:ln cap="rnd" w="3492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7200" y="581040"/>
            <a:ext cx="8832960" cy="5143320"/>
          </a:xfrm>
          <a:custGeom>
            <a:avLst/>
            <a:gdLst/>
            <a:ahLst/>
            <a:rect l="l" t="t" r="r" b="b"/>
            <a:pathLst>
              <a:path w="24533" h="14289">
                <a:moveTo>
                  <a:pt x="13221" y="14263"/>
                </a:moveTo>
                <a:cubicBezTo>
                  <a:pt x="13180" y="14226"/>
                  <a:pt x="13186" y="14226"/>
                  <a:pt x="13146" y="14188"/>
                </a:cubicBezTo>
                <a:cubicBezTo>
                  <a:pt x="13032" y="14079"/>
                  <a:pt x="12989" y="13967"/>
                  <a:pt x="12849" y="13866"/>
                </a:cubicBezTo>
                <a:cubicBezTo>
                  <a:pt x="12548" y="13649"/>
                  <a:pt x="12298" y="13521"/>
                  <a:pt x="11931" y="13444"/>
                </a:cubicBezTo>
                <a:cubicBezTo>
                  <a:pt x="11476" y="13348"/>
                  <a:pt x="10899" y="13341"/>
                  <a:pt x="10443" y="13444"/>
                </a:cubicBezTo>
                <a:cubicBezTo>
                  <a:pt x="9856" y="13577"/>
                  <a:pt x="9403" y="13941"/>
                  <a:pt x="8905" y="14263"/>
                </a:cubicBezTo>
                <a:cubicBezTo>
                  <a:pt x="8748" y="14364"/>
                  <a:pt x="8594" y="14442"/>
                  <a:pt x="8434" y="14536"/>
                </a:cubicBezTo>
                <a:cubicBezTo>
                  <a:pt x="8267" y="14634"/>
                  <a:pt x="8145" y="14726"/>
                  <a:pt x="7962" y="14808"/>
                </a:cubicBezTo>
                <a:cubicBezTo>
                  <a:pt x="7102" y="15197"/>
                  <a:pt x="6020" y="15308"/>
                  <a:pt x="5110" y="15032"/>
                </a:cubicBezTo>
                <a:cubicBezTo>
                  <a:pt x="4770" y="14929"/>
                  <a:pt x="4582" y="14782"/>
                  <a:pt x="4390" y="14511"/>
                </a:cubicBezTo>
                <a:cubicBezTo>
                  <a:pt x="4265" y="14335"/>
                  <a:pt x="4253" y="14186"/>
                  <a:pt x="4217" y="13990"/>
                </a:cubicBezTo>
                <a:cubicBezTo>
                  <a:pt x="4144" y="13598"/>
                  <a:pt x="4323" y="13228"/>
                  <a:pt x="4316" y="12849"/>
                </a:cubicBezTo>
                <a:cubicBezTo>
                  <a:pt x="4300" y="11989"/>
                  <a:pt x="3831" y="11315"/>
                  <a:pt x="2952" y="11112"/>
                </a:cubicBezTo>
                <a:cubicBezTo>
                  <a:pt x="2883" y="11096"/>
                  <a:pt x="2767" y="11073"/>
                  <a:pt x="2704" y="11063"/>
                </a:cubicBezTo>
                <a:cubicBezTo>
                  <a:pt x="2173" y="10980"/>
                  <a:pt x="1885" y="11215"/>
                  <a:pt x="1414" y="10889"/>
                </a:cubicBezTo>
                <a:cubicBezTo>
                  <a:pt x="1303" y="10812"/>
                  <a:pt x="1249" y="10801"/>
                  <a:pt x="1166" y="10691"/>
                </a:cubicBezTo>
                <a:cubicBezTo>
                  <a:pt x="860" y="10288"/>
                  <a:pt x="1006" y="9948"/>
                  <a:pt x="1091" y="9525"/>
                </a:cubicBezTo>
                <a:cubicBezTo>
                  <a:pt x="1111" y="9424"/>
                  <a:pt x="1193" y="9339"/>
                  <a:pt x="1215" y="9227"/>
                </a:cubicBezTo>
                <a:cubicBezTo>
                  <a:pt x="1368" y="8440"/>
                  <a:pt x="1068" y="8415"/>
                  <a:pt x="769" y="7838"/>
                </a:cubicBezTo>
                <a:cubicBezTo>
                  <a:pt x="696" y="7698"/>
                  <a:pt x="597" y="7601"/>
                  <a:pt x="546" y="7441"/>
                </a:cubicBezTo>
                <a:cubicBezTo>
                  <a:pt x="339" y="6797"/>
                  <a:pt x="638" y="5963"/>
                  <a:pt x="670" y="5333"/>
                </a:cubicBezTo>
                <a:cubicBezTo>
                  <a:pt x="716" y="4413"/>
                  <a:pt x="606" y="3488"/>
                  <a:pt x="1240" y="2753"/>
                </a:cubicBezTo>
                <a:cubicBezTo>
                  <a:pt x="1391" y="2578"/>
                  <a:pt x="1603" y="2473"/>
                  <a:pt x="1786" y="2332"/>
                </a:cubicBezTo>
                <a:cubicBezTo>
                  <a:pt x="2021" y="2150"/>
                  <a:pt x="2175" y="2020"/>
                  <a:pt x="2456" y="1984"/>
                </a:cubicBezTo>
                <a:cubicBezTo>
                  <a:pt x="2761" y="1945"/>
                  <a:pt x="3116" y="2074"/>
                  <a:pt x="3398" y="2158"/>
                </a:cubicBezTo>
                <a:cubicBezTo>
                  <a:pt x="3559" y="2206"/>
                  <a:pt x="3694" y="2276"/>
                  <a:pt x="3845" y="2332"/>
                </a:cubicBezTo>
                <a:cubicBezTo>
                  <a:pt x="4011" y="2393"/>
                  <a:pt x="4183" y="2492"/>
                  <a:pt x="4341" y="2530"/>
                </a:cubicBezTo>
                <a:cubicBezTo>
                  <a:pt x="4520" y="2573"/>
                  <a:pt x="4708" y="2572"/>
                  <a:pt x="4887" y="2604"/>
                </a:cubicBezTo>
                <a:cubicBezTo>
                  <a:pt x="5031" y="2630"/>
                  <a:pt x="5188" y="2638"/>
                  <a:pt x="5333" y="2654"/>
                </a:cubicBezTo>
                <a:cubicBezTo>
                  <a:pt x="5784" y="2703"/>
                  <a:pt x="6299" y="2775"/>
                  <a:pt x="6747" y="2629"/>
                </a:cubicBezTo>
                <a:cubicBezTo>
                  <a:pt x="7022" y="2540"/>
                  <a:pt x="7252" y="2307"/>
                  <a:pt x="7516" y="2208"/>
                </a:cubicBezTo>
                <a:cubicBezTo>
                  <a:pt x="7623" y="2168"/>
                  <a:pt x="7679" y="2115"/>
                  <a:pt x="7789" y="2084"/>
                </a:cubicBezTo>
                <a:cubicBezTo>
                  <a:pt x="7920" y="2047"/>
                  <a:pt x="8077" y="2109"/>
                  <a:pt x="8186" y="2084"/>
                </a:cubicBezTo>
                <a:cubicBezTo>
                  <a:pt x="8166" y="2129"/>
                  <a:pt x="8185" y="2138"/>
                  <a:pt x="8161" y="2183"/>
                </a:cubicBezTo>
                <a:cubicBezTo>
                  <a:pt x="8098" y="2300"/>
                  <a:pt x="7963" y="2517"/>
                  <a:pt x="7913" y="2654"/>
                </a:cubicBezTo>
                <a:cubicBezTo>
                  <a:pt x="7878" y="2689"/>
                  <a:pt x="7874" y="2711"/>
                  <a:pt x="7913" y="2753"/>
                </a:cubicBezTo>
                <a:cubicBezTo>
                  <a:pt x="7986" y="2787"/>
                  <a:pt x="8085" y="2721"/>
                  <a:pt x="8235" y="2828"/>
                </a:cubicBezTo>
                <a:cubicBezTo>
                  <a:pt x="8323" y="2891"/>
                  <a:pt x="8415" y="3065"/>
                  <a:pt x="8508" y="3101"/>
                </a:cubicBezTo>
                <a:cubicBezTo>
                  <a:pt x="8803" y="3214"/>
                  <a:pt x="9039" y="3232"/>
                  <a:pt x="9401" y="3225"/>
                </a:cubicBezTo>
                <a:cubicBezTo>
                  <a:pt x="9631" y="3221"/>
                  <a:pt x="9888" y="3159"/>
                  <a:pt x="10096" y="3076"/>
                </a:cubicBezTo>
                <a:cubicBezTo>
                  <a:pt x="10386" y="2960"/>
                  <a:pt x="10558" y="2791"/>
                  <a:pt x="10815" y="2604"/>
                </a:cubicBezTo>
                <a:cubicBezTo>
                  <a:pt x="10882" y="2555"/>
                  <a:pt x="10929" y="2500"/>
                  <a:pt x="10988" y="2456"/>
                </a:cubicBezTo>
                <a:cubicBezTo>
                  <a:pt x="11190" y="2306"/>
                  <a:pt x="11388" y="2133"/>
                  <a:pt x="11609" y="2009"/>
                </a:cubicBezTo>
                <a:cubicBezTo>
                  <a:pt x="11737" y="1937"/>
                  <a:pt x="11893" y="1887"/>
                  <a:pt x="12030" y="1836"/>
                </a:cubicBezTo>
                <a:cubicBezTo>
                  <a:pt x="12139" y="1796"/>
                  <a:pt x="12221" y="1766"/>
                  <a:pt x="12328" y="1736"/>
                </a:cubicBezTo>
                <a:cubicBezTo>
                  <a:pt x="13001" y="1547"/>
                  <a:pt x="13715" y="1568"/>
                  <a:pt x="14362" y="1761"/>
                </a:cubicBezTo>
                <a:cubicBezTo>
                  <a:pt x="14455" y="1789"/>
                  <a:pt x="14519" y="1827"/>
                  <a:pt x="14610" y="1860"/>
                </a:cubicBezTo>
                <a:cubicBezTo>
                  <a:pt x="14719" y="1900"/>
                  <a:pt x="14832" y="1936"/>
                  <a:pt x="14932" y="1984"/>
                </a:cubicBezTo>
                <a:cubicBezTo>
                  <a:pt x="15035" y="2034"/>
                  <a:pt x="15126" y="2058"/>
                  <a:pt x="15230" y="2108"/>
                </a:cubicBezTo>
                <a:cubicBezTo>
                  <a:pt x="15586" y="2281"/>
                  <a:pt x="15875" y="2464"/>
                  <a:pt x="16272" y="2580"/>
                </a:cubicBezTo>
                <a:cubicBezTo>
                  <a:pt x="16519" y="2652"/>
                  <a:pt x="16787" y="2693"/>
                  <a:pt x="17041" y="2704"/>
                </a:cubicBezTo>
                <a:cubicBezTo>
                  <a:pt x="17315" y="2716"/>
                  <a:pt x="17510" y="2670"/>
                  <a:pt x="17760" y="2604"/>
                </a:cubicBezTo>
                <a:cubicBezTo>
                  <a:pt x="17860" y="2578"/>
                  <a:pt x="17953" y="2516"/>
                  <a:pt x="18058" y="2480"/>
                </a:cubicBezTo>
                <a:cubicBezTo>
                  <a:pt x="18425" y="2353"/>
                  <a:pt x="18777" y="2190"/>
                  <a:pt x="19149" y="2084"/>
                </a:cubicBezTo>
                <a:cubicBezTo>
                  <a:pt x="19179" y="2075"/>
                  <a:pt x="19218" y="2093"/>
                  <a:pt x="19248" y="2084"/>
                </a:cubicBezTo>
                <a:cubicBezTo>
                  <a:pt x="19281" y="2206"/>
                  <a:pt x="19459" y="2469"/>
                  <a:pt x="19447" y="2580"/>
                </a:cubicBezTo>
                <a:cubicBezTo>
                  <a:pt x="19447" y="2671"/>
                  <a:pt x="19430" y="2700"/>
                  <a:pt x="19323" y="2679"/>
                </a:cubicBezTo>
                <a:cubicBezTo>
                  <a:pt x="19416" y="2672"/>
                  <a:pt x="19404" y="2716"/>
                  <a:pt x="19496" y="2704"/>
                </a:cubicBezTo>
                <a:cubicBezTo>
                  <a:pt x="19528" y="2700"/>
                  <a:pt x="19537" y="2743"/>
                  <a:pt x="19596" y="2729"/>
                </a:cubicBezTo>
                <a:cubicBezTo>
                  <a:pt x="20058" y="2617"/>
                  <a:pt x="20518" y="2443"/>
                  <a:pt x="20960" y="2232"/>
                </a:cubicBezTo>
                <a:cubicBezTo>
                  <a:pt x="21099" y="2166"/>
                  <a:pt x="21242" y="2125"/>
                  <a:pt x="21382" y="2059"/>
                </a:cubicBezTo>
                <a:cubicBezTo>
                  <a:pt x="21519" y="1994"/>
                  <a:pt x="21626" y="1853"/>
                  <a:pt x="21803" y="1811"/>
                </a:cubicBezTo>
                <a:cubicBezTo>
                  <a:pt x="22021" y="1759"/>
                  <a:pt x="22265" y="1723"/>
                  <a:pt x="22473" y="1811"/>
                </a:cubicBezTo>
                <a:cubicBezTo>
                  <a:pt x="22543" y="1841"/>
                  <a:pt x="22607" y="1914"/>
                  <a:pt x="22671" y="1960"/>
                </a:cubicBezTo>
                <a:cubicBezTo>
                  <a:pt x="22716" y="1992"/>
                  <a:pt x="22726" y="2043"/>
                  <a:pt x="22746" y="2059"/>
                </a:cubicBezTo>
                <a:cubicBezTo>
                  <a:pt x="22877" y="2166"/>
                  <a:pt x="22934" y="2327"/>
                  <a:pt x="23044" y="2456"/>
                </a:cubicBezTo>
                <a:cubicBezTo>
                  <a:pt x="23139" y="2568"/>
                  <a:pt x="23216" y="2678"/>
                  <a:pt x="23292" y="2803"/>
                </a:cubicBezTo>
                <a:cubicBezTo>
                  <a:pt x="23354" y="2905"/>
                  <a:pt x="23412" y="2974"/>
                  <a:pt x="23465" y="3076"/>
                </a:cubicBezTo>
                <a:cubicBezTo>
                  <a:pt x="23526" y="3193"/>
                  <a:pt x="23558" y="3324"/>
                  <a:pt x="23614" y="3448"/>
                </a:cubicBezTo>
                <a:cubicBezTo>
                  <a:pt x="23676" y="3584"/>
                  <a:pt x="23751" y="3732"/>
                  <a:pt x="23812" y="3870"/>
                </a:cubicBezTo>
                <a:cubicBezTo>
                  <a:pt x="23894" y="4054"/>
                  <a:pt x="23983" y="4269"/>
                  <a:pt x="24061" y="4465"/>
                </a:cubicBezTo>
                <a:cubicBezTo>
                  <a:pt x="24222" y="4869"/>
                  <a:pt x="24250" y="5158"/>
                  <a:pt x="24284" y="5581"/>
                </a:cubicBezTo>
                <a:cubicBezTo>
                  <a:pt x="24323" y="6073"/>
                  <a:pt x="24383" y="6362"/>
                  <a:pt x="24557" y="6821"/>
                </a:cubicBezTo>
                <a:cubicBezTo>
                  <a:pt x="24599" y="6933"/>
                  <a:pt x="24667" y="7034"/>
                  <a:pt x="24705" y="7144"/>
                </a:cubicBezTo>
                <a:cubicBezTo>
                  <a:pt x="24734" y="7228"/>
                  <a:pt x="24752" y="7311"/>
                  <a:pt x="24780" y="7392"/>
                </a:cubicBezTo>
                <a:cubicBezTo>
                  <a:pt x="24834" y="7548"/>
                  <a:pt x="24857" y="7740"/>
                  <a:pt x="24904" y="7913"/>
                </a:cubicBezTo>
                <a:cubicBezTo>
                  <a:pt x="24966" y="8143"/>
                  <a:pt x="25072" y="8371"/>
                  <a:pt x="25053" y="8632"/>
                </a:cubicBezTo>
                <a:cubicBezTo>
                  <a:pt x="25028" y="8984"/>
                  <a:pt x="24873" y="9686"/>
                  <a:pt x="24705" y="9971"/>
                </a:cubicBezTo>
                <a:cubicBezTo>
                  <a:pt x="24640" y="10081"/>
                  <a:pt x="24576" y="10141"/>
                  <a:pt x="24507" y="10220"/>
                </a:cubicBezTo>
                <a:cubicBezTo>
                  <a:pt x="24439" y="10298"/>
                  <a:pt x="24321" y="10339"/>
                  <a:pt x="24259" y="10393"/>
                </a:cubicBezTo>
                <a:cubicBezTo>
                  <a:pt x="24121" y="10515"/>
                  <a:pt x="23925" y="10672"/>
                  <a:pt x="23812" y="10740"/>
                </a:cubicBezTo>
                <a:cubicBezTo>
                  <a:pt x="23672" y="10824"/>
                  <a:pt x="23557" y="10893"/>
                  <a:pt x="23391" y="10964"/>
                </a:cubicBezTo>
                <a:cubicBezTo>
                  <a:pt x="23180" y="11054"/>
                  <a:pt x="22966" y="11105"/>
                  <a:pt x="22746" y="11162"/>
                </a:cubicBezTo>
                <a:cubicBezTo>
                  <a:pt x="22318" y="11273"/>
                  <a:pt x="21913" y="11347"/>
                  <a:pt x="21506" y="11509"/>
                </a:cubicBezTo>
                <a:cubicBezTo>
                  <a:pt x="21243" y="11614"/>
                  <a:pt x="20991" y="11771"/>
                  <a:pt x="20737" y="11881"/>
                </a:cubicBezTo>
                <a:cubicBezTo>
                  <a:pt x="20569" y="11953"/>
                  <a:pt x="20362" y="12027"/>
                  <a:pt x="20191" y="12105"/>
                </a:cubicBezTo>
                <a:cubicBezTo>
                  <a:pt x="19855" y="12257"/>
                  <a:pt x="19549" y="12383"/>
                  <a:pt x="19273" y="12626"/>
                </a:cubicBezTo>
                <a:cubicBezTo>
                  <a:pt x="19035" y="12836"/>
                  <a:pt x="18852" y="13137"/>
                  <a:pt x="18678" y="13370"/>
                </a:cubicBezTo>
                <a:cubicBezTo>
                  <a:pt x="18383" y="13766"/>
                  <a:pt x="18124" y="14180"/>
                  <a:pt x="17760" y="14486"/>
                </a:cubicBezTo>
                <a:cubicBezTo>
                  <a:pt x="17427" y="14766"/>
                  <a:pt x="17133" y="14988"/>
                  <a:pt x="16793" y="15230"/>
                </a:cubicBezTo>
                <a:cubicBezTo>
                  <a:pt x="16580" y="15382"/>
                  <a:pt x="16379" y="15512"/>
                  <a:pt x="16173" y="15602"/>
                </a:cubicBezTo>
                <a:cubicBezTo>
                  <a:pt x="15704" y="15807"/>
                  <a:pt x="15144" y="15996"/>
                  <a:pt x="14610" y="15900"/>
                </a:cubicBezTo>
                <a:cubicBezTo>
                  <a:pt x="14534" y="15886"/>
                  <a:pt x="14457" y="15902"/>
                  <a:pt x="14387" y="15875"/>
                </a:cubicBezTo>
                <a:cubicBezTo>
                  <a:pt x="14324" y="15850"/>
                  <a:pt x="14228" y="15800"/>
                  <a:pt x="14188" y="15776"/>
                </a:cubicBezTo>
                <a:cubicBezTo>
                  <a:pt x="14150" y="15753"/>
                  <a:pt x="14122" y="15677"/>
                  <a:pt x="14089" y="15652"/>
                </a:cubicBezTo>
                <a:cubicBezTo>
                  <a:pt x="14059" y="15629"/>
                  <a:pt x="14028" y="15563"/>
                  <a:pt x="13990" y="15528"/>
                </a:cubicBezTo>
                <a:cubicBezTo>
                  <a:pt x="13907" y="15451"/>
                  <a:pt x="13823" y="15353"/>
                  <a:pt x="13767" y="15280"/>
                </a:cubicBezTo>
                <a:cubicBezTo>
                  <a:pt x="13698" y="15190"/>
                  <a:pt x="13681" y="15061"/>
                  <a:pt x="13618" y="14957"/>
                </a:cubicBezTo>
                <a:cubicBezTo>
                  <a:pt x="13601" y="14929"/>
                  <a:pt x="13590" y="14923"/>
                  <a:pt x="13568" y="14883"/>
                </a:cubicBezTo>
                <a:cubicBezTo>
                  <a:pt x="13525" y="14803"/>
                  <a:pt x="13476" y="14747"/>
                  <a:pt x="13444" y="14684"/>
                </a:cubicBezTo>
                <a:cubicBezTo>
                  <a:pt x="13430" y="14656"/>
                  <a:pt x="13438" y="14623"/>
                  <a:pt x="13419" y="14585"/>
                </a:cubicBezTo>
                <a:cubicBezTo>
                  <a:pt x="13367" y="14482"/>
                  <a:pt x="13309" y="14349"/>
                  <a:pt x="13271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0680" y="5562720"/>
            <a:ext cx="1161720" cy="884160"/>
          </a:xfrm>
          <a:custGeom>
            <a:avLst/>
            <a:gdLst/>
            <a:ahLst/>
            <a:rect l="l" t="t" r="r" b="b"/>
            <a:pathLst>
              <a:path w="3226" h="2457">
                <a:moveTo>
                  <a:pt x="7863" y="15949"/>
                </a:moveTo>
                <a:cubicBezTo>
                  <a:pt x="7923" y="15924"/>
                  <a:pt x="7950" y="15916"/>
                  <a:pt x="8012" y="15875"/>
                </a:cubicBezTo>
                <a:cubicBezTo>
                  <a:pt x="8124" y="15801"/>
                  <a:pt x="8133" y="15680"/>
                  <a:pt x="8260" y="15602"/>
                </a:cubicBezTo>
                <a:cubicBezTo>
                  <a:pt x="8324" y="15563"/>
                  <a:pt x="8412" y="15507"/>
                  <a:pt x="8483" y="15478"/>
                </a:cubicBezTo>
                <a:cubicBezTo>
                  <a:pt x="8534" y="15457"/>
                  <a:pt x="8601" y="15459"/>
                  <a:pt x="8657" y="15453"/>
                </a:cubicBezTo>
                <a:cubicBezTo>
                  <a:pt x="8873" y="15431"/>
                  <a:pt x="9099" y="15452"/>
                  <a:pt x="9302" y="15503"/>
                </a:cubicBezTo>
                <a:cubicBezTo>
                  <a:pt x="9444" y="15539"/>
                  <a:pt x="9587" y="15544"/>
                  <a:pt x="9723" y="15577"/>
                </a:cubicBezTo>
                <a:cubicBezTo>
                  <a:pt x="9846" y="15607"/>
                  <a:pt x="9974" y="15641"/>
                  <a:pt x="10096" y="15677"/>
                </a:cubicBezTo>
                <a:cubicBezTo>
                  <a:pt x="10196" y="15707"/>
                  <a:pt x="10279" y="15747"/>
                  <a:pt x="10368" y="15801"/>
                </a:cubicBezTo>
                <a:cubicBezTo>
                  <a:pt x="10456" y="15854"/>
                  <a:pt x="10537" y="15903"/>
                  <a:pt x="10616" y="15974"/>
                </a:cubicBezTo>
                <a:cubicBezTo>
                  <a:pt x="10645" y="16000"/>
                  <a:pt x="10699" y="16044"/>
                  <a:pt x="10716" y="16098"/>
                </a:cubicBezTo>
                <a:cubicBezTo>
                  <a:pt x="10731" y="16149"/>
                  <a:pt x="10735" y="16221"/>
                  <a:pt x="10740" y="16272"/>
                </a:cubicBezTo>
                <a:cubicBezTo>
                  <a:pt x="10747" y="16342"/>
                  <a:pt x="10756" y="16467"/>
                  <a:pt x="10716" y="16520"/>
                </a:cubicBezTo>
                <a:cubicBezTo>
                  <a:pt x="10666" y="16588"/>
                  <a:pt x="10580" y="16659"/>
                  <a:pt x="10517" y="16718"/>
                </a:cubicBezTo>
                <a:cubicBezTo>
                  <a:pt x="10416" y="16812"/>
                  <a:pt x="10297" y="16881"/>
                  <a:pt x="10195" y="16966"/>
                </a:cubicBezTo>
                <a:cubicBezTo>
                  <a:pt x="10118" y="17030"/>
                  <a:pt x="10071" y="17086"/>
                  <a:pt x="9996" y="17140"/>
                </a:cubicBezTo>
                <a:cubicBezTo>
                  <a:pt x="9896" y="17211"/>
                  <a:pt x="9767" y="17271"/>
                  <a:pt x="9649" y="17314"/>
                </a:cubicBezTo>
                <a:cubicBezTo>
                  <a:pt x="9478" y="17377"/>
                  <a:pt x="9282" y="17428"/>
                  <a:pt x="9103" y="17462"/>
                </a:cubicBezTo>
                <a:cubicBezTo>
                  <a:pt x="8953" y="17490"/>
                  <a:pt x="8801" y="17518"/>
                  <a:pt x="8657" y="17562"/>
                </a:cubicBezTo>
                <a:cubicBezTo>
                  <a:pt x="8603" y="17578"/>
                  <a:pt x="8533" y="17592"/>
                  <a:pt x="8483" y="17611"/>
                </a:cubicBezTo>
                <a:cubicBezTo>
                  <a:pt x="8437" y="17628"/>
                  <a:pt x="8404" y="17666"/>
                  <a:pt x="8359" y="17686"/>
                </a:cubicBezTo>
                <a:cubicBezTo>
                  <a:pt x="8315" y="17686"/>
                  <a:pt x="8301" y="17683"/>
                  <a:pt x="8285" y="17711"/>
                </a:cubicBezTo>
                <a:cubicBezTo>
                  <a:pt x="8316" y="17721"/>
                  <a:pt x="8328" y="17725"/>
                  <a:pt x="8359" y="17735"/>
                </a:cubicBezTo>
                <a:cubicBezTo>
                  <a:pt x="8412" y="17752"/>
                  <a:pt x="8450" y="17773"/>
                  <a:pt x="8508" y="17785"/>
                </a:cubicBezTo>
                <a:cubicBezTo>
                  <a:pt x="8584" y="17801"/>
                  <a:pt x="8650" y="17808"/>
                  <a:pt x="8731" y="17810"/>
                </a:cubicBezTo>
                <a:cubicBezTo>
                  <a:pt x="8868" y="17813"/>
                  <a:pt x="8995" y="17803"/>
                  <a:pt x="9128" y="17835"/>
                </a:cubicBezTo>
                <a:cubicBezTo>
                  <a:pt x="9242" y="17863"/>
                  <a:pt x="9337" y="17871"/>
                  <a:pt x="9451" y="17884"/>
                </a:cubicBezTo>
                <a:cubicBezTo>
                  <a:pt x="9568" y="17898"/>
                  <a:pt x="9677" y="17909"/>
                  <a:pt x="9798" y="17909"/>
                </a:cubicBezTo>
                <a:cubicBezTo>
                  <a:pt x="10149" y="17909"/>
                  <a:pt x="10521" y="17944"/>
                  <a:pt x="10864" y="17884"/>
                </a:cubicBezTo>
                <a:cubicBezTo>
                  <a:pt x="10924" y="17873"/>
                  <a:pt x="10978" y="17868"/>
                  <a:pt x="11038" y="17859"/>
                </a:cubicBezTo>
                <a:cubicBezTo>
                  <a:pt x="11063" y="17859"/>
                  <a:pt x="11071" y="17859"/>
                  <a:pt x="11088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32000" y="223920"/>
            <a:ext cx="876240" cy="455400"/>
          </a:xfrm>
          <a:custGeom>
            <a:avLst/>
            <a:gdLst/>
            <a:ahLst/>
            <a:rect l="l" t="t" r="r" b="b"/>
            <a:pathLst>
              <a:path w="2432" h="1266">
                <a:moveTo>
                  <a:pt x="6201" y="744"/>
                </a:moveTo>
                <a:cubicBezTo>
                  <a:pt x="6283" y="709"/>
                  <a:pt x="6301" y="698"/>
                  <a:pt x="6400" y="695"/>
                </a:cubicBezTo>
                <a:cubicBezTo>
                  <a:pt x="6539" y="691"/>
                  <a:pt x="6639" y="683"/>
                  <a:pt x="6772" y="645"/>
                </a:cubicBezTo>
                <a:cubicBezTo>
                  <a:pt x="6843" y="625"/>
                  <a:pt x="6893" y="622"/>
                  <a:pt x="6970" y="620"/>
                </a:cubicBezTo>
                <a:cubicBezTo>
                  <a:pt x="7089" y="616"/>
                  <a:pt x="7114" y="667"/>
                  <a:pt x="7218" y="719"/>
                </a:cubicBezTo>
                <a:cubicBezTo>
                  <a:pt x="7325" y="772"/>
                  <a:pt x="7470" y="824"/>
                  <a:pt x="7590" y="868"/>
                </a:cubicBezTo>
                <a:cubicBezTo>
                  <a:pt x="7747" y="926"/>
                  <a:pt x="7888" y="1026"/>
                  <a:pt x="8037" y="1091"/>
                </a:cubicBezTo>
                <a:cubicBezTo>
                  <a:pt x="8179" y="1153"/>
                  <a:pt x="8387" y="1235"/>
                  <a:pt x="8533" y="1265"/>
                </a:cubicBezTo>
                <a:cubicBezTo>
                  <a:pt x="8580" y="1275"/>
                  <a:pt x="8676" y="1246"/>
                  <a:pt x="8582" y="1265"/>
                </a:cubicBezTo>
                <a:cubicBezTo>
                  <a:pt x="8419" y="1298"/>
                  <a:pt x="8247" y="1248"/>
                  <a:pt x="8086" y="1290"/>
                </a:cubicBezTo>
                <a:cubicBezTo>
                  <a:pt x="8005" y="1311"/>
                  <a:pt x="7921" y="1323"/>
                  <a:pt x="7838" y="1339"/>
                </a:cubicBezTo>
                <a:cubicBezTo>
                  <a:pt x="7755" y="1355"/>
                  <a:pt x="7675" y="1370"/>
                  <a:pt x="7590" y="1389"/>
                </a:cubicBezTo>
                <a:cubicBezTo>
                  <a:pt x="7503" y="1408"/>
                  <a:pt x="7403" y="1425"/>
                  <a:pt x="7317" y="1463"/>
                </a:cubicBezTo>
                <a:cubicBezTo>
                  <a:pt x="7210" y="1510"/>
                  <a:pt x="7108" y="1553"/>
                  <a:pt x="6995" y="1588"/>
                </a:cubicBezTo>
                <a:cubicBezTo>
                  <a:pt x="6881" y="1623"/>
                  <a:pt x="6722" y="1639"/>
                  <a:pt x="6623" y="1712"/>
                </a:cubicBezTo>
                <a:cubicBezTo>
                  <a:pt x="6577" y="1746"/>
                  <a:pt x="6622" y="1754"/>
                  <a:pt x="6598" y="1786"/>
                </a:cubicBezTo>
                <a:cubicBezTo>
                  <a:pt x="6667" y="1807"/>
                  <a:pt x="6727" y="1795"/>
                  <a:pt x="6796" y="1811"/>
                </a:cubicBezTo>
                <a:cubicBezTo>
                  <a:pt x="6863" y="1827"/>
                  <a:pt x="6926" y="1878"/>
                  <a:pt x="6995" y="1885"/>
                </a:cubicBezTo>
                <a:cubicBezTo>
                  <a:pt x="7422" y="1931"/>
                  <a:pt x="7879" y="1885"/>
                  <a:pt x="8310" y="18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34120" y="5392800"/>
            <a:ext cx="1644840" cy="930240"/>
          </a:xfrm>
          <a:custGeom>
            <a:avLst/>
            <a:gdLst/>
            <a:ahLst/>
            <a:rect l="l" t="t" r="r" b="b"/>
            <a:pathLst>
              <a:path w="4565" h="2581">
                <a:moveTo>
                  <a:pt x="19819" y="15627"/>
                </a:moveTo>
                <a:cubicBezTo>
                  <a:pt x="20069" y="15567"/>
                  <a:pt x="20257" y="15447"/>
                  <a:pt x="20489" y="15354"/>
                </a:cubicBezTo>
                <a:cubicBezTo>
                  <a:pt x="20771" y="15241"/>
                  <a:pt x="21085" y="15104"/>
                  <a:pt x="21382" y="15032"/>
                </a:cubicBezTo>
                <a:cubicBezTo>
                  <a:pt x="21544" y="14993"/>
                  <a:pt x="21737" y="14954"/>
                  <a:pt x="21903" y="14982"/>
                </a:cubicBezTo>
                <a:cubicBezTo>
                  <a:pt x="22227" y="15036"/>
                  <a:pt x="22592" y="15224"/>
                  <a:pt x="22845" y="15429"/>
                </a:cubicBezTo>
                <a:cubicBezTo>
                  <a:pt x="23037" y="15585"/>
                  <a:pt x="23328" y="15790"/>
                  <a:pt x="23391" y="16049"/>
                </a:cubicBezTo>
                <a:cubicBezTo>
                  <a:pt x="23417" y="16155"/>
                  <a:pt x="23439" y="16334"/>
                  <a:pt x="23416" y="16446"/>
                </a:cubicBezTo>
                <a:cubicBezTo>
                  <a:pt x="23392" y="16561"/>
                  <a:pt x="23336" y="16543"/>
                  <a:pt x="23242" y="16594"/>
                </a:cubicBezTo>
                <a:cubicBezTo>
                  <a:pt x="23119" y="16661"/>
                  <a:pt x="22996" y="16689"/>
                  <a:pt x="22870" y="16743"/>
                </a:cubicBezTo>
                <a:cubicBezTo>
                  <a:pt x="22704" y="16814"/>
                  <a:pt x="22550" y="16886"/>
                  <a:pt x="22374" y="16942"/>
                </a:cubicBezTo>
                <a:cubicBezTo>
                  <a:pt x="22165" y="17009"/>
                  <a:pt x="21944" y="17103"/>
                  <a:pt x="21754" y="17214"/>
                </a:cubicBezTo>
                <a:cubicBezTo>
                  <a:pt x="21630" y="17287"/>
                  <a:pt x="21540" y="17390"/>
                  <a:pt x="21431" y="17462"/>
                </a:cubicBezTo>
                <a:cubicBezTo>
                  <a:pt x="21423" y="17462"/>
                  <a:pt x="21414" y="17462"/>
                  <a:pt x="21406" y="17462"/>
                </a:cubicBezTo>
                <a:cubicBezTo>
                  <a:pt x="21452" y="17479"/>
                  <a:pt x="21631" y="17552"/>
                  <a:pt x="21704" y="17562"/>
                </a:cubicBezTo>
                <a:cubicBezTo>
                  <a:pt x="21894" y="17588"/>
                  <a:pt x="22088" y="17546"/>
                  <a:pt x="22275" y="17537"/>
                </a:cubicBezTo>
                <a:cubicBezTo>
                  <a:pt x="22457" y="17528"/>
                  <a:pt x="22638" y="17515"/>
                  <a:pt x="22820" y="17512"/>
                </a:cubicBezTo>
                <a:cubicBezTo>
                  <a:pt x="23120" y="17508"/>
                  <a:pt x="23414" y="17524"/>
                  <a:pt x="23713" y="17537"/>
                </a:cubicBezTo>
                <a:cubicBezTo>
                  <a:pt x="23921" y="17546"/>
                  <a:pt x="24134" y="17530"/>
                  <a:pt x="24333" y="17512"/>
                </a:cubicBezTo>
                <a:cubicBezTo>
                  <a:pt x="24350" y="17512"/>
                  <a:pt x="24366" y="17512"/>
                  <a:pt x="24383" y="1751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en you phone 111 you make sure you are not teasing because, if you are teasing they have a computer and the police will com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15160" y="3579840"/>
            <a:ext cx="190440" cy="87120"/>
          </a:xfrm>
          <a:custGeom>
            <a:avLst/>
            <a:gdLst/>
            <a:ahLst/>
            <a:rect l="l" t="t" r="r" b="b"/>
            <a:pathLst>
              <a:path w="530" h="243">
                <a:moveTo>
                  <a:pt x="21960" y="9966"/>
                </a:moveTo>
                <a:cubicBezTo>
                  <a:pt x="21953" y="9959"/>
                  <a:pt x="21945" y="9951"/>
                  <a:pt x="21938" y="9944"/>
                </a:cubicBezTo>
                <a:cubicBezTo>
                  <a:pt x="21873" y="9981"/>
                  <a:pt x="21806" y="10013"/>
                  <a:pt x="21740" y="10054"/>
                </a:cubicBezTo>
                <a:cubicBezTo>
                  <a:pt x="21697" y="10081"/>
                  <a:pt x="21631" y="10124"/>
                  <a:pt x="21586" y="10142"/>
                </a:cubicBezTo>
                <a:cubicBezTo>
                  <a:pt x="21548" y="10157"/>
                  <a:pt x="21491" y="10172"/>
                  <a:pt x="21453" y="10186"/>
                </a:cubicBezTo>
                <a:cubicBezTo>
                  <a:pt x="21446" y="10186"/>
                  <a:pt x="21438" y="10186"/>
                  <a:pt x="21431" y="1018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9040" y="5357880"/>
            <a:ext cx="938160" cy="169920"/>
          </a:xfrm>
          <a:custGeom>
            <a:avLst/>
            <a:gdLst/>
            <a:ahLst/>
            <a:rect l="l" t="t" r="r" b="b"/>
            <a:pathLst>
              <a:path w="2605" h="472">
                <a:moveTo>
                  <a:pt x="10269" y="14883"/>
                </a:moveTo>
                <a:cubicBezTo>
                  <a:pt x="10193" y="14891"/>
                  <a:pt x="10123" y="14906"/>
                  <a:pt x="10046" y="14908"/>
                </a:cubicBezTo>
                <a:cubicBezTo>
                  <a:pt x="9763" y="14917"/>
                  <a:pt x="9482" y="14910"/>
                  <a:pt x="9203" y="14932"/>
                </a:cubicBezTo>
                <a:cubicBezTo>
                  <a:pt x="9051" y="14944"/>
                  <a:pt x="8903" y="14913"/>
                  <a:pt x="8756" y="14957"/>
                </a:cubicBezTo>
                <a:cubicBezTo>
                  <a:pt x="8635" y="14993"/>
                  <a:pt x="8509" y="14999"/>
                  <a:pt x="8384" y="15032"/>
                </a:cubicBezTo>
                <a:cubicBezTo>
                  <a:pt x="8251" y="15067"/>
                  <a:pt x="8116" y="15082"/>
                  <a:pt x="7987" y="15131"/>
                </a:cubicBezTo>
                <a:cubicBezTo>
                  <a:pt x="7950" y="15145"/>
                  <a:pt x="7892" y="15162"/>
                  <a:pt x="7863" y="15180"/>
                </a:cubicBezTo>
                <a:cubicBezTo>
                  <a:pt x="7860" y="15182"/>
                  <a:pt x="7777" y="15241"/>
                  <a:pt x="7764" y="15255"/>
                </a:cubicBezTo>
                <a:cubicBezTo>
                  <a:pt x="7727" y="15295"/>
                  <a:pt x="7713" y="15304"/>
                  <a:pt x="7689" y="15329"/>
                </a:cubicBezTo>
                <a:cubicBezTo>
                  <a:pt x="7681" y="15337"/>
                  <a:pt x="7673" y="15346"/>
                  <a:pt x="7665" y="1535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5760" y="982800"/>
            <a:ext cx="8528040" cy="4973400"/>
          </a:xfrm>
          <a:custGeom>
            <a:avLst/>
            <a:gdLst/>
            <a:ahLst/>
            <a:rect l="l" t="t" r="r" b="b"/>
            <a:pathLst>
              <a:path w="23690" h="13817">
                <a:moveTo>
                  <a:pt x="7615" y="15404"/>
                </a:moveTo>
                <a:cubicBezTo>
                  <a:pt x="7142" y="15499"/>
                  <a:pt x="6684" y="15587"/>
                  <a:pt x="6201" y="15652"/>
                </a:cubicBezTo>
                <a:cubicBezTo>
                  <a:pt x="5916" y="15690"/>
                  <a:pt x="5596" y="15684"/>
                  <a:pt x="5333" y="15701"/>
                </a:cubicBezTo>
                <a:cubicBezTo>
                  <a:pt x="5321" y="15146"/>
                  <a:pt x="5426" y="14585"/>
                  <a:pt x="5085" y="14114"/>
                </a:cubicBezTo>
                <a:cubicBezTo>
                  <a:pt x="4940" y="13913"/>
                  <a:pt x="4815" y="13803"/>
                  <a:pt x="4564" y="13717"/>
                </a:cubicBezTo>
                <a:cubicBezTo>
                  <a:pt x="4287" y="13622"/>
                  <a:pt x="4098" y="13703"/>
                  <a:pt x="3845" y="13742"/>
                </a:cubicBezTo>
                <a:cubicBezTo>
                  <a:pt x="3670" y="13769"/>
                  <a:pt x="3474" y="13836"/>
                  <a:pt x="3299" y="13891"/>
                </a:cubicBezTo>
                <a:cubicBezTo>
                  <a:pt x="3151" y="13938"/>
                  <a:pt x="3010" y="14020"/>
                  <a:pt x="2853" y="14039"/>
                </a:cubicBezTo>
                <a:cubicBezTo>
                  <a:pt x="2779" y="14048"/>
                  <a:pt x="2683" y="14158"/>
                  <a:pt x="2604" y="14139"/>
                </a:cubicBezTo>
                <a:cubicBezTo>
                  <a:pt x="2511" y="14116"/>
                  <a:pt x="2385" y="14027"/>
                  <a:pt x="2332" y="13990"/>
                </a:cubicBezTo>
                <a:cubicBezTo>
                  <a:pt x="2269" y="13947"/>
                  <a:pt x="2159" y="13720"/>
                  <a:pt x="2084" y="13643"/>
                </a:cubicBezTo>
                <a:cubicBezTo>
                  <a:pt x="1900" y="13455"/>
                  <a:pt x="1529" y="13040"/>
                  <a:pt x="1414" y="12799"/>
                </a:cubicBezTo>
                <a:cubicBezTo>
                  <a:pt x="1339" y="12642"/>
                  <a:pt x="1302" y="12519"/>
                  <a:pt x="1265" y="12353"/>
                </a:cubicBezTo>
                <a:cubicBezTo>
                  <a:pt x="946" y="10908"/>
                  <a:pt x="1081" y="8404"/>
                  <a:pt x="1414" y="6970"/>
                </a:cubicBezTo>
                <a:cubicBezTo>
                  <a:pt x="1490" y="6644"/>
                  <a:pt x="1617" y="6350"/>
                  <a:pt x="1761" y="6052"/>
                </a:cubicBezTo>
                <a:cubicBezTo>
                  <a:pt x="1856" y="5856"/>
                  <a:pt x="1974" y="5708"/>
                  <a:pt x="2084" y="5531"/>
                </a:cubicBezTo>
                <a:cubicBezTo>
                  <a:pt x="2330" y="5137"/>
                  <a:pt x="2594" y="4791"/>
                  <a:pt x="2927" y="4465"/>
                </a:cubicBezTo>
                <a:cubicBezTo>
                  <a:pt x="3202" y="4196"/>
                  <a:pt x="3452" y="3934"/>
                  <a:pt x="3795" y="3746"/>
                </a:cubicBezTo>
                <a:cubicBezTo>
                  <a:pt x="4002" y="3632"/>
                  <a:pt x="4126" y="3600"/>
                  <a:pt x="4341" y="3522"/>
                </a:cubicBezTo>
                <a:cubicBezTo>
                  <a:pt x="4540" y="3450"/>
                  <a:pt x="4735" y="3410"/>
                  <a:pt x="4936" y="3349"/>
                </a:cubicBezTo>
                <a:cubicBezTo>
                  <a:pt x="5478" y="3184"/>
                  <a:pt x="6024" y="3001"/>
                  <a:pt x="6598" y="2927"/>
                </a:cubicBezTo>
                <a:cubicBezTo>
                  <a:pt x="6914" y="2886"/>
                  <a:pt x="7433" y="2777"/>
                  <a:pt x="7714" y="2927"/>
                </a:cubicBezTo>
                <a:cubicBezTo>
                  <a:pt x="7841" y="2995"/>
                  <a:pt x="7911" y="3130"/>
                  <a:pt x="8012" y="3225"/>
                </a:cubicBezTo>
                <a:cubicBezTo>
                  <a:pt x="8439" y="3626"/>
                  <a:pt x="8719" y="4195"/>
                  <a:pt x="9153" y="4614"/>
                </a:cubicBezTo>
                <a:cubicBezTo>
                  <a:pt x="9405" y="4857"/>
                  <a:pt x="9721" y="5113"/>
                  <a:pt x="10021" y="5283"/>
                </a:cubicBezTo>
                <a:cubicBezTo>
                  <a:pt x="10155" y="5359"/>
                  <a:pt x="10280" y="5415"/>
                  <a:pt x="10418" y="5457"/>
                </a:cubicBezTo>
                <a:cubicBezTo>
                  <a:pt x="10656" y="5530"/>
                  <a:pt x="10850" y="5552"/>
                  <a:pt x="11112" y="5556"/>
                </a:cubicBezTo>
                <a:cubicBezTo>
                  <a:pt x="11426" y="5561"/>
                  <a:pt x="11704" y="5529"/>
                  <a:pt x="12005" y="5482"/>
                </a:cubicBezTo>
                <a:cubicBezTo>
                  <a:pt x="13255" y="5285"/>
                  <a:pt x="14317" y="4406"/>
                  <a:pt x="15379" y="3770"/>
                </a:cubicBezTo>
                <a:cubicBezTo>
                  <a:pt x="15649" y="3608"/>
                  <a:pt x="15899" y="3424"/>
                  <a:pt x="16173" y="3274"/>
                </a:cubicBezTo>
                <a:cubicBezTo>
                  <a:pt x="16468" y="3113"/>
                  <a:pt x="16715" y="2965"/>
                  <a:pt x="17041" y="2877"/>
                </a:cubicBezTo>
                <a:cubicBezTo>
                  <a:pt x="17359" y="2791"/>
                  <a:pt x="18727" y="2557"/>
                  <a:pt x="18976" y="2753"/>
                </a:cubicBezTo>
                <a:cubicBezTo>
                  <a:pt x="18994" y="2767"/>
                  <a:pt x="19011" y="2812"/>
                  <a:pt x="19025" y="2828"/>
                </a:cubicBezTo>
                <a:cubicBezTo>
                  <a:pt x="19085" y="2897"/>
                  <a:pt x="19034" y="3054"/>
                  <a:pt x="19075" y="3125"/>
                </a:cubicBezTo>
                <a:cubicBezTo>
                  <a:pt x="19129" y="3220"/>
                  <a:pt x="19105" y="3365"/>
                  <a:pt x="19174" y="3473"/>
                </a:cubicBezTo>
                <a:cubicBezTo>
                  <a:pt x="19209" y="3527"/>
                  <a:pt x="19253" y="3790"/>
                  <a:pt x="19298" y="3820"/>
                </a:cubicBezTo>
                <a:cubicBezTo>
                  <a:pt x="19379" y="3875"/>
                  <a:pt x="19575" y="3875"/>
                  <a:pt x="19670" y="3919"/>
                </a:cubicBezTo>
                <a:cubicBezTo>
                  <a:pt x="19975" y="4062"/>
                  <a:pt x="19815" y="3855"/>
                  <a:pt x="20241" y="4068"/>
                </a:cubicBezTo>
                <a:cubicBezTo>
                  <a:pt x="20279" y="4087"/>
                  <a:pt x="20874" y="4584"/>
                  <a:pt x="20985" y="4614"/>
                </a:cubicBezTo>
                <a:cubicBezTo>
                  <a:pt x="21168" y="4663"/>
                  <a:pt x="21117" y="4623"/>
                  <a:pt x="21332" y="4614"/>
                </a:cubicBezTo>
                <a:cubicBezTo>
                  <a:pt x="21471" y="4608"/>
                  <a:pt x="21596" y="4481"/>
                  <a:pt x="21729" y="4440"/>
                </a:cubicBezTo>
                <a:cubicBezTo>
                  <a:pt x="21839" y="4407"/>
                  <a:pt x="21921" y="4323"/>
                  <a:pt x="22027" y="4291"/>
                </a:cubicBezTo>
                <a:cubicBezTo>
                  <a:pt x="22305" y="4207"/>
                  <a:pt x="22581" y="4126"/>
                  <a:pt x="22870" y="4093"/>
                </a:cubicBezTo>
                <a:cubicBezTo>
                  <a:pt x="23028" y="4075"/>
                  <a:pt x="23427" y="4044"/>
                  <a:pt x="23540" y="4118"/>
                </a:cubicBezTo>
                <a:cubicBezTo>
                  <a:pt x="23626" y="4175"/>
                  <a:pt x="23646" y="4299"/>
                  <a:pt x="23713" y="4366"/>
                </a:cubicBezTo>
                <a:cubicBezTo>
                  <a:pt x="23932" y="4585"/>
                  <a:pt x="24111" y="4997"/>
                  <a:pt x="24209" y="5283"/>
                </a:cubicBezTo>
                <a:cubicBezTo>
                  <a:pt x="24413" y="5875"/>
                  <a:pt x="24321" y="6551"/>
                  <a:pt x="24507" y="7094"/>
                </a:cubicBezTo>
                <a:cubicBezTo>
                  <a:pt x="24550" y="7221"/>
                  <a:pt x="24668" y="7325"/>
                  <a:pt x="24705" y="7466"/>
                </a:cubicBezTo>
                <a:cubicBezTo>
                  <a:pt x="24723" y="7535"/>
                  <a:pt x="24767" y="7598"/>
                  <a:pt x="24780" y="7665"/>
                </a:cubicBezTo>
                <a:cubicBezTo>
                  <a:pt x="24844" y="7983"/>
                  <a:pt x="24835" y="8338"/>
                  <a:pt x="24879" y="8657"/>
                </a:cubicBezTo>
                <a:cubicBezTo>
                  <a:pt x="24938" y="9086"/>
                  <a:pt x="25003" y="9532"/>
                  <a:pt x="24929" y="9971"/>
                </a:cubicBezTo>
                <a:cubicBezTo>
                  <a:pt x="24851" y="10436"/>
                  <a:pt x="24676" y="10986"/>
                  <a:pt x="24457" y="11385"/>
                </a:cubicBezTo>
                <a:cubicBezTo>
                  <a:pt x="24344" y="11591"/>
                  <a:pt x="24235" y="11733"/>
                  <a:pt x="24085" y="11906"/>
                </a:cubicBezTo>
                <a:cubicBezTo>
                  <a:pt x="23972" y="12036"/>
                  <a:pt x="23827" y="12117"/>
                  <a:pt x="23713" y="12254"/>
                </a:cubicBezTo>
                <a:cubicBezTo>
                  <a:pt x="23549" y="12451"/>
                  <a:pt x="23348" y="12633"/>
                  <a:pt x="23316" y="12898"/>
                </a:cubicBezTo>
                <a:cubicBezTo>
                  <a:pt x="23286" y="13143"/>
                  <a:pt x="23397" y="13200"/>
                  <a:pt x="23465" y="13370"/>
                </a:cubicBezTo>
                <a:cubicBezTo>
                  <a:pt x="23477" y="13401"/>
                  <a:pt x="23526" y="13365"/>
                  <a:pt x="23540" y="13395"/>
                </a:cubicBezTo>
                <a:cubicBezTo>
                  <a:pt x="23653" y="13635"/>
                  <a:pt x="23965" y="13860"/>
                  <a:pt x="24011" y="14139"/>
                </a:cubicBezTo>
                <a:cubicBezTo>
                  <a:pt x="24038" y="14303"/>
                  <a:pt x="24100" y="14398"/>
                  <a:pt x="24011" y="14560"/>
                </a:cubicBezTo>
                <a:cubicBezTo>
                  <a:pt x="23961" y="14651"/>
                  <a:pt x="23921" y="14630"/>
                  <a:pt x="23837" y="14709"/>
                </a:cubicBezTo>
                <a:cubicBezTo>
                  <a:pt x="23710" y="14829"/>
                  <a:pt x="23491" y="14859"/>
                  <a:pt x="23341" y="14932"/>
                </a:cubicBezTo>
                <a:cubicBezTo>
                  <a:pt x="23136" y="15032"/>
                  <a:pt x="22911" y="15080"/>
                  <a:pt x="22696" y="15156"/>
                </a:cubicBezTo>
                <a:cubicBezTo>
                  <a:pt x="22138" y="15353"/>
                  <a:pt x="21549" y="15587"/>
                  <a:pt x="20960" y="15652"/>
                </a:cubicBezTo>
                <a:cubicBezTo>
                  <a:pt x="19866" y="15773"/>
                  <a:pt x="18778" y="15641"/>
                  <a:pt x="17686" y="15627"/>
                </a:cubicBezTo>
                <a:cubicBezTo>
                  <a:pt x="17264" y="15621"/>
                  <a:pt x="16836" y="15637"/>
                  <a:pt x="16421" y="15652"/>
                </a:cubicBezTo>
                <a:cubicBezTo>
                  <a:pt x="15644" y="15679"/>
                  <a:pt x="14936" y="15698"/>
                  <a:pt x="14213" y="15974"/>
                </a:cubicBezTo>
                <a:cubicBezTo>
                  <a:pt x="14015" y="16050"/>
                  <a:pt x="13838" y="16162"/>
                  <a:pt x="13643" y="16247"/>
                </a:cubicBezTo>
                <a:cubicBezTo>
                  <a:pt x="13534" y="16294"/>
                  <a:pt x="13433" y="16360"/>
                  <a:pt x="13320" y="16396"/>
                </a:cubicBezTo>
                <a:cubicBezTo>
                  <a:pt x="12948" y="16514"/>
                  <a:pt x="12603" y="16551"/>
                  <a:pt x="12204" y="16545"/>
                </a:cubicBezTo>
                <a:cubicBezTo>
                  <a:pt x="11901" y="16540"/>
                  <a:pt x="11132" y="16551"/>
                  <a:pt x="10889" y="16346"/>
                </a:cubicBezTo>
                <a:cubicBezTo>
                  <a:pt x="10729" y="16211"/>
                  <a:pt x="10746" y="16139"/>
                  <a:pt x="10666" y="15925"/>
                </a:cubicBezTo>
                <a:cubicBezTo>
                  <a:pt x="10574" y="15680"/>
                  <a:pt x="10739" y="15341"/>
                  <a:pt x="10616" y="15131"/>
                </a:cubicBezTo>
                <a:cubicBezTo>
                  <a:pt x="10567" y="15047"/>
                  <a:pt x="10529" y="15084"/>
                  <a:pt x="10492" y="15032"/>
                </a:cubicBezTo>
                <a:cubicBezTo>
                  <a:pt x="10460" y="14987"/>
                  <a:pt x="10426" y="15175"/>
                  <a:pt x="10393" y="15131"/>
                </a:cubicBezTo>
                <a:cubicBezTo>
                  <a:pt x="10393" y="15156"/>
                  <a:pt x="10393" y="15164"/>
                  <a:pt x="10393" y="15180"/>
                </a:cubicBezTo>
                <a:cubicBezTo>
                  <a:pt x="10367" y="15059"/>
                  <a:pt x="10349" y="14948"/>
                  <a:pt x="10319" y="14833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en children do something wrong like graffiti they get a punishment, like needing to put new paint on i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66760" y="730080"/>
            <a:ext cx="1800" cy="2095560"/>
          </a:xfrm>
          <a:custGeom>
            <a:avLst/>
            <a:gdLst/>
            <a:ahLst/>
            <a:rect l="l" t="t" r="r" b="b"/>
            <a:pathLst>
              <a:path w="1" h="5822">
                <a:moveTo>
                  <a:pt x="3241" y="2028"/>
                </a:moveTo>
                <a:cubicBezTo>
                  <a:pt x="3241" y="3968"/>
                  <a:pt x="3241" y="5909"/>
                  <a:pt x="3241" y="7849"/>
                </a:cubicBezTo>
              </a:path>
            </a:pathLst>
          </a:custGeom>
          <a:noFill/>
          <a:ln cap="sq" w="228600">
            <a:solidFill>
              <a:srgbClr val="00cc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24720" y="698400"/>
            <a:ext cx="111240" cy="2373480"/>
          </a:xfrm>
          <a:custGeom>
            <a:avLst/>
            <a:gdLst/>
            <a:ahLst/>
            <a:rect l="l" t="t" r="r" b="b"/>
            <a:pathLst>
              <a:path w="310" h="6594">
                <a:moveTo>
                  <a:pt x="21211" y="8533"/>
                </a:moveTo>
                <a:cubicBezTo>
                  <a:pt x="21206" y="8502"/>
                  <a:pt x="21192" y="8464"/>
                  <a:pt x="21189" y="8423"/>
                </a:cubicBezTo>
                <a:cubicBezTo>
                  <a:pt x="21179" y="8294"/>
                  <a:pt x="21175" y="8169"/>
                  <a:pt x="21167" y="8048"/>
                </a:cubicBezTo>
                <a:cubicBezTo>
                  <a:pt x="21162" y="7975"/>
                  <a:pt x="21149" y="7894"/>
                  <a:pt x="21145" y="7827"/>
                </a:cubicBezTo>
                <a:cubicBezTo>
                  <a:pt x="21141" y="7774"/>
                  <a:pt x="21131" y="7737"/>
                  <a:pt x="21123" y="7695"/>
                </a:cubicBezTo>
                <a:cubicBezTo>
                  <a:pt x="21115" y="7652"/>
                  <a:pt x="21108" y="7662"/>
                  <a:pt x="21101" y="7629"/>
                </a:cubicBezTo>
                <a:cubicBezTo>
                  <a:pt x="21087" y="7562"/>
                  <a:pt x="21086" y="7500"/>
                  <a:pt x="21078" y="7430"/>
                </a:cubicBezTo>
                <a:cubicBezTo>
                  <a:pt x="21069" y="7359"/>
                  <a:pt x="21066" y="7282"/>
                  <a:pt x="21056" y="7210"/>
                </a:cubicBezTo>
                <a:cubicBezTo>
                  <a:pt x="21051" y="7171"/>
                  <a:pt x="21038" y="7185"/>
                  <a:pt x="21034" y="7122"/>
                </a:cubicBezTo>
                <a:cubicBezTo>
                  <a:pt x="20975" y="6270"/>
                  <a:pt x="21150" y="5350"/>
                  <a:pt x="21012" y="4520"/>
                </a:cubicBezTo>
                <a:cubicBezTo>
                  <a:pt x="21004" y="4470"/>
                  <a:pt x="20994" y="4441"/>
                  <a:pt x="20990" y="4388"/>
                </a:cubicBezTo>
                <a:cubicBezTo>
                  <a:pt x="20984" y="4318"/>
                  <a:pt x="20977" y="4254"/>
                  <a:pt x="20968" y="4189"/>
                </a:cubicBezTo>
                <a:cubicBezTo>
                  <a:pt x="20962" y="4143"/>
                  <a:pt x="20954" y="4069"/>
                  <a:pt x="20946" y="4013"/>
                </a:cubicBezTo>
                <a:cubicBezTo>
                  <a:pt x="20938" y="3956"/>
                  <a:pt x="20931" y="3897"/>
                  <a:pt x="20924" y="3836"/>
                </a:cubicBezTo>
                <a:cubicBezTo>
                  <a:pt x="20914" y="3747"/>
                  <a:pt x="20904" y="3665"/>
                  <a:pt x="20902" y="3572"/>
                </a:cubicBezTo>
                <a:cubicBezTo>
                  <a:pt x="20892" y="3028"/>
                  <a:pt x="20902" y="2484"/>
                  <a:pt x="20902" y="1940"/>
                </a:cubicBezTo>
              </a:path>
            </a:pathLst>
          </a:custGeom>
          <a:noFill/>
          <a:ln cap="sq" w="228600">
            <a:solidFill>
              <a:srgbClr val="00cc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73280" y="4749840"/>
            <a:ext cx="527400" cy="795240"/>
          </a:xfrm>
          <a:custGeom>
            <a:avLst/>
            <a:gdLst/>
            <a:ahLst/>
            <a:rect l="l" t="t" r="r" b="b"/>
            <a:pathLst>
              <a:path w="1464" h="2209">
                <a:moveTo>
                  <a:pt x="10269" y="14188"/>
                </a:moveTo>
                <a:cubicBezTo>
                  <a:pt x="10269" y="14221"/>
                  <a:pt x="10269" y="14205"/>
                  <a:pt x="10269" y="14238"/>
                </a:cubicBezTo>
                <a:cubicBezTo>
                  <a:pt x="10269" y="14358"/>
                  <a:pt x="10255" y="14473"/>
                  <a:pt x="10244" y="14585"/>
                </a:cubicBezTo>
                <a:cubicBezTo>
                  <a:pt x="10238" y="14651"/>
                  <a:pt x="10227" y="14730"/>
                  <a:pt x="10220" y="14784"/>
                </a:cubicBezTo>
                <a:cubicBezTo>
                  <a:pt x="10196" y="14984"/>
                  <a:pt x="10220" y="15203"/>
                  <a:pt x="10220" y="15404"/>
                </a:cubicBezTo>
                <a:cubicBezTo>
                  <a:pt x="10279" y="15404"/>
                  <a:pt x="10405" y="15428"/>
                  <a:pt x="10443" y="15379"/>
                </a:cubicBezTo>
                <a:cubicBezTo>
                  <a:pt x="10454" y="15365"/>
                  <a:pt x="10461" y="15299"/>
                  <a:pt x="10468" y="15280"/>
                </a:cubicBezTo>
                <a:cubicBezTo>
                  <a:pt x="10486" y="15231"/>
                  <a:pt x="10478" y="15179"/>
                  <a:pt x="10492" y="15131"/>
                </a:cubicBezTo>
                <a:cubicBezTo>
                  <a:pt x="10506" y="15081"/>
                  <a:pt x="10515" y="15070"/>
                  <a:pt x="10517" y="15007"/>
                </a:cubicBezTo>
                <a:cubicBezTo>
                  <a:pt x="10522" y="14871"/>
                  <a:pt x="10512" y="14740"/>
                  <a:pt x="10542" y="14610"/>
                </a:cubicBezTo>
                <a:cubicBezTo>
                  <a:pt x="10558" y="14539"/>
                  <a:pt x="10568" y="14454"/>
                  <a:pt x="10592" y="14387"/>
                </a:cubicBezTo>
                <a:cubicBezTo>
                  <a:pt x="10599" y="14369"/>
                  <a:pt x="10602" y="14333"/>
                  <a:pt x="10616" y="14312"/>
                </a:cubicBezTo>
                <a:cubicBezTo>
                  <a:pt x="10640" y="14277"/>
                  <a:pt x="10679" y="14246"/>
                  <a:pt x="10716" y="14238"/>
                </a:cubicBezTo>
                <a:cubicBezTo>
                  <a:pt x="10789" y="14222"/>
                  <a:pt x="10870" y="14232"/>
                  <a:pt x="10914" y="14213"/>
                </a:cubicBezTo>
                <a:cubicBezTo>
                  <a:pt x="10939" y="14203"/>
                  <a:pt x="10963" y="14194"/>
                  <a:pt x="10988" y="14163"/>
                </a:cubicBezTo>
                <a:cubicBezTo>
                  <a:pt x="11018" y="14125"/>
                  <a:pt x="10993" y="14125"/>
                  <a:pt x="11013" y="14064"/>
                </a:cubicBezTo>
                <a:cubicBezTo>
                  <a:pt x="11027" y="14022"/>
                  <a:pt x="11047" y="13958"/>
                  <a:pt x="11063" y="13915"/>
                </a:cubicBezTo>
                <a:cubicBezTo>
                  <a:pt x="11079" y="13874"/>
                  <a:pt x="11104" y="13874"/>
                  <a:pt x="11112" y="13841"/>
                </a:cubicBezTo>
                <a:cubicBezTo>
                  <a:pt x="11136" y="13743"/>
                  <a:pt x="11135" y="13421"/>
                  <a:pt x="11088" y="13370"/>
                </a:cubicBezTo>
                <a:cubicBezTo>
                  <a:pt x="11059" y="13339"/>
                  <a:pt x="11022" y="13337"/>
                  <a:pt x="10988" y="13320"/>
                </a:cubicBezTo>
                <a:cubicBezTo>
                  <a:pt x="10948" y="13300"/>
                  <a:pt x="10909" y="13308"/>
                  <a:pt x="10864" y="13295"/>
                </a:cubicBezTo>
                <a:cubicBezTo>
                  <a:pt x="10840" y="13288"/>
                  <a:pt x="10786" y="13283"/>
                  <a:pt x="10765" y="13271"/>
                </a:cubicBezTo>
                <a:cubicBezTo>
                  <a:pt x="10698" y="13233"/>
                  <a:pt x="10722" y="13226"/>
                  <a:pt x="10641" y="13221"/>
                </a:cubicBezTo>
                <a:cubicBezTo>
                  <a:pt x="10520" y="13213"/>
                  <a:pt x="10353" y="13207"/>
                  <a:pt x="10269" y="13196"/>
                </a:cubicBezTo>
                <a:cubicBezTo>
                  <a:pt x="10179" y="13185"/>
                  <a:pt x="9993" y="13168"/>
                  <a:pt x="9922" y="13221"/>
                </a:cubicBezTo>
                <a:cubicBezTo>
                  <a:pt x="9877" y="13255"/>
                  <a:pt x="9778" y="13337"/>
                  <a:pt x="9748" y="13370"/>
                </a:cubicBezTo>
                <a:cubicBezTo>
                  <a:pt x="9732" y="13387"/>
                  <a:pt x="9681" y="13447"/>
                  <a:pt x="9674" y="13469"/>
                </a:cubicBezTo>
                <a:cubicBezTo>
                  <a:pt x="9664" y="13501"/>
                  <a:pt x="9655" y="13510"/>
                  <a:pt x="9649" y="13543"/>
                </a:cubicBezTo>
                <a:cubicBezTo>
                  <a:pt x="9625" y="13680"/>
                  <a:pt x="9658" y="13836"/>
                  <a:pt x="9674" y="13965"/>
                </a:cubicBezTo>
                <a:cubicBezTo>
                  <a:pt x="9685" y="14055"/>
                  <a:pt x="9678" y="14051"/>
                  <a:pt x="9748" y="14114"/>
                </a:cubicBezTo>
                <a:cubicBezTo>
                  <a:pt x="9781" y="14144"/>
                  <a:pt x="9778" y="14134"/>
                  <a:pt x="9847" y="14139"/>
                </a:cubicBezTo>
                <a:cubicBezTo>
                  <a:pt x="9885" y="14142"/>
                  <a:pt x="9970" y="14163"/>
                  <a:pt x="9971" y="14163"/>
                </a:cubicBezTo>
                <a:cubicBezTo>
                  <a:pt x="10019" y="14169"/>
                  <a:pt x="10072" y="14163"/>
                  <a:pt x="10120" y="14163"/>
                </a:cubicBezTo>
              </a:path>
              <a:path w="1464" h="2209">
                <a:moveTo>
                  <a:pt x="10096" y="13444"/>
                </a:moveTo>
                <a:cubicBezTo>
                  <a:pt x="10055" y="13454"/>
                  <a:pt x="10056" y="13453"/>
                  <a:pt x="10046" y="13494"/>
                </a:cubicBezTo>
                <a:cubicBezTo>
                  <a:pt x="10021" y="13502"/>
                  <a:pt x="10010" y="13534"/>
                  <a:pt x="9996" y="13568"/>
                </a:cubicBezTo>
                <a:cubicBezTo>
                  <a:pt x="9978" y="13612"/>
                  <a:pt x="9950" y="13695"/>
                  <a:pt x="9947" y="13742"/>
                </a:cubicBezTo>
                <a:cubicBezTo>
                  <a:pt x="9947" y="13783"/>
                  <a:pt x="9947" y="13791"/>
                  <a:pt x="9947" y="13816"/>
                </a:cubicBezTo>
              </a:path>
              <a:path w="1464" h="2209">
                <a:moveTo>
                  <a:pt x="10220" y="13593"/>
                </a:moveTo>
                <a:cubicBezTo>
                  <a:pt x="10220" y="13725"/>
                  <a:pt x="10220" y="13858"/>
                  <a:pt x="10220" y="13990"/>
                </a:cubicBezTo>
              </a:path>
              <a:path w="1464" h="2209">
                <a:moveTo>
                  <a:pt x="10517" y="13618"/>
                </a:moveTo>
                <a:cubicBezTo>
                  <a:pt x="10517" y="13738"/>
                  <a:pt x="10529" y="13849"/>
                  <a:pt x="10542" y="13965"/>
                </a:cubicBezTo>
                <a:cubicBezTo>
                  <a:pt x="10551" y="14041"/>
                  <a:pt x="10560" y="14116"/>
                  <a:pt x="10567" y="14188"/>
                </a:cubicBezTo>
                <a:cubicBezTo>
                  <a:pt x="10567" y="14213"/>
                  <a:pt x="10567" y="14221"/>
                  <a:pt x="10592" y="14213"/>
                </a:cubicBezTo>
              </a:path>
              <a:path w="1464" h="2209">
                <a:moveTo>
                  <a:pt x="10864" y="13891"/>
                </a:moveTo>
                <a:cubicBezTo>
                  <a:pt x="10864" y="13940"/>
                  <a:pt x="10864" y="13990"/>
                  <a:pt x="10864" y="14039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1120" y="160200"/>
            <a:ext cx="8402760" cy="4027680"/>
          </a:xfrm>
          <a:custGeom>
            <a:avLst/>
            <a:gdLst/>
            <a:ahLst/>
            <a:rect l="l" t="t" r="r" b="b"/>
            <a:pathLst>
              <a:path w="23342" h="11188">
                <a:moveTo>
                  <a:pt x="15131" y="10765"/>
                </a:moveTo>
                <a:cubicBezTo>
                  <a:pt x="15076" y="10749"/>
                  <a:pt x="14875" y="10619"/>
                  <a:pt x="14759" y="10592"/>
                </a:cubicBezTo>
                <a:cubicBezTo>
                  <a:pt x="14546" y="10542"/>
                  <a:pt x="14333" y="10507"/>
                  <a:pt x="14114" y="10492"/>
                </a:cubicBezTo>
                <a:cubicBezTo>
                  <a:pt x="13564" y="10455"/>
                  <a:pt x="13101" y="10656"/>
                  <a:pt x="12576" y="10765"/>
                </a:cubicBezTo>
                <a:cubicBezTo>
                  <a:pt x="12210" y="10841"/>
                  <a:pt x="11836" y="10896"/>
                  <a:pt x="11460" y="10939"/>
                </a:cubicBezTo>
                <a:cubicBezTo>
                  <a:pt x="11180" y="10971"/>
                  <a:pt x="10895" y="11022"/>
                  <a:pt x="10616" y="11038"/>
                </a:cubicBezTo>
                <a:cubicBezTo>
                  <a:pt x="9728" y="11087"/>
                  <a:pt x="8862" y="11054"/>
                  <a:pt x="8012" y="10790"/>
                </a:cubicBezTo>
                <a:cubicBezTo>
                  <a:pt x="7875" y="10747"/>
                  <a:pt x="7685" y="10698"/>
                  <a:pt x="7565" y="10616"/>
                </a:cubicBezTo>
                <a:cubicBezTo>
                  <a:pt x="7500" y="10572"/>
                  <a:pt x="7489" y="10563"/>
                  <a:pt x="7441" y="10517"/>
                </a:cubicBezTo>
                <a:cubicBezTo>
                  <a:pt x="7426" y="10502"/>
                  <a:pt x="7415" y="10421"/>
                  <a:pt x="7392" y="10393"/>
                </a:cubicBezTo>
                <a:cubicBezTo>
                  <a:pt x="7375" y="10372"/>
                  <a:pt x="7332" y="10315"/>
                  <a:pt x="7317" y="10294"/>
                </a:cubicBezTo>
                <a:cubicBezTo>
                  <a:pt x="7184" y="10104"/>
                  <a:pt x="7162" y="9893"/>
                  <a:pt x="7020" y="9699"/>
                </a:cubicBezTo>
                <a:cubicBezTo>
                  <a:pt x="6939" y="9589"/>
                  <a:pt x="6851" y="9526"/>
                  <a:pt x="6772" y="9426"/>
                </a:cubicBezTo>
                <a:cubicBezTo>
                  <a:pt x="6689" y="9321"/>
                  <a:pt x="6577" y="9225"/>
                  <a:pt x="6499" y="9128"/>
                </a:cubicBezTo>
                <a:cubicBezTo>
                  <a:pt x="6381" y="8980"/>
                  <a:pt x="6263" y="8725"/>
                  <a:pt x="6152" y="8607"/>
                </a:cubicBezTo>
                <a:cubicBezTo>
                  <a:pt x="6045" y="8493"/>
                  <a:pt x="5966" y="8374"/>
                  <a:pt x="5829" y="8285"/>
                </a:cubicBezTo>
                <a:cubicBezTo>
                  <a:pt x="5607" y="8140"/>
                  <a:pt x="4796" y="7834"/>
                  <a:pt x="4514" y="7938"/>
                </a:cubicBezTo>
                <a:cubicBezTo>
                  <a:pt x="4342" y="8001"/>
                  <a:pt x="4350" y="8130"/>
                  <a:pt x="4192" y="8235"/>
                </a:cubicBezTo>
                <a:cubicBezTo>
                  <a:pt x="4052" y="8328"/>
                  <a:pt x="3920" y="8452"/>
                  <a:pt x="3795" y="8558"/>
                </a:cubicBezTo>
                <a:cubicBezTo>
                  <a:pt x="3632" y="8696"/>
                  <a:pt x="3401" y="8971"/>
                  <a:pt x="3249" y="9054"/>
                </a:cubicBezTo>
                <a:cubicBezTo>
                  <a:pt x="2965" y="9209"/>
                  <a:pt x="2671" y="9247"/>
                  <a:pt x="2356" y="9277"/>
                </a:cubicBezTo>
                <a:cubicBezTo>
                  <a:pt x="2175" y="9295"/>
                  <a:pt x="1951" y="9303"/>
                  <a:pt x="1786" y="9227"/>
                </a:cubicBezTo>
                <a:cubicBezTo>
                  <a:pt x="1675" y="9176"/>
                  <a:pt x="1567" y="9067"/>
                  <a:pt x="1488" y="9004"/>
                </a:cubicBezTo>
                <a:cubicBezTo>
                  <a:pt x="1374" y="8912"/>
                  <a:pt x="1240" y="8757"/>
                  <a:pt x="1191" y="8632"/>
                </a:cubicBezTo>
                <a:cubicBezTo>
                  <a:pt x="1141" y="8507"/>
                  <a:pt x="1168" y="8405"/>
                  <a:pt x="1141" y="8260"/>
                </a:cubicBezTo>
                <a:cubicBezTo>
                  <a:pt x="1030" y="7661"/>
                  <a:pt x="1232" y="7014"/>
                  <a:pt x="1389" y="6499"/>
                </a:cubicBezTo>
                <a:cubicBezTo>
                  <a:pt x="1429" y="6367"/>
                  <a:pt x="1464" y="6244"/>
                  <a:pt x="1513" y="6127"/>
                </a:cubicBezTo>
                <a:cubicBezTo>
                  <a:pt x="1551" y="6035"/>
                  <a:pt x="1553" y="5982"/>
                  <a:pt x="1588" y="5904"/>
                </a:cubicBezTo>
                <a:cubicBezTo>
                  <a:pt x="1771" y="5490"/>
                  <a:pt x="1924" y="5126"/>
                  <a:pt x="2059" y="4688"/>
                </a:cubicBezTo>
                <a:cubicBezTo>
                  <a:pt x="2137" y="4434"/>
                  <a:pt x="2206" y="4197"/>
                  <a:pt x="2307" y="3944"/>
                </a:cubicBezTo>
                <a:cubicBezTo>
                  <a:pt x="2370" y="3787"/>
                  <a:pt x="2420" y="3659"/>
                  <a:pt x="2480" y="3497"/>
                </a:cubicBezTo>
                <a:cubicBezTo>
                  <a:pt x="2537" y="3344"/>
                  <a:pt x="2575" y="3199"/>
                  <a:pt x="2629" y="3051"/>
                </a:cubicBezTo>
                <a:cubicBezTo>
                  <a:pt x="2783" y="2626"/>
                  <a:pt x="2917" y="2075"/>
                  <a:pt x="3200" y="1712"/>
                </a:cubicBezTo>
                <a:cubicBezTo>
                  <a:pt x="3281" y="1608"/>
                  <a:pt x="3359" y="1555"/>
                  <a:pt x="3448" y="1463"/>
                </a:cubicBezTo>
                <a:cubicBezTo>
                  <a:pt x="3539" y="1369"/>
                  <a:pt x="3667" y="1300"/>
                  <a:pt x="3770" y="1215"/>
                </a:cubicBezTo>
                <a:cubicBezTo>
                  <a:pt x="3871" y="1132"/>
                  <a:pt x="3970" y="1065"/>
                  <a:pt x="4068" y="992"/>
                </a:cubicBezTo>
                <a:cubicBezTo>
                  <a:pt x="4443" y="712"/>
                  <a:pt x="4766" y="548"/>
                  <a:pt x="5234" y="471"/>
                </a:cubicBezTo>
                <a:cubicBezTo>
                  <a:pt x="5484" y="430"/>
                  <a:pt x="5749" y="454"/>
                  <a:pt x="6003" y="446"/>
                </a:cubicBezTo>
                <a:cubicBezTo>
                  <a:pt x="6506" y="431"/>
                  <a:pt x="7052" y="397"/>
                  <a:pt x="7541" y="496"/>
                </a:cubicBezTo>
                <a:cubicBezTo>
                  <a:pt x="7707" y="530"/>
                  <a:pt x="7828" y="586"/>
                  <a:pt x="7987" y="645"/>
                </a:cubicBezTo>
                <a:cubicBezTo>
                  <a:pt x="8221" y="732"/>
                  <a:pt x="8455" y="856"/>
                  <a:pt x="8682" y="967"/>
                </a:cubicBezTo>
                <a:cubicBezTo>
                  <a:pt x="8955" y="1100"/>
                  <a:pt x="9223" y="1255"/>
                  <a:pt x="9500" y="1389"/>
                </a:cubicBezTo>
                <a:cubicBezTo>
                  <a:pt x="9749" y="1509"/>
                  <a:pt x="9995" y="1617"/>
                  <a:pt x="10244" y="1736"/>
                </a:cubicBezTo>
                <a:cubicBezTo>
                  <a:pt x="10440" y="1830"/>
                  <a:pt x="10613" y="1927"/>
                  <a:pt x="10815" y="2009"/>
                </a:cubicBezTo>
                <a:cubicBezTo>
                  <a:pt x="11753" y="2389"/>
                  <a:pt x="12902" y="2393"/>
                  <a:pt x="13866" y="2133"/>
                </a:cubicBezTo>
                <a:cubicBezTo>
                  <a:pt x="14028" y="2089"/>
                  <a:pt x="14146" y="2048"/>
                  <a:pt x="14312" y="2009"/>
                </a:cubicBezTo>
                <a:cubicBezTo>
                  <a:pt x="14596" y="1942"/>
                  <a:pt x="14887" y="1896"/>
                  <a:pt x="15180" y="1836"/>
                </a:cubicBezTo>
                <a:cubicBezTo>
                  <a:pt x="15461" y="1778"/>
                  <a:pt x="15744" y="1688"/>
                  <a:pt x="16024" y="1637"/>
                </a:cubicBezTo>
                <a:cubicBezTo>
                  <a:pt x="16324" y="1583"/>
                  <a:pt x="16600" y="1513"/>
                  <a:pt x="16892" y="1463"/>
                </a:cubicBezTo>
                <a:cubicBezTo>
                  <a:pt x="17269" y="1399"/>
                  <a:pt x="17635" y="1368"/>
                  <a:pt x="18008" y="1315"/>
                </a:cubicBezTo>
                <a:cubicBezTo>
                  <a:pt x="18629" y="1226"/>
                  <a:pt x="19246" y="1149"/>
                  <a:pt x="19869" y="1091"/>
                </a:cubicBezTo>
                <a:cubicBezTo>
                  <a:pt x="20055" y="1074"/>
                  <a:pt x="20221" y="1097"/>
                  <a:pt x="20389" y="1042"/>
                </a:cubicBezTo>
                <a:cubicBezTo>
                  <a:pt x="20768" y="918"/>
                  <a:pt x="20157" y="589"/>
                  <a:pt x="21059" y="719"/>
                </a:cubicBezTo>
                <a:cubicBezTo>
                  <a:pt x="21317" y="756"/>
                  <a:pt x="21683" y="874"/>
                  <a:pt x="21903" y="992"/>
                </a:cubicBezTo>
                <a:cubicBezTo>
                  <a:pt x="22039" y="1065"/>
                  <a:pt x="21961" y="1031"/>
                  <a:pt x="22126" y="1166"/>
                </a:cubicBezTo>
                <a:cubicBezTo>
                  <a:pt x="22266" y="1281"/>
                  <a:pt x="22367" y="1533"/>
                  <a:pt x="22473" y="1687"/>
                </a:cubicBezTo>
                <a:cubicBezTo>
                  <a:pt x="22583" y="1847"/>
                  <a:pt x="22823" y="2141"/>
                  <a:pt x="22870" y="2332"/>
                </a:cubicBezTo>
                <a:cubicBezTo>
                  <a:pt x="23032" y="2994"/>
                  <a:pt x="22609" y="3944"/>
                  <a:pt x="22895" y="4564"/>
                </a:cubicBezTo>
                <a:cubicBezTo>
                  <a:pt x="22950" y="4683"/>
                  <a:pt x="23114" y="4800"/>
                  <a:pt x="23192" y="4911"/>
                </a:cubicBezTo>
                <a:cubicBezTo>
                  <a:pt x="23308" y="5077"/>
                  <a:pt x="23457" y="5237"/>
                  <a:pt x="23589" y="5383"/>
                </a:cubicBezTo>
                <a:cubicBezTo>
                  <a:pt x="23791" y="5606"/>
                  <a:pt x="24066" y="5776"/>
                  <a:pt x="24234" y="6028"/>
                </a:cubicBezTo>
                <a:cubicBezTo>
                  <a:pt x="24305" y="6134"/>
                  <a:pt x="24332" y="6172"/>
                  <a:pt x="24383" y="6300"/>
                </a:cubicBezTo>
                <a:cubicBezTo>
                  <a:pt x="24434" y="6427"/>
                  <a:pt x="24461" y="6563"/>
                  <a:pt x="24482" y="6697"/>
                </a:cubicBezTo>
                <a:cubicBezTo>
                  <a:pt x="24580" y="7336"/>
                  <a:pt x="24433" y="8016"/>
                  <a:pt x="24284" y="8632"/>
                </a:cubicBezTo>
                <a:cubicBezTo>
                  <a:pt x="24157" y="9158"/>
                  <a:pt x="23996" y="9566"/>
                  <a:pt x="23639" y="9971"/>
                </a:cubicBezTo>
                <a:cubicBezTo>
                  <a:pt x="23434" y="10204"/>
                  <a:pt x="23173" y="10384"/>
                  <a:pt x="22920" y="10567"/>
                </a:cubicBezTo>
                <a:cubicBezTo>
                  <a:pt x="22628" y="10778"/>
                  <a:pt x="22290" y="11021"/>
                  <a:pt x="21952" y="11162"/>
                </a:cubicBezTo>
                <a:cubicBezTo>
                  <a:pt x="21466" y="11365"/>
                  <a:pt x="20933" y="11503"/>
                  <a:pt x="20414" y="11584"/>
                </a:cubicBezTo>
                <a:cubicBezTo>
                  <a:pt x="19805" y="11679"/>
                  <a:pt x="19140" y="11662"/>
                  <a:pt x="18529" y="11584"/>
                </a:cubicBezTo>
                <a:cubicBezTo>
                  <a:pt x="18209" y="11543"/>
                  <a:pt x="17948" y="11505"/>
                  <a:pt x="17661" y="11336"/>
                </a:cubicBezTo>
                <a:cubicBezTo>
                  <a:pt x="17590" y="11294"/>
                  <a:pt x="17516" y="11187"/>
                  <a:pt x="17462" y="11162"/>
                </a:cubicBezTo>
                <a:cubicBezTo>
                  <a:pt x="17419" y="11142"/>
                  <a:pt x="17375" y="11018"/>
                  <a:pt x="17363" y="11013"/>
                </a:cubicBezTo>
                <a:cubicBezTo>
                  <a:pt x="17127" y="10909"/>
                  <a:pt x="16756" y="10816"/>
                  <a:pt x="16495" y="10740"/>
                </a:cubicBezTo>
                <a:cubicBezTo>
                  <a:pt x="16240" y="10666"/>
                  <a:pt x="16056" y="10642"/>
                  <a:pt x="15801" y="10666"/>
                </a:cubicBezTo>
                <a:cubicBezTo>
                  <a:pt x="15727" y="10673"/>
                  <a:pt x="15656" y="10709"/>
                  <a:pt x="15577" y="10716"/>
                </a:cubicBezTo>
                <a:cubicBezTo>
                  <a:pt x="15477" y="10725"/>
                  <a:pt x="15396" y="10804"/>
                  <a:pt x="15304" y="10815"/>
                </a:cubicBezTo>
                <a:cubicBezTo>
                  <a:pt x="15255" y="10821"/>
                  <a:pt x="15229" y="10783"/>
                  <a:pt x="15180" y="10790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1130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465120"/>
            <a:ext cx="80787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Police dogs requir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Lot’s of trai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Obstacle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Lot’s of c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e at service 24 hours unless si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7120"/>
            <a:ext cx="936720" cy="1706400"/>
          </a:xfrm>
          <a:custGeom>
            <a:avLst/>
            <a:gdLst/>
            <a:ahLst/>
            <a:rect l="l" t="t" r="r" b="b"/>
            <a:pathLst>
              <a:path w="2603" h="4741">
                <a:moveTo>
                  <a:pt x="2602" y="1742"/>
                </a:moveTo>
                <a:cubicBezTo>
                  <a:pt x="2511" y="1760"/>
                  <a:pt x="2406" y="1798"/>
                  <a:pt x="2315" y="1808"/>
                </a:cubicBezTo>
                <a:cubicBezTo>
                  <a:pt x="2187" y="1822"/>
                  <a:pt x="2063" y="1800"/>
                  <a:pt x="1940" y="1830"/>
                </a:cubicBezTo>
                <a:cubicBezTo>
                  <a:pt x="1834" y="1855"/>
                  <a:pt x="1724" y="1883"/>
                  <a:pt x="1632" y="1940"/>
                </a:cubicBezTo>
                <a:cubicBezTo>
                  <a:pt x="1382" y="2094"/>
                  <a:pt x="1179" y="2395"/>
                  <a:pt x="948" y="2580"/>
                </a:cubicBezTo>
                <a:cubicBezTo>
                  <a:pt x="804" y="2695"/>
                  <a:pt x="664" y="2806"/>
                  <a:pt x="529" y="2932"/>
                </a:cubicBezTo>
                <a:cubicBezTo>
                  <a:pt x="404" y="3049"/>
                  <a:pt x="307" y="3184"/>
                  <a:pt x="198" y="3307"/>
                </a:cubicBezTo>
                <a:cubicBezTo>
                  <a:pt x="-124" y="3673"/>
                  <a:pt x="7" y="4214"/>
                  <a:pt x="0" y="4674"/>
                </a:cubicBezTo>
                <a:cubicBezTo>
                  <a:pt x="-2" y="4790"/>
                  <a:pt x="-13" y="4925"/>
                  <a:pt x="22" y="5027"/>
                </a:cubicBezTo>
                <a:cubicBezTo>
                  <a:pt x="35" y="5065"/>
                  <a:pt x="73" y="5099"/>
                  <a:pt x="88" y="5137"/>
                </a:cubicBezTo>
                <a:cubicBezTo>
                  <a:pt x="116" y="5206"/>
                  <a:pt x="147" y="5266"/>
                  <a:pt x="176" y="5336"/>
                </a:cubicBezTo>
                <a:cubicBezTo>
                  <a:pt x="206" y="5407"/>
                  <a:pt x="201" y="5484"/>
                  <a:pt x="220" y="5556"/>
                </a:cubicBezTo>
                <a:cubicBezTo>
                  <a:pt x="247" y="5658"/>
                  <a:pt x="286" y="5757"/>
                  <a:pt x="309" y="5865"/>
                </a:cubicBezTo>
                <a:cubicBezTo>
                  <a:pt x="328" y="5954"/>
                  <a:pt x="349" y="6009"/>
                  <a:pt x="375" y="6085"/>
                </a:cubicBezTo>
                <a:cubicBezTo>
                  <a:pt x="389" y="6125"/>
                  <a:pt x="410" y="6179"/>
                  <a:pt x="419" y="6218"/>
                </a:cubicBezTo>
                <a:cubicBezTo>
                  <a:pt x="446" y="6340"/>
                  <a:pt x="458" y="6373"/>
                  <a:pt x="529" y="6482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7651800" cy="5468760"/>
          </a:xfrm>
          <a:custGeom>
            <a:avLst/>
            <a:gdLst/>
            <a:ahLst/>
            <a:rect l="l" t="t" r="r" b="b"/>
            <a:pathLst>
              <a:path w="21256" h="15192">
                <a:moveTo>
                  <a:pt x="1874" y="2646"/>
                </a:moveTo>
                <a:cubicBezTo>
                  <a:pt x="1659" y="2805"/>
                  <a:pt x="1358" y="2941"/>
                  <a:pt x="1169" y="3131"/>
                </a:cubicBezTo>
                <a:cubicBezTo>
                  <a:pt x="994" y="3307"/>
                  <a:pt x="838" y="3512"/>
                  <a:pt x="706" y="3726"/>
                </a:cubicBezTo>
                <a:cubicBezTo>
                  <a:pt x="523" y="4023"/>
                  <a:pt x="406" y="4337"/>
                  <a:pt x="353" y="4674"/>
                </a:cubicBezTo>
                <a:cubicBezTo>
                  <a:pt x="309" y="4953"/>
                  <a:pt x="305" y="5373"/>
                  <a:pt x="463" y="5578"/>
                </a:cubicBezTo>
                <a:cubicBezTo>
                  <a:pt x="479" y="5598"/>
                  <a:pt x="518" y="5608"/>
                  <a:pt x="551" y="5644"/>
                </a:cubicBezTo>
                <a:cubicBezTo>
                  <a:pt x="607" y="5705"/>
                  <a:pt x="804" y="5781"/>
                  <a:pt x="816" y="5799"/>
                </a:cubicBezTo>
                <a:cubicBezTo>
                  <a:pt x="884" y="5900"/>
                  <a:pt x="933" y="5930"/>
                  <a:pt x="1014" y="6107"/>
                </a:cubicBezTo>
                <a:cubicBezTo>
                  <a:pt x="1093" y="6280"/>
                  <a:pt x="1138" y="6560"/>
                  <a:pt x="1169" y="6747"/>
                </a:cubicBezTo>
                <a:cubicBezTo>
                  <a:pt x="1256" y="7274"/>
                  <a:pt x="1121" y="7759"/>
                  <a:pt x="1014" y="8268"/>
                </a:cubicBezTo>
                <a:cubicBezTo>
                  <a:pt x="923" y="8704"/>
                  <a:pt x="765" y="9120"/>
                  <a:pt x="684" y="9547"/>
                </a:cubicBezTo>
                <a:cubicBezTo>
                  <a:pt x="653" y="9713"/>
                  <a:pt x="646" y="9886"/>
                  <a:pt x="617" y="10054"/>
                </a:cubicBezTo>
                <a:cubicBezTo>
                  <a:pt x="498" y="10744"/>
                  <a:pt x="483" y="11475"/>
                  <a:pt x="573" y="12171"/>
                </a:cubicBezTo>
                <a:cubicBezTo>
                  <a:pt x="652" y="12780"/>
                  <a:pt x="775" y="13084"/>
                  <a:pt x="1301" y="13450"/>
                </a:cubicBezTo>
                <a:cubicBezTo>
                  <a:pt x="1472" y="13569"/>
                  <a:pt x="1796" y="13763"/>
                  <a:pt x="2006" y="13780"/>
                </a:cubicBezTo>
                <a:cubicBezTo>
                  <a:pt x="2257" y="13800"/>
                  <a:pt x="2434" y="13702"/>
                  <a:pt x="2690" y="13648"/>
                </a:cubicBezTo>
                <a:cubicBezTo>
                  <a:pt x="3496" y="13479"/>
                  <a:pt x="4277" y="13223"/>
                  <a:pt x="5071" y="13009"/>
                </a:cubicBezTo>
                <a:cubicBezTo>
                  <a:pt x="5123" y="12995"/>
                  <a:pt x="5158" y="12976"/>
                  <a:pt x="5203" y="12965"/>
                </a:cubicBezTo>
                <a:cubicBezTo>
                  <a:pt x="5304" y="12940"/>
                  <a:pt x="5382" y="12920"/>
                  <a:pt x="5490" y="12898"/>
                </a:cubicBezTo>
                <a:cubicBezTo>
                  <a:pt x="5952" y="12805"/>
                  <a:pt x="6453" y="12709"/>
                  <a:pt x="6923" y="12678"/>
                </a:cubicBezTo>
                <a:cubicBezTo>
                  <a:pt x="7443" y="12643"/>
                  <a:pt x="7968" y="12638"/>
                  <a:pt x="8489" y="12634"/>
                </a:cubicBezTo>
                <a:cubicBezTo>
                  <a:pt x="8968" y="12630"/>
                  <a:pt x="9457" y="12633"/>
                  <a:pt x="9922" y="12766"/>
                </a:cubicBezTo>
                <a:cubicBezTo>
                  <a:pt x="10211" y="12848"/>
                  <a:pt x="10462" y="12987"/>
                  <a:pt x="10738" y="13097"/>
                </a:cubicBezTo>
                <a:cubicBezTo>
                  <a:pt x="11681" y="13472"/>
                  <a:pt x="12532" y="14021"/>
                  <a:pt x="13450" y="14442"/>
                </a:cubicBezTo>
                <a:cubicBezTo>
                  <a:pt x="14030" y="14708"/>
                  <a:pt x="15071" y="15336"/>
                  <a:pt x="15743" y="15191"/>
                </a:cubicBezTo>
                <a:cubicBezTo>
                  <a:pt x="15833" y="15172"/>
                  <a:pt x="15865" y="15089"/>
                  <a:pt x="15963" y="15059"/>
                </a:cubicBezTo>
                <a:cubicBezTo>
                  <a:pt x="16364" y="14937"/>
                  <a:pt x="16764" y="14622"/>
                  <a:pt x="17132" y="14420"/>
                </a:cubicBezTo>
                <a:cubicBezTo>
                  <a:pt x="17571" y="14180"/>
                  <a:pt x="18052" y="13993"/>
                  <a:pt x="18433" y="13670"/>
                </a:cubicBezTo>
                <a:cubicBezTo>
                  <a:pt x="18814" y="13347"/>
                  <a:pt x="19040" y="12963"/>
                  <a:pt x="19270" y="12524"/>
                </a:cubicBezTo>
                <a:cubicBezTo>
                  <a:pt x="19395" y="12286"/>
                  <a:pt x="19520" y="12007"/>
                  <a:pt x="19601" y="11752"/>
                </a:cubicBezTo>
                <a:cubicBezTo>
                  <a:pt x="19741" y="11314"/>
                  <a:pt x="19880" y="10720"/>
                  <a:pt x="19822" y="10253"/>
                </a:cubicBezTo>
                <a:cubicBezTo>
                  <a:pt x="19788" y="9984"/>
                  <a:pt x="19835" y="9959"/>
                  <a:pt x="19667" y="9745"/>
                </a:cubicBezTo>
                <a:cubicBezTo>
                  <a:pt x="19467" y="9491"/>
                  <a:pt x="19038" y="9374"/>
                  <a:pt x="18741" y="9260"/>
                </a:cubicBezTo>
                <a:cubicBezTo>
                  <a:pt x="18498" y="9167"/>
                  <a:pt x="18239" y="9107"/>
                  <a:pt x="17992" y="9040"/>
                </a:cubicBezTo>
                <a:cubicBezTo>
                  <a:pt x="17902" y="9016"/>
                  <a:pt x="17813" y="9017"/>
                  <a:pt x="17727" y="8996"/>
                </a:cubicBezTo>
                <a:cubicBezTo>
                  <a:pt x="17403" y="8918"/>
                  <a:pt x="17078" y="8862"/>
                  <a:pt x="16757" y="8797"/>
                </a:cubicBezTo>
                <a:cubicBezTo>
                  <a:pt x="16434" y="8732"/>
                  <a:pt x="16098" y="8663"/>
                  <a:pt x="15787" y="8555"/>
                </a:cubicBezTo>
                <a:cubicBezTo>
                  <a:pt x="15333" y="8397"/>
                  <a:pt x="14377" y="8120"/>
                  <a:pt x="14155" y="7739"/>
                </a:cubicBezTo>
                <a:cubicBezTo>
                  <a:pt x="14121" y="7681"/>
                  <a:pt x="14132" y="7621"/>
                  <a:pt x="14111" y="7563"/>
                </a:cubicBezTo>
                <a:cubicBezTo>
                  <a:pt x="13878" y="6930"/>
                  <a:pt x="14103" y="5480"/>
                  <a:pt x="14287" y="4873"/>
                </a:cubicBezTo>
                <a:cubicBezTo>
                  <a:pt x="14327" y="4740"/>
                  <a:pt x="14265" y="4637"/>
                  <a:pt x="14354" y="4520"/>
                </a:cubicBezTo>
                <a:cubicBezTo>
                  <a:pt x="14426" y="4426"/>
                  <a:pt x="14543" y="4416"/>
                  <a:pt x="14640" y="4344"/>
                </a:cubicBezTo>
                <a:cubicBezTo>
                  <a:pt x="14777" y="4242"/>
                  <a:pt x="15165" y="4096"/>
                  <a:pt x="15324" y="4057"/>
                </a:cubicBezTo>
                <a:cubicBezTo>
                  <a:pt x="15412" y="4035"/>
                  <a:pt x="15526" y="3976"/>
                  <a:pt x="15610" y="3969"/>
                </a:cubicBezTo>
                <a:cubicBezTo>
                  <a:pt x="16137" y="3924"/>
                  <a:pt x="16755" y="4262"/>
                  <a:pt x="17264" y="4388"/>
                </a:cubicBezTo>
                <a:cubicBezTo>
                  <a:pt x="17368" y="4414"/>
                  <a:pt x="17489" y="4469"/>
                  <a:pt x="17595" y="4476"/>
                </a:cubicBezTo>
                <a:cubicBezTo>
                  <a:pt x="17843" y="4493"/>
                  <a:pt x="18036" y="4466"/>
                  <a:pt x="18278" y="4432"/>
                </a:cubicBezTo>
                <a:cubicBezTo>
                  <a:pt x="18617" y="4384"/>
                  <a:pt x="18871" y="4264"/>
                  <a:pt x="19160" y="4101"/>
                </a:cubicBezTo>
                <a:cubicBezTo>
                  <a:pt x="19552" y="3880"/>
                  <a:pt x="19958" y="3637"/>
                  <a:pt x="20329" y="3395"/>
                </a:cubicBezTo>
                <a:cubicBezTo>
                  <a:pt x="20870" y="3043"/>
                  <a:pt x="21198" y="2719"/>
                  <a:pt x="21453" y="2117"/>
                </a:cubicBezTo>
                <a:cubicBezTo>
                  <a:pt x="21594" y="1785"/>
                  <a:pt x="21728" y="1230"/>
                  <a:pt x="21475" y="926"/>
                </a:cubicBezTo>
                <a:cubicBezTo>
                  <a:pt x="21434" y="877"/>
                  <a:pt x="21357" y="878"/>
                  <a:pt x="21299" y="838"/>
                </a:cubicBezTo>
                <a:cubicBezTo>
                  <a:pt x="21129" y="721"/>
                  <a:pt x="20852" y="703"/>
                  <a:pt x="20660" y="639"/>
                </a:cubicBezTo>
                <a:cubicBezTo>
                  <a:pt x="20326" y="528"/>
                  <a:pt x="19995" y="428"/>
                  <a:pt x="19667" y="331"/>
                </a:cubicBezTo>
                <a:cubicBezTo>
                  <a:pt x="19422" y="259"/>
                  <a:pt x="19153" y="192"/>
                  <a:pt x="18918" y="132"/>
                </a:cubicBezTo>
                <a:cubicBezTo>
                  <a:pt x="18870" y="120"/>
                  <a:pt x="18812" y="75"/>
                  <a:pt x="18763" y="66"/>
                </a:cubicBezTo>
                <a:cubicBezTo>
                  <a:pt x="18689" y="53"/>
                  <a:pt x="18643" y="10"/>
                  <a:pt x="18565" y="0"/>
                </a:cubicBezTo>
                <a:cubicBezTo>
                  <a:pt x="14784" y="-478"/>
                  <a:pt x="8392" y="-835"/>
                  <a:pt x="4873" y="243"/>
                </a:cubicBezTo>
                <a:cubicBezTo>
                  <a:pt x="4703" y="295"/>
                  <a:pt x="4271" y="386"/>
                  <a:pt x="4145" y="507"/>
                </a:cubicBezTo>
                <a:cubicBezTo>
                  <a:pt x="4033" y="615"/>
                  <a:pt x="4060" y="574"/>
                  <a:pt x="3991" y="684"/>
                </a:cubicBezTo>
                <a:cubicBezTo>
                  <a:pt x="3954" y="743"/>
                  <a:pt x="3950" y="964"/>
                  <a:pt x="3947" y="1036"/>
                </a:cubicBezTo>
                <a:cubicBezTo>
                  <a:pt x="3941" y="1198"/>
                  <a:pt x="3875" y="1348"/>
                  <a:pt x="3991" y="1477"/>
                </a:cubicBezTo>
                <a:cubicBezTo>
                  <a:pt x="4134" y="1635"/>
                  <a:pt x="4550" y="1535"/>
                  <a:pt x="4696" y="1698"/>
                </a:cubicBezTo>
                <a:cubicBezTo>
                  <a:pt x="4748" y="1756"/>
                  <a:pt x="4918" y="1737"/>
                  <a:pt x="4939" y="1786"/>
                </a:cubicBezTo>
                <a:cubicBezTo>
                  <a:pt x="5013" y="1959"/>
                  <a:pt x="4880" y="2739"/>
                  <a:pt x="4785" y="2866"/>
                </a:cubicBezTo>
                <a:cubicBezTo>
                  <a:pt x="4751" y="2912"/>
                  <a:pt x="4778" y="3006"/>
                  <a:pt x="4740" y="3043"/>
                </a:cubicBezTo>
                <a:cubicBezTo>
                  <a:pt x="4624" y="3154"/>
                  <a:pt x="4413" y="3100"/>
                  <a:pt x="4277" y="3175"/>
                </a:cubicBezTo>
                <a:cubicBezTo>
                  <a:pt x="4151" y="3244"/>
                  <a:pt x="3953" y="3298"/>
                  <a:pt x="3814" y="3329"/>
                </a:cubicBezTo>
                <a:cubicBezTo>
                  <a:pt x="3684" y="3358"/>
                  <a:pt x="3568" y="3360"/>
                  <a:pt x="3418" y="3373"/>
                </a:cubicBezTo>
                <a:cubicBezTo>
                  <a:pt x="3074" y="3402"/>
                  <a:pt x="2682" y="3391"/>
                  <a:pt x="2359" y="3329"/>
                </a:cubicBezTo>
                <a:cubicBezTo>
                  <a:pt x="2307" y="3319"/>
                  <a:pt x="2242" y="3276"/>
                  <a:pt x="2183" y="3263"/>
                </a:cubicBezTo>
                <a:cubicBezTo>
                  <a:pt x="1959" y="3212"/>
                  <a:pt x="1725" y="3089"/>
                  <a:pt x="1521" y="3043"/>
                </a:cubicBezTo>
                <a:cubicBezTo>
                  <a:pt x="1377" y="3010"/>
                  <a:pt x="1184" y="3006"/>
                  <a:pt x="1058" y="2977"/>
                </a:cubicBezTo>
              </a:path>
            </a:pathLst>
          </a:custGeom>
          <a:noFill/>
          <a:ln cap="sq" w="228600">
            <a:solidFill>
              <a:srgbClr val="8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1:46:11Z</dcterms:created>
  <dc:creator>5e02</dc:creator>
  <dc:description/>
  <dc:language>en-US</dc:language>
  <cp:lastModifiedBy>5e02</cp:lastModifiedBy>
  <dcterms:modified xsi:type="dcterms:W3CDTF">2011-09-07T22:24:31Z</dcterms:modified>
  <cp:revision>12</cp:revision>
  <dc:subject/>
  <dc:title>Police</dc:title>
</cp:coreProperties>
</file>